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30B2-E0D9-4112-A889-636E048A5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2344-A6A1-4426-9CC4-695488AD1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5BDC6-448C-423E-AC3A-8F21BA32A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598F-FAF8-4DA6-B25D-F53AB57AC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115920"/>
            <a:ext cx="82072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09B4-FF4F-4DEA-9F42-23190B130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3C191-668A-4558-845D-CA756D3FD9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89B49-64D4-47DC-B634-EAD8F23CB6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22FA0-52E0-4DA0-9A55-0BA5216547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452D-FA48-4531-8B74-9F10065ABE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018CA-4B74-47ED-AF61-08B2D1E9B2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56FC-03C1-4EE1-BE23-30AB336376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68360" y="115920"/>
            <a:ext cx="82072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75F4-CA90-4FAE-BCC9-719A88F649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72406-3A4C-436B-8FE7-3F56BD26FA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BF4C-A72A-43AC-BD8D-A563EF414A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803FF-6899-4C60-B129-84B5F3E82C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4664-36D7-436F-88AF-AABC1C1BB0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1CCC-F94A-46D6-BFDA-2A762BEE2B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D7D0-4801-4384-8931-AAF390C703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F6F-BED2-47B8-983E-278E9438BC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929-C7B2-4DFA-A938-349CE889AF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7FF-EF39-4690-AA25-D3C01E59F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920F-938D-47E5-AA18-7CC0BECF13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EE5-DC05-4E01-AD93-F55E98B2CE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6BB-E5B3-461E-A4DB-540C84F48C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68360" y="115920"/>
            <a:ext cx="82072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46A-B1B6-4F30-A6BD-038E3212B4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F55-35AF-4ED8-80F7-122D5AC128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182-8CD9-484B-98CF-62A7784B7E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86F-2B8A-495B-A2EB-6A72F42508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0A2-407F-4549-8D12-79471AFE1F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8C6-0E62-424C-BB2B-D3D4782BBE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2B2-D94F-4C95-9146-9E6926F346A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AE1B1-EEB7-469F-B4F4-83B7402E7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5728-D2BB-4F3F-A75C-7FD98DBE2DF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3D3B8-2601-4041-BBDB-492CA14BC1C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B0B70-A135-4456-B0B0-BE89E60FA67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2E06A-4348-42CF-ABA8-9E9A89442A2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EFC62-261D-4650-819C-2722C35486C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68360" y="115920"/>
            <a:ext cx="82072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96CAC-9270-437F-80C0-8180A45170E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BDE6A-61C7-461B-8B1A-A271C1CFDBD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42974-F7CA-4803-AFE2-B39D408837F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BE6D4-1CA4-4A3D-9AE2-E68ED6C125E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5CA78-51D0-4ECF-B62C-0F1D38D6C5F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A4153-BBBE-4A2E-8A1A-E4642FC2B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5920"/>
            <a:ext cx="82072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986A-FDF9-4267-AAAD-E3D2FA9979A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C3C12-858C-4A7D-9AB3-3C74D535572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33455-13BD-400C-8D9C-9685827CB6D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E8D3F-BCCD-47B1-A32E-590D496D73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E6662-9F40-4468-8D91-F5AA033BF2A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AEAD3-D800-41B9-B680-E507AF91437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14EF6-C903-4643-B48D-F56D10EA30A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68360" y="115920"/>
            <a:ext cx="82072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7EA06-77D7-414F-BF3A-757ED399FE0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3C8D0-32F7-4F4E-9AAC-8C8C110FE41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CC0EC-BC59-4CC7-9386-21681E7EFFC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2223C-F598-497B-AE04-66F7EEF0D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2DC2-588D-4DF7-BB5E-8DF74B6BA8F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14D32-A3C1-4E9E-A051-97AAD0DC464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FEE5D-50BB-4414-A75C-7C54C7807C1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78E20-2F90-4115-AEA8-778B5E7C088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C8E8-DA27-4D7F-82AA-BAA83390F7D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ADF7-DFF4-4076-B530-82516BA050A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50AD-D648-45CF-BFF9-5557B8C471C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C108-B4F8-4CA7-B6FF-901DE857748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E56C-2F26-4C5B-8DA7-989FF2E6C56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68360" y="115920"/>
            <a:ext cx="82072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5E41-C489-4905-8051-369A849DB5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2F3F-A59F-4771-ABAC-23BA578AB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6022-27A6-4BDE-A502-CDE776F8942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3E80-3B9F-4B5C-8D73-0C0E3D5BE05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DEA0-4644-4B20-949B-D6C08160D84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AACA-8E42-4887-866A-C1EBAA17366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0EE0-85A8-41CA-BDC7-30F04ABCD47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0D88-11A1-4E85-B9EC-30CDAD9B2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900D-9132-45CD-95BE-BA5DF0BDE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6208560"/>
            <a:ext cx="91440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993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7220-1F52-498D-9247-27E0AD416A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0" y="6219720"/>
            <a:ext cx="5148360" cy="6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6208560"/>
            <a:ext cx="91440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6219720"/>
            <a:ext cx="5148360" cy="638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6208560"/>
            <a:ext cx="91440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0" y="6219720"/>
            <a:ext cx="5148360" cy="63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627D-F54A-4BAF-81FF-0F16B6A4BB25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6208560"/>
            <a:ext cx="91440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0" y="6219720"/>
            <a:ext cx="5148360" cy="638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D56C-37F9-4C59-8B13-B9D75A439801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0" y="6208560"/>
            <a:ext cx="91440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0" y="6219720"/>
            <a:ext cx="5148360" cy="6382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4"/>
          </p:nvPr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246C-BF26-4C27-9EC3-163AA5395CBA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0" y="6208560"/>
            <a:ext cx="91440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0" y="6219720"/>
            <a:ext cx="5148360" cy="6382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5"/>
          </p:nvPr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8CEB-6926-4871-8314-EA3D35605C09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0" y="6208560"/>
            <a:ext cx="91440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2"/>
          <a:stretch/>
        </p:blipFill>
        <p:spPr>
          <a:xfrm>
            <a:off x="0" y="6219720"/>
            <a:ext cx="5148360" cy="6382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DA3F-5085-469E-BD91-86DD45D83777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4920" y="1341360"/>
            <a:ext cx="8286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ncer Centers In Clinical Tria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ndrine Marreau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ad of Medical Departm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1483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cilities for clinical research  allowing the evaluation of pharmaceuticals, medical devices and treatment outcome,  with high quality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ientific and Ethics Committe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erts  (trained and certified) in trial management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ministrative (contracts, regulatory) and clinical research servi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dicated research space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rements for Cancer Centers in Clinical Trials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E731-A463-406F-AC4D-3BD93926AAC2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0" y="1483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itional criteria may be required for conducting specific trials like 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rly phase studi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lational research oriented projec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rements for Cancer Centers in Clinical Trials 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F1E2-3673-4B12-A369-5180D7160F8F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-36720" y="1125000"/>
            <a:ext cx="91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promoter of trials, the EORTC has different sources of information regarding participating instituti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mbership questionnair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”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ncludes general information about qualifications of an institu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of institution (university, general…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rastructure of institution (oncology unit, surgery, radiotherapy, imaging, laboratories….…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rastructure of clinical trial uni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easibility form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’s a form prepared by project in order to investigat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ility to support the conduct  of the trial (staff +local resourc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tential accrual for a specific patient pop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ility to fulfill protocol requirements (timing of visits, specific tests, collection of samples for translational research, imaging tests (PET/CT/MRI……..), specific storage conditions for biological material or drugs, transfer of material for central review,…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rces of Information for Cancer Centers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15C5-46E4-4497-9051-56CF5FED1FFA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-36720" y="1125000"/>
            <a:ext cx="91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Case Report Forms”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forms are designed by trial in order to capture clinical data that will be used for assessing study endpoin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forms provide information about the management of patients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rce of Information for Cancer Centers 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85D4-4567-48ED-84E1-8E30116BF24D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0728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C98D-DB47-4ADB-A83E-260E98B5ADA4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1:07:04Z</dcterms:created>
  <dc:creator/>
  <dc:description/>
  <dc:language>en-US</dc:language>
  <cp:lastModifiedBy>.</cp:lastModifiedBy>
  <dcterms:modified xsi:type="dcterms:W3CDTF">2013-04-16T13:42:05Z</dcterms:modified>
  <cp:revision>1</cp:revision>
  <dc:subject/>
  <dc:title>Cancer Centers In Clinical Trials</dc:title>
</cp:coreProperties>
</file>