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936C-43C5-4ED1-852F-5AF424A70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B92A-6877-45D8-B422-C36A6AE90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0884-8162-4F2A-91AC-B6F4B6659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8369-17CC-43FF-852C-9F328A156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1AF5-98F9-4634-BA09-AC52FD27D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9DCB-27C7-4672-BF9F-AE689F93C2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EA2D-0DDB-4A72-96CA-1F6F326514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7B51-241D-4DF0-B2CA-63D3643705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EF383-5635-4F3D-B25C-96173C4344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F0AA-FFB7-4E4D-B849-7B57F76DF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5A65-670E-4B0C-904B-39DD3C1217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B47A-568F-4528-AB0C-87A824BBFE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29C7-3BFB-4283-A2CA-0786CEB1FE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A5E1-8066-4062-9F58-B85B1C1325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7C09-0D71-425B-9A82-E048062D2A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22C3-BE39-4899-A0C3-E99A9385A4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9E73-B9A1-4C17-AFBE-77DF6D73F4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4833-E234-476E-AABD-697CD6927FC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EDA-B58C-48FE-9E32-2F3BE647E9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DAF-59CB-4D8E-9298-B290F2393C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1BD-8464-4F9C-A73C-DAC731C5C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A197-285C-4847-BDFE-AF8DAAE63D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4B0-62CD-42C7-A405-166F519CAD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2FA-5185-430D-9BBB-5BB6907A3CB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397-01FC-4D80-9488-4ED485F717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588-8CD5-44EF-AB53-B212AB305A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129-7997-4113-BBCC-80C4E5FBCC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6A1-CE92-4D5A-8848-4BB2E95760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876-0CE4-4F62-B6A8-BB10A4AB51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4D2-0A06-49CB-9A40-626F383116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D9E-4CF7-428F-AEC9-66EF478EF0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BB3A1-A2AC-4DA2-A0CB-E1123FABE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53350-A518-4EC7-A6C6-23B7811BE1D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B6D21-37B5-4C3D-B2CD-2938B83CEC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CC986-32C5-4666-B389-07505C47A3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01AB1-7569-4997-B38E-9B2D78D911F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79F61-34FA-4D00-A70E-A133DE1D996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FFE70-DBD8-4D88-9028-71F1A2DBF0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B980A-0CAD-462C-AFDE-63560DA123B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63DBA-DE80-4763-8326-0BB70966BFC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98D9F-1E74-4A2A-91E7-A42F5A7124F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5EAB7-D188-4D0B-8DD8-85C4F4B2563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CB86D-48BD-4BC6-B34B-D5CEEE6C0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8BF7-A6F5-4B9A-A799-CAE6A4B9810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B9B91B-035B-4371-8F56-4EFE20FFC23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02652-1081-4F31-BF50-2ACD8967C8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08D8D-B9C5-4A0D-AC0A-450474D824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DDE7E-4D0E-44A9-B4D5-0D36F9C364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F0E7F-86C8-4F8A-8D2C-625A0C089A2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D84A9-C3BF-4B05-8912-ACF0D1263CA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1892C-0AFD-42F0-A30E-49D0F579E3E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651DA-BF05-4BEB-A4B4-87E1E285FC8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7C9D4-3199-42BA-943D-ED18071C5F9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1C51C-F79A-4F0D-8003-B030B1A80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7DB0-AA50-4DF6-A8AB-A133B5B30D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77930-478F-4140-A423-7ED8C3B23B2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9B865-519D-4BA7-8C5B-7EF2336FF2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AFBAB-DDAA-406C-B21A-3F26B6A4795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5233-A3E0-421A-B170-AB52E91516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7D6A-4130-47ED-B946-8F1E78A425C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CB63-518F-4490-A378-26ECB7F8E9A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EED8-C4F1-4C61-8FAC-5C3883BF501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3582-50E2-4C9D-A99A-40DFDB14C97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68360" y="115920"/>
            <a:ext cx="82072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8B38-A22D-491B-8177-6B7AFAEBEDE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D494-B62D-4B64-BF8F-F7E62B731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4CB1-FD88-48A1-A0D4-40D00CAE8BF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70E9-DF8B-4766-AB11-5E613DB8563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5093-4B3E-4E1A-B4A7-7277D5B27D9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2004-BC6C-4E9D-A574-180BE4DE11D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C1AF-49A2-4C23-B952-92CD4567074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2B91-0A9E-4173-AB63-27FC0912A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4D70-2AA1-4836-9903-0C1A3B5BA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9300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B785-9C64-484B-A623-CA170D8AC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FA1A-2625-4E7B-AEEB-8740CFCB71BA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B953-5E88-4F5B-95E8-7687E66FBD6E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4"/>
          </p:nvPr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61E9-BE4C-491C-B73A-34A3097F57D2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5"/>
          </p:nvPr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B837-105C-42EE-9580-60CA924E22AE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0" y="6208560"/>
            <a:ext cx="914400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7" descr=""/>
          <p:cNvPicPr/>
          <p:nvPr/>
        </p:nvPicPr>
        <p:blipFill>
          <a:blip r:embed="rId2"/>
          <a:stretch/>
        </p:blipFill>
        <p:spPr>
          <a:xfrm>
            <a:off x="0" y="6219720"/>
            <a:ext cx="5148360" cy="6382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FD93-13A5-4101-9E7C-517F672ACBE0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4920" y="1341360"/>
            <a:ext cx="8286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ncer Centers In Clinical Tria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ndrine Marreaud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ad of Medical Departmen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cilities for clinical research  allowing the evaluation of pharmaceuticals, medical devices and treatment outcome,  with high quality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ientific and Ethics Committe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erts  (trained and certified) in trial management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ministrative (contracts, regulatory) and clinical research servi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dicated research space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ments for Cancer Centers in Clinical Trials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8472-92F2-486F-A1B6-C61A3EA123B3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itional criteria may be required for conducting specific trials like 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rly phase studi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lational research oriented projec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ments for Cancer Centers in Clinical Trials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F6CC-4B83-4B63-97DC-B5C93176FE67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-36720" y="1125000"/>
            <a:ext cx="91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promoter of trials, the EORTC has different sources of information regarding participating institu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mbership questionnair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”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ncludes general information about qualifications of an instit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of institution (university, general…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rastructure of institution (oncology unit, surgery, radiotherapy, imaging, laboratories….…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rastructure of clinical trial uni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asibility form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’s a form prepared by project in order to investigat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support the conduct  of the trial (staff +local resourc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tential accrual for a specific patient pop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fulfill protocol requirements (timing of visits, specific tests, collection of samples for translational research, imaging tests (PET/CT/MRI……..), specific storage conditions for biological material or drugs, transfer of material for central review,…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s of Information for Cancer Centers (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2662-9DD1-4E5B-912B-9516931360BA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-36720" y="1125000"/>
            <a:ext cx="91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Case Report Forms”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orms are designed by trial in order to capture clinical data that will be used for assessing study endpoin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orms provide information about the management of patients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urce of Information for Cancer Centers (2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Slide Number Placeholder 5"/>
          <p:cNvSpPr/>
          <p:nvPr/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CD16-130B-42FF-8847-3B96811D6EE4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60fc"/>
            </a:gs>
            <a:gs pos="100000">
              <a:srgbClr val="11307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0728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8616960" y="6535800"/>
            <a:ext cx="5047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686C-7E98-4958-B25F-6F85D8824B0F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1:07:04Z</dcterms:created>
  <dc:creator/>
  <dc:description/>
  <dc:language>en-US</dc:language>
  <cp:lastModifiedBy>.</cp:lastModifiedBy>
  <dcterms:modified xsi:type="dcterms:W3CDTF">2013-04-16T13:42:05Z</dcterms:modified>
  <cp:revision>1</cp:revision>
  <dc:subject/>
  <dc:title>Cancer Centers In Clinical Trials</dc:title>
</cp:coreProperties>
</file>