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36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37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38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B2E7-6C7A-417E-945D-F458612EEC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t is a very long title but it can be resumed as eucerd recommendations on centres of expertise for Rare dise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C233-F095-476D-91A9-41CE174004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context for setting the recommend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6D65-241B-4829-9A31-7C8C1E9067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arrange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6970-6B45-4792-A49C-BCC6E66E36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over 6 thousand RD,  so patients are rare as are the experts. It is important to gather experience to improve knowledg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EU recommendations MS must have nation plans concluded by 2013 and ce are components of these plans and are the building blocs of the 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7D1A-9088-47DF-91B9-0E28A9B135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C92-FE59-43A3-BF4B-E40924C2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09A-3AF0-40F5-9ACE-71FB82E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BE719A-F7E7-4907-90A6-A91AB6A9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55B48-9E03-49C3-A206-10E41B48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803C22-E070-4EEB-8118-97964518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D40D5-4FFD-4BD1-A273-92BF82D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D5A9D-6AD4-43EB-82EB-2842DFEA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4842C2-4E8D-435A-82C7-3DFE81D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F25740-3F66-452A-BE93-5028CDDD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10DDDC-83CF-46F5-A4C1-C0CCB541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598587-F7F4-4FA0-A334-9D7DE51F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8D73D3-71EC-412E-84BA-F22B252B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ABC-79A9-430E-9C89-0F149484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090C2-A203-4D0C-93C9-EB22188C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2633BC-B427-4DE1-A68E-9F6001A4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BE1EFD-60E7-4A22-9427-E54394A2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08B33-1E9A-41CB-ABC9-DCC52989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CC15B7-D99A-4AE8-9031-95C1E28F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550008-8E00-4FB0-AD3F-F962363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345C49-E670-4023-959A-BEB98EFA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A1760D-ED0D-449D-841C-11CE8F9A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A6D96-0E25-4A56-ADA9-7EEAF2A6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41B033-B55F-434D-A43D-D4E8B8C0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D23-E031-46D3-94EE-9C343B39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B5C1B-AF5B-4FB2-91C9-49D0A5E9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0873E2-61C9-4A39-BC04-B5B7AD85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7B267B-35ED-4510-84AB-6F14AEA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743233-9450-45B9-B77A-A65EF2B4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BF792F-0CA4-41D1-A44F-2C38FC21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A27D1F-A94E-4FED-AB1A-6ADBCD8B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70F3E-2261-4C5F-A00E-FFDFA2E3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850AFF-439D-415F-842F-3463E6C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B5A009-C021-4AAA-A7B4-E410C17F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75B49E-90FD-4C08-BC09-BC75EC86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3AAE-E08E-41CB-BBB2-96D62546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BDDEBB-D652-499C-B74A-B819A187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E79E93-A0EB-40B7-AEF5-1CEFD77B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A5EE8C-BCCF-40EE-8672-1B87D321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4DD7BD-C067-42C3-8A22-B8E72874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F0D910-0D0A-4F04-AE2C-FDD7675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0983B4-5954-4CC0-BAEC-D6F5FE47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FF220A-2089-4700-B524-A9045C2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6779DE-40C5-47B5-851F-4591C9CB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F8DC66-542A-4D09-8DF7-E2916674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F240D2-D4D8-4378-916C-C9E89F0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D149-A50D-4FC4-8408-982F9512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EBC40C-A60A-4F9E-8003-9DD3B01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D109BC-FF84-43A9-B10D-F766ED24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9E365E-F6AC-4A3D-A4EB-55C4D44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91F082-F790-42BE-9A63-B363A8B4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A14FA2-3B2B-410E-9969-B5E5FC16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FA6C-F014-4BEE-BA6B-23788545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2378-CDBF-4945-8BD8-F099B9D6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E25F-6C1B-4230-B1CC-306A703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E4EC-50E5-4D60-8B80-4A3418C4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59A-68A5-41CF-B798-11A73F37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5E9-900C-4567-AEFF-E2D25190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769D-B795-40C1-8FF5-7400CAEE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6C25-1939-4028-BF07-98B20DB4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C415-7DEC-47C4-BDB5-02B98BD3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B3F2-3D24-4C2B-95E3-24DDCD0C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5367-B4B1-4F49-A4E3-0B6C9511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42E8D-39DA-45A3-B86F-BF2AAC6CD7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56518-F01E-4FD9-9F01-858D67151F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A0F54-369E-4BBA-87EB-AF16BAF695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6688F-167C-4C25-BCAE-E391442CB8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3825F-2C43-4A0C-98CF-9108FD45D8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C16-FA87-42C7-B7B0-E43A1284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E16C5-E479-422D-891A-A76BB8ACEA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6C707-6EA7-494F-9252-CD8437F009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B241F-8C5A-40EA-84E2-38B8A29B16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C2775-FD27-4A98-90AD-D07C9C7903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083D5-8470-457B-BEA9-D666CF6E6E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EA4EA-87CE-4CF9-B28E-C5DB5AA88D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DEABC-D781-47F4-8ADB-4C54B793DE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AC29B-4561-4073-BC96-CCBCC0E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4AED0-4603-42BE-9198-1332470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35118-5E1E-4AE4-ABEE-7A0E019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581-2997-431C-A566-8EEE4732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9E402-3C43-4B15-8891-B480CBB6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B4D15-04F5-4150-83B9-2C4722DC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FEF7D-3ADF-415E-AEC0-FB934651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20559-D25C-48EE-9FED-BA9B99EA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89E63-2948-4394-8436-86D9FE17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1C6716-A550-4FBA-A9D1-3C932B7A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8C037-D7C0-48A7-B635-4F7CFACC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2FE51-9346-4E5F-96FE-216234FE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D1FDE-C447-4C11-9D56-D1B8A5F0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E1B70-A929-41E1-8C11-A02D0726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894-0552-481E-8396-F9379F45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C7DF1-FAC6-447C-B01C-98428B7F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5EFFC-EFF1-48B5-B1A4-8DDF670E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054F9-BE40-4F2F-9F09-6D03CE6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35490-9F90-43BC-8F7F-C95CA97E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7237AD-015F-469E-A2F4-CB75985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56A46-DDF8-4CFF-9FFD-CDEAB0E2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A23D7-AFF2-47AC-8113-7EEC7AC4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728CAA-07E7-45B6-96DB-14AF03E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68D53-FCCC-43D8-8FCC-B60668CD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9A12E-C60A-4D02-A04A-9E34F01D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208-AEA5-4029-B238-E8B8EDE8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DE488-3034-4BAC-9E11-2277858F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C1FCE5-DC1C-4A08-AD39-3776F859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E11E55-1055-425A-9EEA-4F2AD654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27053-E894-4270-AE9A-869A80E9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21C6C-78C6-40FF-8E8F-6A26A3DD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DB367-9A66-4EB1-8159-BDFD1ED9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6B31B-89F0-46A0-9C02-7F0B951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8F66F-F817-4594-86B5-04FB103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CEFF8-DF20-454B-8E74-B18FFC3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7B071-B2E2-42BB-AAF4-3414DA8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C2C-4A40-4300-8780-D549DAF3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F8D69-5D19-4461-863B-6952806D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3EB7B-E197-440C-8AFA-5615A29E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A05A6-51E5-416E-8162-84ED3661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EB4CA-D68C-45E8-9FA3-C82C8A5B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B4EA1-A26D-492E-A211-90AEBFE8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5D2E9-09BE-4CF2-8B77-0C3FAB36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2AF75-EECC-44D0-BA3A-AA7AC6EB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7C76E0-4527-4DB6-B080-2FB98F73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28FDD-1596-48AE-8463-7EC0C9C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3A6C8-81CC-404C-8737-390FC25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898-AA92-4B30-8473-0583E775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57902-0083-4654-BFF1-C1C897BB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77CD1-3904-4554-92A5-D81A0629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1D76F-F89B-4E46-933C-B2ACAB75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799DD-E9BD-400C-A809-6FEDB595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8F748-D7E6-4FBA-8A55-42C886CE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D005B-9B6B-471D-A52C-59812A05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DD34B-1F97-4705-A522-7ED8D433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E4C67-0215-4AA3-8599-B83E00F4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B23786-2EA8-411C-9430-5799643D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BE950D-4847-44EE-A107-24F78746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D42-D0F0-4316-9FFB-4B27F3F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4D401E-B9AB-4A31-AFAF-E3DF806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6FB4CE-DF89-463A-8D98-C95889C5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BA8A95-018D-461F-8DFD-FD31F4C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FC31CF-88D4-43ED-9F63-04EC4769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7B6F90-0A52-4F85-8667-09CB98D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65A1F5-D105-4FBF-AEB3-7A2FACCF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5821E-AF46-45F6-9977-147013C2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20562-6762-48BD-AEC6-14B57F64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16DEA-0DCD-4291-8C02-CF036F13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2364EB-AD71-4DCD-964B-47BCA08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257-A62A-4540-B0F4-F3CBC058D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54C-7583-49BF-BE48-D91A7A811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C70-CFF1-4D4A-B7E9-EBFC68F3A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4734-40F1-482A-9F05-EBC12C24DA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 9" descr="Sans titre - 2.jpg"/>
          <p:cNvPicPr/>
          <p:nvPr/>
        </p:nvPicPr>
        <p:blipFill>
          <a:blip r:embed="rId3"/>
          <a:stretch/>
        </p:blipFill>
        <p:spPr>
          <a:xfrm>
            <a:off x="206280" y="819000"/>
            <a:ext cx="3038400" cy="29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988-647E-4043-B37F-80E720AB4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89000"/>
            <a:ext cx="9144000" cy="1214280"/>
          </a:xfrm>
          <a:prstGeom prst="rect">
            <a:avLst/>
          </a:prstGeom>
          <a:solidFill>
            <a:srgbClr val="d2df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F650-78E3-416B-B9F3-D9BA32237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1BAA-C7F0-497F-B7D8-AE4A156F4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48AE-D488-4337-8AFC-036DD121D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65F1-2023-4F78-85C5-DD42108951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BA8-EE04-40BA-9363-85B93A290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26D-6757-4C22-B136-BF91A805D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5"/>
          <p:cNvSpPr/>
          <p:nvPr/>
        </p:nvSpPr>
        <p:spPr>
          <a:xfrm>
            <a:off x="0" y="6399360"/>
            <a:ext cx="4211640" cy="225360"/>
          </a:xfrm>
          <a:prstGeom prst="rect">
            <a:avLst/>
          </a:prstGeom>
          <a:gradFill rotWithShape="0">
            <a:gsLst>
              <a:gs pos="0">
                <a:srgbClr val="ffd532"/>
              </a:gs>
              <a:gs pos="100000">
                <a:srgbClr val="fff7d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Image 6" descr="eucerd_logo.jpg"/>
          <p:cNvPicPr/>
          <p:nvPr/>
        </p:nvPicPr>
        <p:blipFill>
          <a:blip r:embed="rId2"/>
          <a:stretch/>
        </p:blipFill>
        <p:spPr>
          <a:xfrm>
            <a:off x="7516800" y="5950080"/>
            <a:ext cx="1384200" cy="7776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23"/>
          <p:cNvSpPr/>
          <p:nvPr/>
        </p:nvSpPr>
        <p:spPr>
          <a:xfrm>
            <a:off x="479880" y="633096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4494"/>
                </a:solidFill>
                <a:latin typeface="Calibri"/>
              </a:rPr>
              <a:t>www.eucerd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449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449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1974-E9BE-448A-AB2D-55D9B2078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80920" y="1854000"/>
            <a:ext cx="757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4494"/>
                </a:solidFill>
                <a:latin typeface="Calibri"/>
              </a:rPr>
              <a:t>Criteria for Centres of Expertise for Rare Diseases in the EU following EUCERD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250560" y="4373280"/>
            <a:ext cx="8507160" cy="1530360"/>
          </a:xfrm>
          <a:prstGeom prst="rect">
            <a:avLst/>
          </a:prstGeom>
          <a:solidFill>
            <a:srgbClr val="f3f2f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RARECARENet Project: Consensus meeting on centres of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Leiden, 15</a:t>
            </a:r>
            <a:r>
              <a:rPr b="0" lang="fr-FR" sz="2400" spc="-1" strike="noStrike" baseline="30000">
                <a:solidFill>
                  <a:srgbClr val="524640"/>
                </a:solidFill>
                <a:latin typeface="Calibri"/>
              </a:rPr>
              <a:t>th</a:t>
            </a: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 January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24640"/>
                </a:solidFill>
                <a:latin typeface="Calibri"/>
              </a:rPr>
              <a:t>Teresinha Evange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overage of C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4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shoul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ver all RD patients’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iaise with other C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National or European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national directo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designated C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uld be compiled and made publ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Patient focus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aborate with patient organis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respond to the needs of patients from different cultures and ethnic groups (i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e cultural sensi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s ensure respect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-discrimination and non-stigmatisation of R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ross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ompetencies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ring together or co-ordinat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disciplinary competencies/skills (including paramedical skills, social services, rehabilitation and palliative care…)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contribute to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uilding healthcare pathway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from primary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ave link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th specialized laboratories and other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Recommendations: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31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adership and cred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ltidisciplinarity and inclusiv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and collabo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Mechanisms for measuring performance/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000"/>
            </a:br>
            <a:r>
              <a:rPr b="1" lang="en-US" sz="4000" spc="-1" strike="noStrike">
                <a:solidFill>
                  <a:srgbClr val="004494"/>
                </a:solidFill>
                <a:latin typeface="Calibri"/>
              </a:rPr>
              <a:t>Leadership and cred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7200" y="1808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evel of expertise and experience documented for example 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ual volume of referrals and secon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in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er reviewed publication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expert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ing and train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ion to state of the art i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75920" y="188640"/>
            <a:ext cx="85518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000"/>
            </a:br>
            <a:r>
              <a:rPr b="1" lang="en-US" sz="4000" spc="-1" strike="noStrike">
                <a:solidFill>
                  <a:srgbClr val="004494"/>
                </a:solidFill>
                <a:latin typeface="Calibri"/>
              </a:rPr>
              <a:t>Multidisciplinarity and inclusiven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50920" y="1494000"/>
            <a:ext cx="8686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disciplinary approa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tegrating medical, paramedical, psychological and social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pacity to manage RD patien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 appropriate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sation of collaborations to ensure continuity of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childhood, adolescence and adulth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all stages of the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apacity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600" y="1628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 the delivery of care and shorten the time to diagn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and adhere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od practice guidelin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ose quality of care indicators and implement outcome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ata collection for clinical research and public health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city to participate in clinical t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acity to develop and participate on E-Health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Criteria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Links and collabo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5920" y="1493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atient organisations where they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other CE at national, european or interna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62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Recommendations: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Process for designation of 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71640" y="1628640"/>
            <a:ext cx="768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principles of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a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Calibri"/>
              </a:rPr>
              <a:t>Duration of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Process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Core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28600" y="1782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 are responsible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Establishing transparent designa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Designation of 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Maintain a ongoing evaluation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Facilitate access of citiz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designation proces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MS level must ensure that the designated CEs have the capacity and the resources to fulfill the obligations of desig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0" y="1898640"/>
            <a:ext cx="9144000" cy="2879640"/>
          </a:xfrm>
          <a:prstGeom prst="rect">
            <a:avLst/>
          </a:prstGeom>
          <a:solidFill>
            <a:srgbClr val="cfd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Espace réservé du texte 6"/>
          <p:cNvSpPr/>
          <p:nvPr/>
        </p:nvSpPr>
        <p:spPr>
          <a:xfrm>
            <a:off x="685800" y="1898640"/>
            <a:ext cx="77724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b6ba3"/>
                </a:solidFill>
                <a:latin typeface="Calibri"/>
              </a:rPr>
              <a:t>Centres of expertise (CEs) for rare </a:t>
            </a:r>
            <a:r>
              <a:rPr b="1" lang="en-GB" sz="4400" spc="-1" strike="noStrike">
                <a:solidFill>
                  <a:srgbClr val="3b6ba3"/>
                </a:solidFill>
                <a:latin typeface="Calibri"/>
              </a:rPr>
              <a:t>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b6ba3"/>
                </a:solidFill>
                <a:latin typeface="Calibri"/>
              </a:rPr>
              <a:t>THE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3328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Process for designation of CEs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Designation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28600" y="1719000"/>
            <a:ext cx="868680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s may not fulfill som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designation criteria defined by the MS so long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bsence of fulfillment of criteri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es no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ac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quality of c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s have a strateg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lac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att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ation criteri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defined time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7628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Networ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tworking of CEs is a key el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o ens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expertise travels rather than patient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exchange of data, biological samples, radiological images, other diagnostic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promotion of e-tools for tele-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ated CEs at MS level are the key elements of the future ERN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4494"/>
                </a:solidFill>
                <a:latin typeface="Calibri"/>
              </a:rPr>
              <a:t>Thank you for your attentio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The text of the recommendation can be found on the EUCERD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 webs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00336f"/>
                </a:solidFill>
                <a:uFillTx/>
                <a:latin typeface="Calibri"/>
              </a:rPr>
              <a:t>www.eucerd.e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198720" y="232920"/>
            <a:ext cx="93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4494"/>
                </a:solidFill>
                <a:latin typeface="Calibri"/>
              </a:rPr>
              <a:t>The need for CEs for rare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76280" y="162828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over 6’000 rar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challenge of rar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tients are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xperts are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Gathering experience to improve   knowledge, care, diagnostic and trea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4494"/>
                </a:solidFill>
                <a:latin typeface="Calibri"/>
              </a:rPr>
              <a:t>CEs in national plans/strategies for 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1682640"/>
            <a:ext cx="90900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 Member States (MS) are elaborating national plans/strategies for rare diseases to be concluded by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s are key components of these RD plans/strate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E will be the building blocks of future European   Reference Networks foreseen in the Cross-Border Healthcare Dir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4494"/>
                </a:solidFill>
                <a:latin typeface="Calibri"/>
              </a:rPr>
              <a:t>Heterogeneity</a:t>
            </a:r>
            <a:r>
              <a:rPr b="1" lang="fr-FR" sz="4000" spc="-1" strike="noStrike">
                <a:solidFill>
                  <a:srgbClr val="004494"/>
                </a:solidFill>
                <a:latin typeface="Calibri"/>
              </a:rPr>
              <a:t> in the establishment of C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0560" y="1512360"/>
            <a:ext cx="850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 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lecting heterogeneity of national health car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pending on budget allo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 fo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pecialised centres vs general cent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linical only vs clinical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cus on technology / expert inter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 designa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pecific policy regarding RD or n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ational vs region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Aim of EUCERD recommendations</a:t>
            </a: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p MS in their reflections/polic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s concerning na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s and strategies for R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566640" y="2446200"/>
            <a:ext cx="2424240" cy="327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4494"/>
                </a:solidFill>
                <a:latin typeface="Calibri"/>
              </a:rPr>
              <a:t>Scope of the Recomme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5 recomme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main are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ission and scope  of 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riteria for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cess for desig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a6a6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6a6a6"/>
                </a:solidFill>
                <a:latin typeface="Calibri"/>
              </a:rPr>
              <a:t>European dim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Recommendations: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Mission and scop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ve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ti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Role in spreading information and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Calibri"/>
              </a:rPr>
              <a:t>Role i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94"/>
                </a:solidFill>
                <a:latin typeface="Calibri"/>
              </a:rPr>
              <a:t>Mission and scope </a:t>
            </a:r>
            <a:br>
              <a:rPr sz="4400"/>
            </a:br>
            <a:r>
              <a:rPr b="1" lang="en-US" sz="4400" spc="-1" strike="noStrike">
                <a:solidFill>
                  <a:srgbClr val="004494"/>
                </a:solidFill>
                <a:latin typeface="Calibri"/>
              </a:rPr>
              <a:t>Definition of what is a 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structures for the management and care of RD patients on regional, national or international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3:50:16Z</dcterms:created>
  <dc:creator>angin</dc:creator>
  <dc:description/>
  <dc:language>en-US</dc:language>
  <cp:lastModifiedBy>Graeme Heron</cp:lastModifiedBy>
  <cp:lastPrinted>2013-01-11T11:19:17Z</cp:lastPrinted>
  <dcterms:modified xsi:type="dcterms:W3CDTF">2013-03-28T22:30:00Z</dcterms:modified>
  <cp:revision>289</cp:revision>
  <dc:subject/>
  <dc:title>Diapositive 1</dc:title>
</cp:coreProperties>
</file>