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6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7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8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BC89-E4BE-4297-BBBD-34F03B100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is a very long title but it can be resumed as eucerd recommendations on centres of expertise for Rare dis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57D-7F5C-4BCB-BFED-01CAB49E47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context for setting the recommend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FD70-2E6D-4270-8307-FD237BFC93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arrang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462-6CB3-471B-93AD-6049C735BC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ver 6 thousand RD,  so patients are rare as are the experts. It is important to gather experience to improve knowledg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EU recommendations MS must have nation plans concluded by 2013 and ce are components of these plans and are the building blocs of the 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1991-648E-4C56-AE29-3DCC81ADEA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4AF-5F88-4198-9AB7-03B9CDAB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7AB-BA0C-47AC-848B-18A0AD1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ECC08-B65B-460C-B030-D1283AA0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8346E-56A0-43B7-83DD-F22B225B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3DAC4-71AC-4DAA-AC6C-EF35FA0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CA636-6C5A-4020-A3FE-FC1B94D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AE092B-5350-4537-B1FC-DD073FF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08AAC-C14F-4378-98DE-865EC70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24CC87-266E-4290-B0B9-CA57E5F1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0415C-FD85-4B26-A42F-F1431262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3B379-654A-4C1F-9FFA-4355C2C4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E99630-956F-4337-B52D-C82C473D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910-6186-4A66-B88C-5F5F9516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4D97D5-F18E-4E2F-8642-13D2B0B5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A688D1-31E4-48B1-A236-7AC157FC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B211C-383F-4ED7-BC40-8CFAAAF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2D1408-42CD-43C0-BB2F-B97FE8D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4F14BB-9313-4777-92E2-C5D33110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CCBD3-AE38-4F21-A285-2827170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5468E-C102-4491-B243-B064E0B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77627A-9FC4-4600-B626-D884AE2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7EC519-5AA0-42CD-963B-DF4A3AC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36DDBC-A17C-48F2-BD17-63F05D99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BA4-472F-48E7-8DDF-69B684B4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C86779-97DE-483B-A347-35F89FD7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86E6FA-05CD-4B9C-AF70-0C530DD2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67A6EA-803D-4FBA-8FC4-8D328CBC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D3FD36-3D22-4F13-9BB9-75DCCD9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771C32-C576-4187-8850-8232CBA4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983EE1-F18E-43C8-B399-572CDA24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374E38-817B-406D-98BF-19D4EAFD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7A947D-C805-4F73-A03E-F2C4418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3B349-9985-476D-A25A-5808E907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274E67-374B-4980-B5F9-5B6D6C3C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3C83-A19D-4517-8466-7F3B183F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6C49D0-6613-4A6E-8638-D22DCD83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8D957F-E6D7-48B9-BD3A-0E8B8686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B6B8BE-5F04-4D49-8583-3415EAB8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F07DA6-47A0-40F1-9027-A2098945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0E1FA1-E1C3-4E65-BECF-5F3D74D3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C93620-98EF-4C67-99AB-524AB114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FFCB87-5C25-4CCA-8E65-AF30CF7D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29FA8C-5EE8-48B1-B6D0-BDA1003F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1AD506-7ABB-4E45-B8A4-D917CFA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B1A80B-16F7-436C-B4E4-4822C37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165-8EBD-4AAE-805D-6085BDED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442585-E493-425A-892A-E13764D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A0C3C0-28E0-428F-969E-A833CE05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1D2B9D-F417-4966-8696-51935CD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EA967B-5F3C-428A-9E66-742ED742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FA6E7A-7581-4612-937B-F83FF654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BBE4-883A-4C8B-9E18-8928DA7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E8A6-2E6F-4BF5-8C23-B8D632D9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501-6A9E-4B56-B78D-6A9AACD2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213-36C2-4F3D-901E-25C0042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9C4E-0DF0-4BE5-923C-49F7ED5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4CB-78A6-4AA7-B308-EAAD93BC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7EE-7AAC-4E04-94A4-6046B924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2B5A-FA5A-4044-991C-CCB2C5C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C94-B53B-4983-8825-30191F4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FC40-D679-4224-8CB8-EEBD7A39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17B4-2FBA-478C-A7A5-D9CFFD1E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7F273-C491-49BB-A721-7D2499C5C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CD1E3-41CA-4635-8E62-C99EC4D4CA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5F46E-E27B-4C23-A1B9-4216A6B128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2C79B-D6D8-4D33-B91D-4C574D7029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CE508-01C0-495C-BD17-D5D9A329C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D5F-F0A4-4681-B0E4-3B5D44C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16D3E-1EB9-4EA0-810D-6736DF34E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4D2A2-DD14-411F-BCBB-B773318FCD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B26A9-39CA-45E3-A075-A6C4FE4980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EB12C-B40B-402B-89A3-6023B5514A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EA8A1-B80E-4BDD-B605-1C284AD78C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D9EA8-EE12-4561-884E-92D2866B3C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B611D-F345-46F3-B1FE-75154BF943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6F733-371C-4C6C-903A-543BAEA3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543F4-3592-4FF2-B006-472955E1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26D41-2298-4BF0-B6FD-008B5A23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F3B-0999-43D3-84F0-AF5E361C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C7653-3DC5-484F-AAE7-C7A8FB43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2BA11-B2B7-4B50-97AA-D487C997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59E28-2137-4970-BD0E-DD86CB87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E6E90-1EFD-43C5-9EF5-B4BEEEA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F2029-38A4-4696-9577-D4892F2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0BA92-C87E-4605-AE12-109563B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149D4-34EC-4CCE-9BF9-553BD225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41638-AB31-474A-A262-DEE7AE50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3592A-AC79-4469-BF00-293F1CF2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0A339-4F6E-4289-9D92-EF0C32ED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25D-7D7C-4B20-8C15-47369BD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80528-78B2-4870-AF49-9C85DE04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D6E09-6B7E-4AE1-95AC-443587A0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FDB1A-D428-4C29-8089-C3E85E71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349D4-558E-4ED5-BF5A-9B79696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971C3-9EEF-4F5E-814F-73B4C01E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3861E-2277-43C3-8F11-DEDEBBD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D620C-0724-42D6-B834-920A9A5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65B38-7B1E-494D-A88B-41A17495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F4BBE-A6C9-4DBC-805B-5103815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D5139-7557-42D2-8EEC-E2EA80F0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E42-F193-4450-875A-CB5CD323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B65C3-2491-4EA8-B86D-7B30D34A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0333E-5813-4E62-AEFA-CC8EA8B5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1A08C-0B36-467E-94CA-53CCF9F1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C5FF2-0655-4706-9A0F-066EDF8B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A8164-ECA4-4905-8974-FD110D28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D279B-6B6B-4498-9355-4F1B4DF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D0A29-4829-4BDA-A04A-D35E070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EE7CD-EF65-4826-AC1B-39D68D2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46901-45F0-41E4-AACC-A5363EF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40C2A-3496-4FEE-BCD2-2EDD1DF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001-C975-4421-9211-29559EC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7A1D8-4D34-4614-A748-747FCF8F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80FC9-4424-4255-BAE0-FA3DA500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80E51-B5FC-43A2-998E-013C4F13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1CDC0-08D5-4785-A54C-899A6681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7A251-F1D4-49AE-87DF-4453F8D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87731-C731-49F5-AF4C-750A825C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83451-1419-4B5E-B130-656B2F56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3AF8D-ED48-4156-AD54-D90690E6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5A0E1-8406-472A-AA01-839581FF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E51BC-8B9F-4026-864B-1910BB4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A17-A971-41DC-B0CA-98F4D5E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EEB5B-7D0A-49FD-A31B-08E77E2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F8D50-EA9C-4F69-BFD2-9DBD1ABD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4013F-636E-4F92-9F37-5E8EF762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5A88F-B274-455A-9A5C-B39ACB5A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4EF33-47DF-4F48-9731-EE350A2B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C14B9-9B71-45CC-BF75-790981A2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CAC978-4A99-4A66-9CEE-8FB1036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111D7-3F8E-4202-A5FB-92875419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F9816E-12D3-466E-A99B-A49A6C01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7FED0-F85A-4715-ADC5-B05F61C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BE7-477C-49DC-B3B8-545A3E1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CD8DA-B290-4D64-800C-F9133E0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0AC4D-79D9-4577-98E8-1591162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63ED6-CF06-406D-A6A6-D5AED94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A1750-640B-4E6E-BF91-7C588C7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D350B-AF9E-47E7-8A83-9F3F09F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08778-C860-4346-A558-AEAFF765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29A9D-C28A-46BF-AE12-E909BEB4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1BF9B-6C0E-4D0A-A951-3A89DF50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0AF60-1B7A-42CE-9AF9-A9AAF197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E5F37-6D93-4FA1-AC96-E7A6B6DC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A903-5EC8-4BED-82AF-4114B4296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129-0F5D-4388-AE68-7B7ACEB36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F20E-8EB4-45BC-9C47-9F43F750F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6B4-724C-4F88-9995-3173750D8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9" descr="Sans titre - 2.jpg"/>
          <p:cNvPicPr/>
          <p:nvPr/>
        </p:nvPicPr>
        <p:blipFill>
          <a:blip r:embed="rId3"/>
          <a:stretch/>
        </p:blipFill>
        <p:spPr>
          <a:xfrm>
            <a:off x="206280" y="819000"/>
            <a:ext cx="3038400" cy="29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41C7-07AE-4256-B9CC-AFB5D80F7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89000"/>
            <a:ext cx="9144000" cy="1214280"/>
          </a:xfrm>
          <a:prstGeom prst="rect">
            <a:avLst/>
          </a:prstGeom>
          <a:solidFill>
            <a:srgbClr val="d2d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50D-56A8-455B-8939-4BD7FC729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0D07-4D1F-45F0-8FD8-B92EED2EF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DC1-D822-48F4-B6BD-A7ADC467A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9C17-CA99-49E6-AF77-17A007537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3FDB-2E8D-480D-BF14-070E543F8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64D-F410-451E-8662-39049EE31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627-801F-4A41-A8EC-C2FC31CC5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80920" y="1854000"/>
            <a:ext cx="757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4494"/>
                </a:solidFill>
                <a:latin typeface="Calibri"/>
              </a:rPr>
              <a:t>Criteria for Centres of Expertise for Rare Diseases in the EU following EUCERD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250560" y="4373280"/>
            <a:ext cx="8507160" cy="1530360"/>
          </a:xfrm>
          <a:prstGeom prst="rect">
            <a:avLst/>
          </a:prstGeom>
          <a:solidFill>
            <a:srgbClr val="f3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RARECARENet Project: Consensus meeting on centres of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Leiden, 15</a:t>
            </a:r>
            <a:r>
              <a:rPr b="0" lang="fr-FR" sz="2400" spc="-1" strike="noStrike" baseline="30000">
                <a:solidFill>
                  <a:srgbClr val="524640"/>
                </a:solidFill>
                <a:latin typeface="Calibri"/>
              </a:rPr>
              <a:t>th</a:t>
            </a: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 Januar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Teresinha Evange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overage of 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4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shoul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ver all RD patients’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iaise with other C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National or European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national directo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designated C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uld be compiled and made 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Patient focus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aborate with patient organis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respond to the needs of patients from different cultures and ethnic groups (i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e cultural sensi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ensure respect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discrimination and non-stigmatisation of R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ross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ompetencies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ring together or co-ordinat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disciplinary competencies/skills (including paramedical skills, social services, rehabilitation and palliative care…)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contribute to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uilding healthcare pathway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from primary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ve link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th specialized laboratories and other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Recommendations: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31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dership and cred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ltidisciplinarity and inclus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and collabo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Mechanisms for measuring performance/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000"/>
            </a:br>
            <a:r>
              <a:rPr b="1" lang="en-US" sz="4000" spc="-1" strike="noStrike">
                <a:solidFill>
                  <a:srgbClr val="004494"/>
                </a:solidFill>
                <a:latin typeface="Calibri"/>
              </a:rPr>
              <a:t>Leadership and cred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808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evel of expertise and experience documented for example 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ual volume of referrals and seco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in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reviewed publication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expert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ing and train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ion to state of the art i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75920" y="188640"/>
            <a:ext cx="8551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000"/>
            </a:br>
            <a:r>
              <a:rPr b="1" lang="en-US" sz="4000" spc="-1" strike="noStrike">
                <a:solidFill>
                  <a:srgbClr val="004494"/>
                </a:solidFill>
                <a:latin typeface="Calibri"/>
              </a:rPr>
              <a:t>Multidisciplinarity and inclusiv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50920" y="1494000"/>
            <a:ext cx="8686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disciplinary approa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tegrating medical, paramedical, psychological and soci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pacity to manage RD patie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 appropriate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sation of collaborations to ensure continuity of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childhood, adolescence and adulth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all stages of the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apacity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6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the delivery of care and shorten the time to 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and adhere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practice guidel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 quality of care indicators and implement outcome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ata collection for clinical research and public health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city to participate in clinical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city to develop and participate on E-Health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Links and collabo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5920" y="1493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atient organisations where they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other CE at national, european or interna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62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Recommendations: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Process for designation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71640" y="1628640"/>
            <a:ext cx="768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principles of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a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Calibri"/>
              </a:rPr>
              <a:t>Duration of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Process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ore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1782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 are responsible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Establishing transparent designa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Designation of 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Maintain a ongoing evalua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Facilitate access of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designation proc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MS level must ensure that the designated CEs have the capacity and the resources to fulfill the obligations of desig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1898640"/>
            <a:ext cx="9144000" cy="2879640"/>
          </a:xfrm>
          <a:prstGeom prst="rect">
            <a:avLst/>
          </a:prstGeom>
          <a:solidFill>
            <a:srgbClr val="cfd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space réservé du texte 6"/>
          <p:cNvSpPr/>
          <p:nvPr/>
        </p:nvSpPr>
        <p:spPr>
          <a:xfrm>
            <a:off x="685800" y="1898640"/>
            <a:ext cx="77724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b6ba3"/>
                </a:solidFill>
                <a:latin typeface="Calibri"/>
              </a:rPr>
              <a:t>Centres of expertise (CEs) for rare </a:t>
            </a:r>
            <a:r>
              <a:rPr b="1" lang="en-GB" sz="4400" spc="-1" strike="noStrike">
                <a:solidFill>
                  <a:srgbClr val="3b6ba3"/>
                </a:solidFill>
                <a:latin typeface="Calibri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b6ba3"/>
                </a:solidFill>
                <a:latin typeface="Calibri"/>
              </a:rPr>
              <a:t>THE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Process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Designation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28600" y="1719000"/>
            <a:ext cx="86868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s may not fulfill som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designation criteria defined by the MS so long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bsence of fulfillment of criteri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es no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ac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lity of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s have a strateg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lac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att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ation criteri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defined time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762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ing of CEs is a key el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o ens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expertise travels rather than patient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exchange of data, biological samples, radiological images, other diagnostic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promotion of e-tools for tele-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ated CEs at MS level are the key elements of the future ERN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4494"/>
                </a:solidFill>
                <a:latin typeface="Calibri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he text of the recommendation can be found on the EUCERD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 webs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00336f"/>
                </a:solidFill>
                <a:uFillTx/>
                <a:latin typeface="Calibri"/>
              </a:rPr>
              <a:t>www.eucerd.e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198720" y="232920"/>
            <a:ext cx="93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4494"/>
                </a:solidFill>
                <a:latin typeface="Calibri"/>
              </a:rPr>
              <a:t>The need for CEs for rare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76280" y="162828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over 6’000 rar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challenge of rar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tients are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erts are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athering experience to improve   knowledge, care, diagnostic and trea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4494"/>
                </a:solidFill>
                <a:latin typeface="Calibri"/>
              </a:rPr>
              <a:t>CEs in national plans/strategies for 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1682640"/>
            <a:ext cx="90900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 Member States (MS) are elaborating national plans/strategies for rare diseases to be concluded by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are key components of these RD plans/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 will be the building blocks of future European   Reference Networks foreseen in the Cross-Border Healthcare Dir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494"/>
                </a:solidFill>
                <a:latin typeface="Calibri"/>
              </a:rPr>
              <a:t>Heterogeneity</a:t>
            </a:r>
            <a:r>
              <a:rPr b="1" lang="fr-FR" sz="4000" spc="-1" strike="noStrike">
                <a:solidFill>
                  <a:srgbClr val="004494"/>
                </a:solidFill>
                <a:latin typeface="Calibri"/>
              </a:rPr>
              <a:t> in the establishment of C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0560" y="1512360"/>
            <a:ext cx="850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lecting heterogeneity of national health car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pending on budget al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 fo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pecialised centres vs general cen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linical only vs clinical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cus on technology / expert inter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 design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pecific policy regarding RD or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ational vs region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Aim of EUCERD recommendations</a:t>
            </a: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MS in their reflections/poli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s concerning na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s and strategies for R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566640" y="2446200"/>
            <a:ext cx="2424240" cy="32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4494"/>
                </a:solidFill>
                <a:latin typeface="Calibri"/>
              </a:rPr>
              <a:t>Scope of the Recomme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5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main ar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ssion and scope  of 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teria for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cess for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6a6a6"/>
                </a:solidFill>
                <a:latin typeface="Calibri"/>
              </a:rPr>
              <a:t>European dim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Recommendations: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Mission and scop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ti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Role in spreading information and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Role i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Definition of what is a 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s for the management and care of RD patients on regional, national or interna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3:50:16Z</dcterms:created>
  <dc:creator>angin</dc:creator>
  <dc:description/>
  <dc:language>en-US</dc:language>
  <cp:lastModifiedBy>Graeme Heron</cp:lastModifiedBy>
  <cp:lastPrinted>2013-01-11T11:19:17Z</cp:lastPrinted>
  <dcterms:modified xsi:type="dcterms:W3CDTF">2013-03-28T22:30:00Z</dcterms:modified>
  <cp:revision>289</cp:revision>
  <dc:subject/>
  <dc:title>Diapositive 1</dc:title>
</cp:coreProperties>
</file>