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9189-F975-4514-89D9-A1C192D06D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4B01-03C5-405C-BD74-F8FFF9782B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31D4-B273-4E3D-A123-0FA37C4E57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Arial"/>
              </a:rPr>
              <a:t>Interaction among professional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745A-24AB-4CBE-9345-AE99D9261F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veloped from Ringborg question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0BEC-F6A5-4380-A1DC-D1E377D501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mprehensiveness: multidisciplinairy teams, research into practi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1644-68C0-468D-B07C-D95B71340BF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A313-2C77-4DE7-8ABB-055F56BFDA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0163-B9C2-48E2-ADC8-652416D938C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disciplinary versus mono-disciplinary or tumour speci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gration of complete range of cancer relate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CE0C-D641-49AF-B56C-7AA3250AB2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uld your change your opinion if you know more about the standards ( for example the amount of standard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E387-D6BC-4520-B527-832B786FEE4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B37D-C99E-47E6-9C5D-C473908814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E807-876B-44E7-93AF-569AE2B5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2DCB-1B59-441C-8D6E-26765DED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B26F-8723-4254-BA4C-684F0BA6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C440-85F3-40D5-8725-D0D23819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4163-BF2E-43CB-B0A4-A17D2E18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730F-F82B-4182-880A-AF41867A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9B44-906A-42B7-8E8D-0D8F70B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AD22-9706-4691-A602-E5B22E0D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D790-522A-451B-A2F4-5EE226D3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4920" y="836640"/>
            <a:ext cx="66978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C318-B3FF-4E8B-8006-181792ED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8103-469E-4FCF-B64E-C085119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1BA7-FD5A-4921-BC64-66F03256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952F-DEA9-4552-81F5-4D486666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7024-8FB0-4B66-925F-450B14E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41D9-AF7B-4506-AA10-201DE426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2104-427B-424D-B765-892C96E1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FC9-19E1-4A80-A725-EAB81B3E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BAB6-5523-4284-A083-D5EFA65D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2108-6ACD-4AFD-AB52-4A9832E8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DEB4-661F-441D-B859-C027FD29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94920" y="836640"/>
            <a:ext cx="66978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759C-6A43-42C8-A104-093D1595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74C7-32AE-49C6-B0BF-2CC6B07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9E0A-85B3-4A1E-B509-636382B8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889C-0DA1-4A44-8100-0EEBE46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B9E5-6601-4A31-87F6-921C5C6A81F7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E297-411C-43E3-931E-F779FE28CC6B}" type="datetime">
              <a:rPr b="0" lang="en-GB" sz="1200" spc="-1" strike="noStrike">
                <a:solidFill>
                  <a:srgbClr val="33669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108000" y="549360"/>
            <a:ext cx="216000" cy="6308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e0e0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1" descr="logo OECI_OK (1)"/>
          <p:cNvPicPr/>
          <p:nvPr/>
        </p:nvPicPr>
        <p:blipFill>
          <a:blip r:embed="rId2"/>
          <a:stretch/>
        </p:blipFill>
        <p:spPr>
          <a:xfrm>
            <a:off x="7145280" y="404640"/>
            <a:ext cx="1998720" cy="103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Picture 22" descr="logo OECI_OK (1)"/>
          <p:cNvPicPr/>
          <p:nvPr/>
        </p:nvPicPr>
        <p:blipFill>
          <a:blip r:embed="rId2"/>
          <a:stretch/>
        </p:blipFill>
        <p:spPr>
          <a:xfrm>
            <a:off x="3492360" y="0"/>
            <a:ext cx="1998720" cy="1033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854-C072-487A-9CC2-937D414B3EE6}" type="datetime">
              <a:rPr b="0" lang="en-GB" sz="1200" spc="-1" strike="noStrike">
                <a:solidFill>
                  <a:srgbClr val="33669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BE3-10EC-415C-8112-2C9F2235C589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Criteria in Europe for Cancer Centres following the OECI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492360" y="4220640"/>
            <a:ext cx="4824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enk Humm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ECI Accreditation and Designation Executive Offic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eiden 15-01-2013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492360" y="422100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5040" y="-167400"/>
            <a:ext cx="121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66cc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66cc"/>
                </a:solidFill>
                <a:latin typeface="Calibri"/>
              </a:rPr>
              <a:t>Dr. Katrien Van Loo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985-2B21-4CAA-AFD8-83622BF1CC6D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BE82-0C7B-439B-9EBF-7D2435315643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Focus of the standa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Comprehesivenes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Planning and organisation of integrated ca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Multidisciplinary ca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Integration and translation of research into ca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ducation for professiona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Patient satisfac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Constant quality improvemen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916-42F8-489C-9BA9-4C47364C4632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0850-73FA-4DDA-AC91-2A8513BD3BE5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697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Quantitative questionnai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92360" y="1699920"/>
            <a:ext cx="3095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ve chapt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6699"/>
                </a:solidFill>
                <a:latin typeface="Arial"/>
              </a:rPr>
              <a:t>-data collection-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844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6407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Designatio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3901-8949-40E7-A2E6-EBE45C09E914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268280"/>
            <a:ext cx="734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o distinguish four types of cancer institut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6699"/>
                </a:solidFill>
                <a:latin typeface="Arial"/>
              </a:rPr>
              <a:t>Preliminary designation according to quantitative data from questionnai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6699"/>
                </a:solidFill>
                <a:latin typeface="Arial"/>
              </a:rPr>
              <a:t>Final designation: check of quality criteria and consistency of all parts during peer review visi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01660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65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56EC-7C01-49CF-AF81-C7FE11A30367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jdelijke aanduiding voor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852D-EE51-4BD6-86ED-5F5ABFF1B054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Afbeelding 5" descr=""/>
          <p:cNvPicPr/>
          <p:nvPr/>
        </p:nvPicPr>
        <p:blipFill>
          <a:blip r:embed="rId2"/>
          <a:stretch/>
        </p:blipFill>
        <p:spPr>
          <a:xfrm>
            <a:off x="1692360" y="-458640"/>
            <a:ext cx="5803920" cy="75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66E2-DB21-41BD-A2A3-6CBD3E5A1840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6699"/>
                </a:solidFill>
                <a:latin typeface="Arial"/>
              </a:rPr>
              <a:t>14-01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y accreditatio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verall improvement of qual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engthening comprehensivenes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mproving patient care and satisfac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mproving integration research and care activit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uropean acknowledge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 rot="16200000">
            <a:off x="-756000" y="1485000"/>
            <a:ext cx="316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D28C-3DE4-403D-B662-D522E18EB986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4100400" cy="6453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5796000" y="1700280"/>
            <a:ext cx="3097080" cy="453708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6699"/>
                </a:solidFill>
                <a:latin typeface="Arial"/>
              </a:rPr>
              <a:t>Founded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6699"/>
                </a:solidFill>
                <a:latin typeface="Arial"/>
              </a:rPr>
              <a:t>75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6699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6699"/>
                </a:solidFill>
                <a:latin typeface="Arial"/>
              </a:rPr>
              <a:t>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Linking cancer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Coordinate their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Inter/Multidisciplin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Quality of cancer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Integration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Patients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Working group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Biobanks and Molecular Pathology, Giorgia Stant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ducation and training: A. Paradiso, Bari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Prevention and early diagnoses, C. Harris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Cost-benefit, L. Steut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urocanPlatform, Ulrik Ringbor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Accreditation and Designation, M. Saghatchia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C842-ACD8-4E9A-88F2-4E576F86AE19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6200" y="404280"/>
            <a:ext cx="6697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Quality assessment in health care/oncology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Internationally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JACIE: European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Eusoma: breast cancer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ESMO palliative car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ISO9001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DKG: Germany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FNCLCC: French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NHS: UK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Accreditation Canad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OECI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ISQu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2D96-ACCE-494D-A89B-47D201C6BDDC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CEED-C822-42D9-8B53-2DB2E812D31A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890A-A844-427F-93F1-E47A0AF42D72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ccreditation programme : Compon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Standards and criteria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 for quality multidisciplinary cancer care delivered in cancer centres throughout Europ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A tool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 to collect standardised and quality data from approved cancer centres, to measure treatments patterns and outcomes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A process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 allowing to survey the cancer centres in order to assess compliance with the standards</a:t>
            </a:r>
            <a:br>
              <a:rPr sz="2400"/>
            </a:b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AB1A-9F4E-482F-AE52-E161BCE7B219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F853-AF0B-4E52-A7C0-5CB498D150EE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Arial"/>
              </a:rPr>
              <a:t>Main goal: A&amp;D program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6699"/>
                </a:solidFill>
                <a:latin typeface="Arial"/>
              </a:rPr>
              <a:t>OECI helping (cancer) centres to implement and improve a quality system for oncological care using the standards and peer review syste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6699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8" name="Afbeelding 9" descr="health care organisation.bmp"/>
          <p:cNvPicPr/>
          <p:nvPr/>
        </p:nvPicPr>
        <p:blipFill>
          <a:blip r:embed="rId1"/>
          <a:stretch/>
        </p:blipFill>
        <p:spPr>
          <a:xfrm>
            <a:off x="4788000" y="3284640"/>
            <a:ext cx="4263840" cy="318456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Characteristics of the program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Voluntary quality improvement programme in Europ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Focus on consistency of total (cancer) organisation/centre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Databank with quality data of participating centres (benchmarking – exchange best-practices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Auditors are oncology experts and professionally trained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uropean quality standards brings more consistent quality in Europ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An opportunity for centres to distinguish from other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5898-F896-4D5F-8655-C12C3B2DEDE1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jdelijke aanduiding voor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9714-A1C9-4C55-AF2D-5CCD54F5CE95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94E-3558-4C17-9F6F-EB81CF74516D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591000" y="1773360"/>
            <a:ext cx="7526160" cy="4181400"/>
          </a:xfrm>
          <a:prstGeom prst="rect">
            <a:avLst/>
          </a:prstGeom>
          <a:ln w="0">
            <a:noFill/>
          </a:ln>
        </p:spPr>
      </p:pic>
      <p:sp>
        <p:nvSpPr>
          <p:cNvPr id="145" name="Titel 1"/>
          <p:cNvSpPr/>
          <p:nvPr/>
        </p:nvSpPr>
        <p:spPr>
          <a:xfrm>
            <a:off x="466560" y="404640"/>
            <a:ext cx="66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6699"/>
                </a:solidFill>
                <a:latin typeface="Arial"/>
              </a:rPr>
              <a:t>Qualitativ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9360" y="1413000"/>
            <a:ext cx="4707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ianumm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05FB-53A0-453E-BDA1-9B2BFE8E1D4B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Qualitative questionnai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771640" y="2038320"/>
            <a:ext cx="3961080" cy="411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8:29:43Z</dcterms:created>
  <dc:creator>Gery Hoekstra</dc:creator>
  <dc:description/>
  <dc:language>en-US</dc:language>
  <cp:lastModifiedBy>Graeme Heron</cp:lastModifiedBy>
  <dcterms:modified xsi:type="dcterms:W3CDTF">2013-03-28T22:30:38Z</dcterms:modified>
  <cp:revision>68</cp:revision>
  <dc:subject/>
  <dc:title>Dia 1</dc:title>
</cp:coreProperties>
</file>