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B59-FB95-49ED-99CB-CD9635D82C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23B2-9300-4E30-8F55-0FBB1BBDE7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5F63-C37B-4DF4-8AA1-23176A5191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699"/>
                </a:solidFill>
                <a:latin typeface="Arial"/>
              </a:rPr>
              <a:t>Interaction among professional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F8E6-9915-4E39-9EA7-CDFB2C5688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veloped from Ringborg questionna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4005-3B64-494F-805A-7FA9BC3749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mprehensiveness: multidisciplinairy teams, research into practice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AC8F-DC52-40F3-A3CC-7F4E8A0A79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C6C9-0B2B-4D12-B9E4-2229B419816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AF2D-1BA6-4876-826C-15138A54097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ulti-disciplinary versus mono-disciplinary or tumour spe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of complete range of cancer relate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6C2A-0219-431E-89BD-33ADEDCD46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uld your change your opinion if you know more about the standards ( for example the amount of standards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D9D-B07F-4275-9995-0751EED751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B758-5825-455D-BFFF-F0C21D2C8E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B442-5FC9-4309-88FC-A65C103F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7D8E-8398-4CD1-9FBC-6343D8C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A4DF-CAB9-477B-957D-F41DEBB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F624-942B-429E-AFD0-82D2059A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813D-F77B-41D1-A263-8840D327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0B49-878F-4AD9-886A-1427CC24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FBF-4B4F-4825-B4BA-10BCCF52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377-EF5E-47EF-9151-9B1B037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13D-0F41-4BE2-A06B-23E13B7F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4920" y="836640"/>
            <a:ext cx="66978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B977-16A6-46D2-80F2-1F811B5A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368C-E81A-4E14-B528-C879E32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9D7A-B3D4-423B-BEE4-B188F54A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FA61-EF76-4A67-9FEF-3544DF49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B6E0-BFF6-4A59-A176-21BC351B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B196-6E27-456B-9742-DC0BEF1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8096-B726-41B5-B700-060ECE17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208B-E289-41CA-99AE-4A17795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4BF5-9E12-48CE-AF88-AC234BAA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2874-78E2-438E-83B7-690448A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7DC0-A163-45C5-80EF-71318A42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94920" y="836640"/>
            <a:ext cx="66978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2AC1-8907-49BD-8A63-86F9948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4217-FA1C-426D-A3FA-BB7FC94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D488-B73E-49D5-B6CA-790B38E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E651B-0AD9-42E4-A28B-F7AAD307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09F9-C850-4040-97AD-A7A6F2AA014D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611-966A-4E86-863A-0F99493BB2FB}" type="datetime">
              <a:rPr b="0" lang="en-GB" sz="1200" spc="-1" strike="noStrike">
                <a:solidFill>
                  <a:srgbClr val="33669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108000" y="549360"/>
            <a:ext cx="216000" cy="63086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e0e0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1" descr="logo OECI_OK (1)"/>
          <p:cNvPicPr/>
          <p:nvPr/>
        </p:nvPicPr>
        <p:blipFill>
          <a:blip r:embed="rId2"/>
          <a:stretch/>
        </p:blipFill>
        <p:spPr>
          <a:xfrm>
            <a:off x="7145280" y="404640"/>
            <a:ext cx="1998720" cy="103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2" descr="logo OECI_OK (1)"/>
          <p:cNvPicPr/>
          <p:nvPr/>
        </p:nvPicPr>
        <p:blipFill>
          <a:blip r:embed="rId2"/>
          <a:stretch/>
        </p:blipFill>
        <p:spPr>
          <a:xfrm>
            <a:off x="3492360" y="0"/>
            <a:ext cx="1998720" cy="103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671F-C336-4F76-9549-A941E79DAE99}" type="datetime">
              <a:rPr b="0" lang="en-GB" sz="1200" spc="-1" strike="noStrike">
                <a:solidFill>
                  <a:srgbClr val="33669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E51-7784-4963-B585-9C4E07F95553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Criteria in Europe for Cancer Centres following the OECI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492360" y="4220640"/>
            <a:ext cx="482472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enk Humm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ECI Accreditation and Designation Executive Offic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Leiden 15-01-2013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492360" y="422100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040" y="-167400"/>
            <a:ext cx="121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0520" rIns="2052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66cc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66cc"/>
                </a:solidFill>
                <a:latin typeface="Calibri"/>
              </a:rPr>
              <a:t>Dr. Katrien Van L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A9F-1CEB-47D1-B000-E6D0ED4792C2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CEF1-DCF0-4F69-8A69-9E44E8649228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705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Focus of the standard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mprehesiveness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lanning and organisation of integrated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Multidisciplinary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Integration and translation of research into ca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ducation for professional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atient satisfac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nstant quality improvement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5484-B635-4CB9-9761-133616D03F72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921-19F0-4689-9E48-D349F9D11D74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Quantitative questionnai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360" y="1699920"/>
            <a:ext cx="3095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ve chapter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-data collection-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844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6407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Designation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079-121F-4F78-9F52-E9D3374DE832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1280" y="1268280"/>
            <a:ext cx="734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o distinguish four types of cancer institut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Preliminary designation according to quantitative data from questionnair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Final designation: check of quality criteria and consistency of all parts during peer review visi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01660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65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FD0-CF55-41F3-83BB-2F632B678909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E4D0-F9C2-4A3A-BCD3-ADFCDCC0EB99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5" descr=""/>
          <p:cNvPicPr/>
          <p:nvPr/>
        </p:nvPicPr>
        <p:blipFill>
          <a:blip r:embed="rId2"/>
          <a:stretch/>
        </p:blipFill>
        <p:spPr>
          <a:xfrm>
            <a:off x="1692360" y="-458640"/>
            <a:ext cx="5803920" cy="75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1528-7D29-4E7C-89C6-EBEA0180A9E1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6699"/>
                </a:solidFill>
                <a:latin typeface="Arial"/>
              </a:rPr>
              <a:t>14-01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hy accreditation?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verall improvement of quality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engthening comprehensivenes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roving patient care and satisfacti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mproving integration research and care activit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uropean acknowledgemen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 rot="16200000">
            <a:off x="-756000" y="1485000"/>
            <a:ext cx="316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6699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910F-BD3A-4149-9940-1D5B6598BFC6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100400" cy="6453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5796000" y="1700280"/>
            <a:ext cx="3097080" cy="453708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Founded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75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336699"/>
                </a:solidFill>
                <a:latin typeface="Arial"/>
              </a:rPr>
              <a:t>Mi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Linking cancer cen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Coordinate their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ter/Multidiscipli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Quality of cancer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tegration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Patients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Working group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Biobanks and Molecular Pathology, Giorgia Stant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ducation and training: A. Paradiso, Bari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Prevention and early diagnoses, C. Harriso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Cost-benefit, L. Steute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EurocanPlatform, Ulrik Ringbor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33669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Accreditation and Designation, M. Saghatchi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06A-1696-4AC4-BCA5-4AFE54A79258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6200" y="404280"/>
            <a:ext cx="6697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Quality assessment in health care/oncology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nternationally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JACIE: European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Eusoma: breast cancer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ESMO palliative car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SO9001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DKG: Germany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FNCLCC: French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NHS: UK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Accreditation Canad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OECI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ISQua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98F6-301A-40B4-9C6D-032071C912D0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CF7A-2D12-48A4-BA9F-970778BC44FB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B8C9-65EB-4D2B-BE95-39BC3A8B3DDC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Accreditation programme : Component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Standards and criteria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for quality multidisciplinary cancer care delivered in cancer centres throughout Europ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 tool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to collect standardised and quality data from approved cancer centres, to measure treatments patterns and outcomes</a:t>
            </a: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A process</a:t>
            </a: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allowing to survey the cancer centres in order to assess compliance with the standards</a:t>
            </a:r>
            <a:br>
              <a:rPr sz="2400"/>
            </a:br>
            <a:r>
              <a:rPr b="0" lang="en-GB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FA2-C093-4E8B-9F21-2E2AF7A2AE3C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atum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49B2-BB8C-4603-B5F9-EA6820D17ABF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6699"/>
                </a:solidFill>
                <a:latin typeface="Arial"/>
              </a:rPr>
              <a:t>Main goal: A&amp;D program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6699"/>
                </a:solidFill>
                <a:latin typeface="Arial"/>
              </a:rPr>
              <a:t>OECI helping (cancer) centres to implement and improve a quality system for oncological care using the standards and peer review system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6699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8" name="Afbeelding 9" descr="health care organisation.bmp"/>
          <p:cNvPicPr/>
          <p:nvPr/>
        </p:nvPicPr>
        <p:blipFill>
          <a:blip r:embed="rId1"/>
          <a:stretch/>
        </p:blipFill>
        <p:spPr>
          <a:xfrm>
            <a:off x="4788000" y="3284640"/>
            <a:ext cx="4263840" cy="3184560"/>
          </a:xfrm>
          <a:prstGeom prst="rect">
            <a:avLst/>
          </a:prstGeom>
          <a:ln cap="sq"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83664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99"/>
                </a:solidFill>
                <a:latin typeface="Arial"/>
              </a:rPr>
              <a:t>Characteristics of the programm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Voluntary quality improvement programme in Europ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Focus on consistency of total (cancer) organisation/centre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Databank with quality data of participating centres (benchmarking – exchange best-practices)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6699"/>
                </a:solidFill>
                <a:latin typeface="Arial"/>
              </a:rPr>
              <a:t>Auditors are oncology experts and professionally trained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European quality standards brings more consistent quality in Europe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Arial"/>
              </a:rPr>
              <a:t>An opportunity for centres to distinguish from others</a:t>
            </a:r>
            <a:r>
              <a:rPr b="0" i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DEDD-46B6-405B-9C58-6F2A4CC61543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ijdelijke aanduiding voor datum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F3E-666E-4994-BC20-C374FE7AA1E3}" type="datetime">
              <a:rPr b="0" lang="en-GB" sz="1200" spc="-1" strike="noStrike">
                <a:solidFill>
                  <a:srgbClr val="33669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4D99-A69A-4797-9A37-D19E9A522441}" type="slidenum">
              <a:rPr b="0" lang="en-GB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3591000" y="1773360"/>
            <a:ext cx="7526160" cy="4181400"/>
          </a:xfrm>
          <a:prstGeom prst="rect">
            <a:avLst/>
          </a:prstGeom>
          <a:ln w="0">
            <a:noFill/>
          </a:ln>
        </p:spPr>
      </p:pic>
      <p:sp>
        <p:nvSpPr>
          <p:cNvPr id="145" name="Titel 1"/>
          <p:cNvSpPr/>
          <p:nvPr/>
        </p:nvSpPr>
        <p:spPr>
          <a:xfrm>
            <a:off x="466560" y="404640"/>
            <a:ext cx="669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6699"/>
                </a:solidFill>
                <a:latin typeface="Arial"/>
              </a:rPr>
              <a:t>Qualitativ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9360" y="1413000"/>
            <a:ext cx="47070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7CEB-FFA0-41B8-8178-BD66293ED69D}" type="slidenum">
              <a:rPr b="0" lang="nl-NL" sz="12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6697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99"/>
                </a:solidFill>
                <a:latin typeface="Arial"/>
              </a:rPr>
              <a:t>Qualitative questionnai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771640" y="2038320"/>
            <a:ext cx="39610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8:29:43Z</dcterms:created>
  <dc:creator>Gery Hoekstra</dc:creator>
  <dc:description/>
  <dc:language>en-US</dc:language>
  <cp:lastModifiedBy>Graeme Heron</cp:lastModifiedBy>
  <dcterms:modified xsi:type="dcterms:W3CDTF">2013-03-28T22:30:38Z</dcterms:modified>
  <cp:revision>68</cp:revision>
  <dc:subject/>
  <dc:title>Dia 1</dc:title>
</cp:coreProperties>
</file>