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A14D-457F-4E4C-98E6-4455603B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DAE2-FBE6-4BAF-907C-43780C0A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2622-E437-483F-9AA7-3D140DDC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FC809-C4A3-4A39-933C-D73D6BC9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D0C23-B2D9-4083-B173-32D3BB91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7237-E5CE-4043-9598-A37F2E07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508D-235F-41AC-8294-FCEEE4A8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F02CE-AA55-4485-A05E-DC3FF38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DA53-C8E1-4A70-B1C1-1494237B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08D3-90D0-45C2-8D78-E2E94C6A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4A37-8D9F-4485-9312-B9A83F5F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7C178-33DC-447E-8C72-27288FC6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/>
          <p:cNvPicPr/>
          <p:nvPr/>
        </p:nvPicPr>
        <p:blipFill>
          <a:blip r:embed="rId3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78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0533-FD10-414B-A1E9-6FF6126BED8B}" type="slidenum"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Information network on rare cancers  RARECARENe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0" name="CasellaDiTesto 2"/>
          <p:cNvSpPr/>
          <p:nvPr/>
        </p:nvSpPr>
        <p:spPr>
          <a:xfrm>
            <a:off x="285120" y="3429000"/>
            <a:ext cx="78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Annalisa Trama, Gemma Gatt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Fondazione IRCCS Istituto Nazionale dei Tumori, Milan (Italy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4247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updated epidemiological indicato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health care pathways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entres of expertis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linical diagnosis and management 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(including very rare cancers)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nformation for patien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8400" indent="-26856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list of centres of expertis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8400" indent="-26856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list of patient’s associatio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64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Information on rare cancer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47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Work packages 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484280"/>
          <a:ext cx="7993080" cy="4176720"/>
        </p:xfrm>
        <a:graphic>
          <a:graphicData uri="http://schemas.openxmlformats.org/drawingml/2006/table">
            <a:tbl>
              <a:tblPr/>
              <a:tblGrid>
                <a:gridCol w="1241640"/>
                <a:gridCol w="6751440"/>
              </a:tblGrid>
              <a:tr h="8542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WP numb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WP nam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20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Coordina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Dissemina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Information on epidemiology of rare cance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Information on </a:t>
                      </a: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centres</a:t>
                      </a: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 of expertise for rare cance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Information on clinical management of rare cancer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Information for patients with rare cance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ttangolo 5"/>
          <p:cNvSpPr/>
          <p:nvPr/>
        </p:nvSpPr>
        <p:spPr>
          <a:xfrm>
            <a:off x="539640" y="3860640"/>
            <a:ext cx="7993080" cy="180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epidemiology (1) 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498840" y="1484280"/>
            <a:ext cx="5105520" cy="4321080"/>
          </a:xfrm>
          <a:prstGeom prst="rect">
            <a:avLst/>
          </a:prstGeom>
          <a:ln w="0">
            <a:noFill/>
          </a:ln>
        </p:spPr>
      </p:pic>
      <p:sp>
        <p:nvSpPr>
          <p:cNvPr id="142" name="CasellaDiTesto 4"/>
          <p:cNvSpPr/>
          <p:nvPr/>
        </p:nvSpPr>
        <p:spPr>
          <a:xfrm>
            <a:off x="270000" y="2565360"/>
            <a:ext cx="307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EUROCARE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100 cancer regis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22 european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epidemiology </a:t>
            </a:r>
            <a:r>
              <a:rPr b="1" lang="en-US" sz="3100" spc="-1" strike="noStrike">
                <a:solidFill>
                  <a:srgbClr val="003366"/>
                </a:solidFill>
                <a:latin typeface="Arial Narrow"/>
              </a:rPr>
              <a:t>(2)</a:t>
            </a:r>
            <a:br>
              <a:rPr sz="3200"/>
            </a:br>
            <a:endParaRPr b="1" lang="en-US" sz="31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1052280"/>
            <a:ext cx="80740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Description of the health care pathway of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5" name="Rettangolo 6"/>
          <p:cNvSpPr/>
          <p:nvPr/>
        </p:nvSpPr>
        <p:spPr>
          <a:xfrm>
            <a:off x="755640" y="2492280"/>
            <a:ext cx="7345440" cy="21970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High resolution study with a selected group of cancer regist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Analysis on the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association between outcome and hospital caseload/volume of c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45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</a:t>
            </a: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centres</a:t>
            </a: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 of expertise for rare cancer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000" y="17733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dentification of qualification criteria for centers of expertise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8" name="Rettangolo 4"/>
          <p:cNvSpPr/>
          <p:nvPr/>
        </p:nvSpPr>
        <p:spPr>
          <a:xfrm>
            <a:off x="826920" y="2708280"/>
            <a:ext cx="705816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 Narrow"/>
              </a:rPr>
              <a:t>First consensus mee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ttangolo 5"/>
          <p:cNvSpPr/>
          <p:nvPr/>
        </p:nvSpPr>
        <p:spPr>
          <a:xfrm>
            <a:off x="826920" y="3284640"/>
            <a:ext cx="7129800" cy="100872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 Narrow"/>
              </a:rPr>
              <a:t>High resolution study on a selected group of cancer regist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Freccia circolare a sinistra 6"/>
          <p:cNvSpPr/>
          <p:nvPr/>
        </p:nvSpPr>
        <p:spPr>
          <a:xfrm>
            <a:off x="6804000" y="2565360"/>
            <a:ext cx="1224000" cy="331164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713160 h 3311640"/>
              <a:gd name="textAreaBottom" fmla="*/ 244548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4" stAng="-5400000" swAng="5400000"/>
                <a:lnTo>
                  <a:pt x="21600" y="11299"/>
                </a:lnTo>
                <a:arcTo wR="21600" hR="9304" stAng="0" swAng="3543535"/>
                <a:lnTo>
                  <a:pt x="5400" y="21305"/>
                </a:lnTo>
                <a:lnTo>
                  <a:pt x="0" y="19605"/>
                </a:lnTo>
                <a:lnTo>
                  <a:pt x="5400" y="17314"/>
                </a:lnTo>
                <a:lnTo>
                  <a:pt x="5400" y="18312"/>
                </a:lnTo>
                <a:arcTo wR="21600" hR="9304" stAng="3543535" swAng="-3383972"/>
                <a:lnTo>
                  <a:pt x="21475" y="10301"/>
                </a:lnTo>
                <a:arcTo wR="21600" hR="9304" stAng="-159563" swAng="-5240437"/>
                <a:close/>
              </a:path>
              <a:path fill="darkenLess" w="21600" h="21600">
                <a:moveTo>
                  <a:pt x="0" y="0"/>
                </a:moveTo>
                <a:arcTo wR="21600" hR="9304" stAng="-5400000" swAng="5400000"/>
                <a:lnTo>
                  <a:pt x="21600" y="11299"/>
                </a:lnTo>
                <a:arcTo wR="21600" hR="9304" stAng="0" swAng="-159563"/>
                <a:lnTo>
                  <a:pt x="21475" y="10301"/>
                </a:lnTo>
                <a:arcTo wR="21600" hR="9304" stAng="-159563" swAng="-5240437"/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ttangolo 7"/>
          <p:cNvSpPr/>
          <p:nvPr/>
        </p:nvSpPr>
        <p:spPr>
          <a:xfrm>
            <a:off x="2268360" y="508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EUCERD Recommendations on Quality Criteria for Centres of Expertise for Rare Diseases in Member Sta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ttangolo 8"/>
          <p:cNvSpPr/>
          <p:nvPr/>
        </p:nvSpPr>
        <p:spPr>
          <a:xfrm>
            <a:off x="826920" y="4437000"/>
            <a:ext cx="7129800" cy="3988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 Narrow"/>
              </a:rPr>
              <a:t>Final Consensus mee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120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diagnosis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and management (1)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629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diagnosis and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management : VERY RARE CANCER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05636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Information for patients with rare cancers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7859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Arial Narrow"/>
              </a:rPr>
              <a:t>…  </a:t>
            </a:r>
            <a:r>
              <a:rPr b="0" lang="it-IT" sz="2800" spc="-1" strike="noStrike">
                <a:solidFill>
                  <a:srgbClr val="ff0000"/>
                </a:solidFill>
                <a:latin typeface="Arial Narrow"/>
              </a:rPr>
              <a:t>we have a lot of expectation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9" name="Segnaposto contenuto 2"/>
          <p:cNvSpPr/>
          <p:nvPr/>
        </p:nvSpPr>
        <p:spPr>
          <a:xfrm>
            <a:off x="539640" y="2565360"/>
            <a:ext cx="81471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List of patients associations dedicated to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List of centres of expertise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Information materials on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280" y="1844280"/>
            <a:ext cx="8769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00"/>
                </a:solidFill>
                <a:latin typeface="Arial Narrow"/>
              </a:rPr>
              <a:t>Coordination with other initiatives</a:t>
            </a:r>
            <a:endParaRPr b="1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3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RARECARE</a:t>
            </a:r>
            <a:br>
              <a:rPr sz="3600"/>
            </a:b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“</a:t>
            </a:r>
            <a:r>
              <a:rPr b="0" lang="it-IT" sz="3600" spc="-1" strike="noStrike">
                <a:solidFill>
                  <a:srgbClr val="003366"/>
                </a:solidFill>
                <a:latin typeface="Arial Narrow"/>
              </a:rPr>
              <a:t>Surveillance of rare cancers in Europe”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50920" y="1989000"/>
            <a:ext cx="86770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66"/>
                </a:solidFill>
                <a:latin typeface="Tahoma"/>
              </a:rPr>
              <a:t>Aim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To provide </a:t>
            </a:r>
            <a:r>
              <a:rPr b="0" lang="it-IT" sz="2400" spc="-1" strike="noStrike">
                <a:solidFill>
                  <a:srgbClr val="006666"/>
                </a:solidFill>
                <a:latin typeface="Arial"/>
                <a:ea typeface="Arial"/>
              </a:rPr>
              <a:t>a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definition of “rare cancers”</a:t>
            </a:r>
            <a:r>
              <a:rPr b="0" lang="it-IT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and a list of canc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To estimate the burden of rare cancers in Europ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To improve the quality of data</a:t>
            </a:r>
            <a:r>
              <a:rPr b="0" lang="it-IT" sz="2400" spc="-1" strike="noStrike">
                <a:solidFill>
                  <a:srgbClr val="006666"/>
                </a:solidFill>
                <a:latin typeface="Arial"/>
                <a:ea typeface="Arial"/>
              </a:rPr>
              <a:t> in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cancer</a:t>
            </a:r>
            <a:r>
              <a:rPr b="0" lang="it-IT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regist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To develop strategies for the diffusion of information among all the key play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9200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1280" y="1338120"/>
            <a:ext cx="90014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Who will work with us?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66" name="Immagine 4" descr="Lisa.jpg"/>
          <p:cNvPicPr/>
          <p:nvPr/>
        </p:nvPicPr>
        <p:blipFill>
          <a:blip r:embed="rId1"/>
          <a:stretch/>
        </p:blipFill>
        <p:spPr>
          <a:xfrm>
            <a:off x="539640" y="1052640"/>
            <a:ext cx="863640" cy="785520"/>
          </a:xfrm>
          <a:prstGeom prst="rect">
            <a:avLst/>
          </a:prstGeom>
          <a:ln w="0">
            <a:noFill/>
          </a:ln>
        </p:spPr>
      </p:pic>
      <p:pic>
        <p:nvPicPr>
          <p:cNvPr id="167" name="Immagine 5" descr="Sabine.jpg"/>
          <p:cNvPicPr/>
          <p:nvPr/>
        </p:nvPicPr>
        <p:blipFill>
          <a:blip r:embed="rId2"/>
          <a:stretch/>
        </p:blipFill>
        <p:spPr>
          <a:xfrm>
            <a:off x="4643280" y="1052640"/>
            <a:ext cx="649440" cy="904680"/>
          </a:xfrm>
          <a:prstGeom prst="rect">
            <a:avLst/>
          </a:prstGeom>
          <a:ln w="0">
            <a:noFill/>
          </a:ln>
        </p:spPr>
      </p:pic>
      <p:pic>
        <p:nvPicPr>
          <p:cNvPr id="168" name="Immagine 6" descr="ian_kunkler.jpg"/>
          <p:cNvPicPr/>
          <p:nvPr/>
        </p:nvPicPr>
        <p:blipFill>
          <a:blip r:embed="rId3"/>
          <a:stretch/>
        </p:blipFill>
        <p:spPr>
          <a:xfrm>
            <a:off x="539640" y="2205000"/>
            <a:ext cx="854280" cy="647640"/>
          </a:xfrm>
          <a:prstGeom prst="rect">
            <a:avLst/>
          </a:prstGeom>
          <a:ln w="0">
            <a:noFill/>
          </a:ln>
        </p:spPr>
      </p:pic>
      <p:pic>
        <p:nvPicPr>
          <p:cNvPr id="169" name="Immagine 8" descr="Maja.jpg"/>
          <p:cNvPicPr/>
          <p:nvPr/>
        </p:nvPicPr>
        <p:blipFill>
          <a:blip r:embed="rId4"/>
          <a:stretch/>
        </p:blipFill>
        <p:spPr>
          <a:xfrm>
            <a:off x="611280" y="3284640"/>
            <a:ext cx="720720" cy="955440"/>
          </a:xfrm>
          <a:prstGeom prst="rect">
            <a:avLst/>
          </a:prstGeom>
          <a:ln w="0">
            <a:noFill/>
          </a:ln>
        </p:spPr>
      </p:pic>
      <p:pic>
        <p:nvPicPr>
          <p:cNvPr id="170" name="Immagine 9" descr="Pukkala.jpg"/>
          <p:cNvPicPr/>
          <p:nvPr/>
        </p:nvPicPr>
        <p:blipFill>
          <a:blip r:embed="rId5"/>
          <a:stretch/>
        </p:blipFill>
        <p:spPr>
          <a:xfrm>
            <a:off x="4643280" y="3429000"/>
            <a:ext cx="663840" cy="792000"/>
          </a:xfrm>
          <a:prstGeom prst="rect">
            <a:avLst/>
          </a:prstGeom>
          <a:ln w="0">
            <a:noFill/>
          </a:ln>
        </p:spPr>
      </p:pic>
      <p:pic>
        <p:nvPicPr>
          <p:cNvPr id="171" name="Immagine 10" descr="Comber.jpg"/>
          <p:cNvPicPr/>
          <p:nvPr/>
        </p:nvPicPr>
        <p:blipFill>
          <a:blip r:embed="rId6"/>
          <a:stretch/>
        </p:blipFill>
        <p:spPr>
          <a:xfrm>
            <a:off x="611280" y="4508640"/>
            <a:ext cx="723960" cy="865080"/>
          </a:xfrm>
          <a:prstGeom prst="rect">
            <a:avLst/>
          </a:prstGeom>
          <a:ln w="0">
            <a:noFill/>
          </a:ln>
        </p:spPr>
      </p:pic>
      <p:pic>
        <p:nvPicPr>
          <p:cNvPr id="172" name="Immagine 11" descr="Dimitrova.jpg"/>
          <p:cNvPicPr/>
          <p:nvPr/>
        </p:nvPicPr>
        <p:blipFill>
          <a:blip r:embed="rId7"/>
          <a:stretch/>
        </p:blipFill>
        <p:spPr>
          <a:xfrm>
            <a:off x="4572000" y="4581360"/>
            <a:ext cx="792000" cy="835200"/>
          </a:xfrm>
          <a:prstGeom prst="rect">
            <a:avLst/>
          </a:prstGeom>
          <a:ln w="0">
            <a:noFill/>
          </a:ln>
        </p:spPr>
      </p:pic>
      <p:sp>
        <p:nvSpPr>
          <p:cNvPr id="173" name="Rettangolo 12"/>
          <p:cNvSpPr/>
          <p:nvPr/>
        </p:nvSpPr>
        <p:spPr>
          <a:xfrm>
            <a:off x="1476360" y="105264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66"/>
                </a:solidFill>
                <a:latin typeface="Arial Narrow"/>
              </a:rPr>
              <a:t>Lisa Licitra - Fondazione IRCCS Istituto Nazionale dei Tumori, Milan (Italy</a:t>
            </a:r>
            <a:r>
              <a:rPr b="0" lang="it-IT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ttangolo 13"/>
          <p:cNvSpPr/>
          <p:nvPr/>
        </p:nvSpPr>
        <p:spPr>
          <a:xfrm>
            <a:off x="5364000" y="1125360"/>
            <a:ext cx="347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Sabine Siesling - Comprehensive Cancer Centre the Netherland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ttangolo 14"/>
          <p:cNvSpPr/>
          <p:nvPr/>
        </p:nvSpPr>
        <p:spPr>
          <a:xfrm>
            <a:off x="1547640" y="2133720"/>
            <a:ext cx="30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Ian Kunkler - The University of Edinburgh, Scotland, United Kingdom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Immagine 15" descr="Benhamou.jpg"/>
          <p:cNvPicPr/>
          <p:nvPr/>
        </p:nvPicPr>
        <p:blipFill>
          <a:blip r:embed="rId8"/>
          <a:stretch/>
        </p:blipFill>
        <p:spPr>
          <a:xfrm>
            <a:off x="4643280" y="2133720"/>
            <a:ext cx="576360" cy="1001520"/>
          </a:xfrm>
          <a:prstGeom prst="rect">
            <a:avLst/>
          </a:prstGeom>
          <a:ln w="0">
            <a:noFill/>
          </a:ln>
        </p:spPr>
      </p:pic>
      <p:sp>
        <p:nvSpPr>
          <p:cNvPr id="177" name="Rettangolo 16"/>
          <p:cNvSpPr/>
          <p:nvPr/>
        </p:nvSpPr>
        <p:spPr>
          <a:xfrm>
            <a:off x="5435640" y="2160720"/>
            <a:ext cx="307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75f6d"/>
                </a:solidFill>
                <a:latin typeface="Century Schoolbook"/>
              </a:rPr>
              <a:t>Ellen Benhamou - Institut de Cancérologie Gustave Roussy, (Franc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Rettangolo 17"/>
          <p:cNvSpPr/>
          <p:nvPr/>
        </p:nvSpPr>
        <p:spPr>
          <a:xfrm>
            <a:off x="1403280" y="329076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Maja Primic-Žakelj - </a:t>
            </a:r>
            <a:r>
              <a:rPr b="0" lang="en-GB" sz="1400" spc="-1" strike="noStrike">
                <a:solidFill>
                  <a:srgbClr val="575f6d"/>
                </a:solidFill>
                <a:latin typeface="Century Schoolbook"/>
              </a:rPr>
              <a:t>Institute of Oncology Ljubljana (Slovenia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ttangolo 18"/>
          <p:cNvSpPr/>
          <p:nvPr/>
        </p:nvSpPr>
        <p:spPr>
          <a:xfrm>
            <a:off x="5435640" y="3284640"/>
            <a:ext cx="33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Eero Pukkala - Finnish Cancer Registry, Institute for Statistical and Epidemiological Cancer Research (Finland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ttangolo 19"/>
          <p:cNvSpPr/>
          <p:nvPr/>
        </p:nvSpPr>
        <p:spPr>
          <a:xfrm>
            <a:off x="1476360" y="4581360"/>
            <a:ext cx="2567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Harry Comber – Irish National Cancer Registry (Ireland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Rettangolo 20"/>
          <p:cNvSpPr/>
          <p:nvPr/>
        </p:nvSpPr>
        <p:spPr>
          <a:xfrm>
            <a:off x="5580000" y="4653000"/>
            <a:ext cx="29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75f6d"/>
                </a:solidFill>
                <a:latin typeface="Century Schoolbook"/>
              </a:rPr>
              <a:t>Nadia Dimitrova - Bulgarian National Cancer Registry (BNCR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ttangolo 22"/>
          <p:cNvSpPr/>
          <p:nvPr/>
        </p:nvSpPr>
        <p:spPr>
          <a:xfrm>
            <a:off x="1476360" y="55897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75f6d"/>
                </a:solidFill>
                <a:latin typeface="Century Schoolbook"/>
              </a:rPr>
              <a:t>Riccardo Capocaccia - Istituto Superiore di Sanità, Rome (Italy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Picture 1" descr=""/>
          <p:cNvPicPr/>
          <p:nvPr/>
        </p:nvPicPr>
        <p:blipFill>
          <a:blip r:embed="rId9"/>
          <a:stretch/>
        </p:blipFill>
        <p:spPr>
          <a:xfrm>
            <a:off x="539640" y="5516640"/>
            <a:ext cx="792360" cy="852480"/>
          </a:xfrm>
          <a:prstGeom prst="rect">
            <a:avLst/>
          </a:prstGeom>
          <a:ln w="0">
            <a:noFill/>
          </a:ln>
        </p:spPr>
      </p:pic>
      <p:sp>
        <p:nvSpPr>
          <p:cNvPr id="184" name="Rettangolo 21"/>
          <p:cNvSpPr/>
          <p:nvPr/>
        </p:nvSpPr>
        <p:spPr>
          <a:xfrm>
            <a:off x="4572000" y="566100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Century Schoolbook"/>
              </a:rPr>
              <a:t>European Cancer Patient Coalition (ECPC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Collaborating partner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4920" y="1268280"/>
            <a:ext cx="8497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Rare Cancers Europe (RCE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European Partnerships for Action Against Cancer (EPAAC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European Society of Surgical Oncology (ESSO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European School of Oncology (ESO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6666"/>
                </a:solidFill>
                <a:latin typeface="Arial Narrow"/>
              </a:rPr>
              <a:t>Institut National de la Santé et de la Recherche Médicale (INSERM)- Orphanet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6666"/>
                </a:solidFill>
                <a:latin typeface="Arial Narrow"/>
              </a:rPr>
              <a:t>Centre Léon Bérard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Surveillance of Cancers in Europe (EUROCARE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European Society for Medical Oncology (ESMO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LeukaNET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European Cancer Organisation (ECCO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European Society for Therapeutic Radiology and Oncology (ESTRO)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Thank you for your attentio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www.rarecare.eu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Annalisa.trama@istitutotumori.mi.i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Gemma.gatta@istitutotumori.mi.i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ahoma"/>
              </a:rPr>
              <a:t>Rationale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Tahoma"/>
              </a:rPr>
              <a:t>Frequency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66"/>
                </a:solidFill>
                <a:latin typeface="Tahoma"/>
              </a:rPr>
              <a:t>Rare cancers are those cancers that present specific problem in </a:t>
            </a:r>
            <a:r>
              <a:rPr b="0" lang="en-GB" sz="1900" spc="-1" strike="noStrike" u="sng">
                <a:solidFill>
                  <a:srgbClr val="006666"/>
                </a:solidFill>
                <a:uFillTx/>
                <a:latin typeface="Tahoma"/>
              </a:rPr>
              <a:t>clinical decision making</a:t>
            </a:r>
            <a:r>
              <a:rPr b="0" lang="en-GB" sz="1900" spc="-1" strike="noStrike">
                <a:solidFill>
                  <a:srgbClr val="006666"/>
                </a:solidFill>
                <a:latin typeface="Tahoma"/>
              </a:rPr>
              <a:t>, </a:t>
            </a:r>
            <a:r>
              <a:rPr b="0" lang="en-GB" sz="1900" spc="-1" strike="noStrike" u="sng">
                <a:solidFill>
                  <a:srgbClr val="006666"/>
                </a:solidFill>
                <a:uFillTx/>
                <a:latin typeface="Tahoma"/>
              </a:rPr>
              <a:t>health care organization</a:t>
            </a:r>
            <a:r>
              <a:rPr b="0" lang="en-GB" sz="1900" spc="-1" strike="noStrike">
                <a:solidFill>
                  <a:srgbClr val="006666"/>
                </a:solidFill>
                <a:latin typeface="Tahoma"/>
              </a:rPr>
              <a:t> and </a:t>
            </a:r>
            <a:r>
              <a:rPr b="0" lang="en-GB" sz="1900" spc="-1" strike="noStrike" u="sng">
                <a:solidFill>
                  <a:srgbClr val="006666"/>
                </a:solidFill>
                <a:uFillTx/>
                <a:latin typeface="Tahoma"/>
              </a:rPr>
              <a:t>clinical research</a:t>
            </a:r>
            <a:r>
              <a:rPr b="0" lang="en-GB" sz="1900" spc="-1" strike="noStrike">
                <a:solidFill>
                  <a:srgbClr val="006666"/>
                </a:solidFill>
                <a:latin typeface="Tahoma"/>
              </a:rPr>
              <a:t> because of their low frequency</a:t>
            </a:r>
            <a:endParaRPr b="0" lang="en-US" sz="19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Tahoma"/>
              </a:rPr>
              <a:t>Incidence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Tahoma"/>
              </a:rPr>
              <a:t>Incidence better indicator for rare cancer</a:t>
            </a:r>
            <a:endParaRPr b="0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7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Tahoma"/>
              </a:rPr>
              <a:t>Prevalence better indicator for non neoplastic rare diseases</a:t>
            </a:r>
            <a:endParaRPr b="0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Tahoma"/>
              </a:rPr>
              <a:t>Threshold for rarity = 6/100.000/year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Tahoma"/>
              </a:rPr>
              <a:t>186 rare cancers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700360" y="404640"/>
            <a:ext cx="85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66"/>
                </a:solidFill>
                <a:latin typeface="Arial"/>
                <a:ea typeface="Arial"/>
              </a:rPr>
              <a:t>DEFINITION OF “RARE CANCER”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51220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  <a:ea typeface="Arial"/>
              </a:rPr>
              <a:t>RARE CANCERS, burden in Europe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1628280"/>
            <a:ext cx="84247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ahoma"/>
                <a:ea typeface="Tahoma"/>
              </a:rPr>
              <a:t>About 500,000 new cas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ahoma"/>
                <a:ea typeface="Tahoma"/>
              </a:rPr>
              <a:t>22% of all new malignanc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ahoma"/>
                <a:ea typeface="Tahoma"/>
              </a:rPr>
              <a:t>About 4 millions alive with a diagnosis of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Tahoma"/>
                <a:ea typeface="Tahoma"/>
              </a:rPr>
              <a:t>24% of the total cancer prevalence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29680" indent="-229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egnaposto contenuto 6" descr=""/>
          <p:cNvPicPr/>
          <p:nvPr/>
        </p:nvPicPr>
        <p:blipFill>
          <a:blip r:embed="rId1"/>
          <a:stretch/>
        </p:blipFill>
        <p:spPr>
          <a:xfrm>
            <a:off x="0" y="1127160"/>
            <a:ext cx="8820000" cy="4944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645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RARE CANCERS, burden in Europe</a:t>
            </a:r>
            <a:br>
              <a:rPr sz="2800"/>
            </a:b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5 YEAR RELATIVE SURVIVAL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0920" y="333360"/>
            <a:ext cx="6647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Rare cancer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late or incorrect diagno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limited access to appropriate therapies and clinical expertis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limited information about the diseas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lack of clinical trial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c000"/>
                </a:solidFill>
                <a:latin typeface="Arial"/>
                <a:ea typeface="Arial"/>
              </a:rPr>
              <a:t>RARECARENet</a:t>
            </a:r>
            <a:endParaRPr b="1" lang="en-US" sz="4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2204640"/>
            <a:ext cx="88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Narrow"/>
              </a:rPr>
              <a:t>building an </a:t>
            </a: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information network </a:t>
            </a:r>
            <a:r>
              <a:rPr b="0" lang="en-US" sz="4000" spc="-1" strike="noStrike">
                <a:solidFill>
                  <a:srgbClr val="003366"/>
                </a:solidFill>
                <a:latin typeface="Arial Narrow"/>
              </a:rPr>
              <a:t>to provide </a:t>
            </a: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comprehensive information </a:t>
            </a:r>
            <a:r>
              <a:rPr b="0" lang="en-US" sz="4000" spc="-1" strike="noStrike">
                <a:solidFill>
                  <a:srgbClr val="003366"/>
                </a:solidFill>
                <a:latin typeface="Arial Narrow"/>
              </a:rPr>
              <a:t>on rare cancers to the </a:t>
            </a: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community at large </a:t>
            </a:r>
            <a:endParaRPr b="0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692000" y="259920"/>
            <a:ext cx="6645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003366"/>
                </a:solidFill>
                <a:latin typeface="Arial Narrow"/>
              </a:rPr>
              <a:t>Aim</a:t>
            </a:r>
            <a:endParaRPr b="1" lang="en-US" sz="60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Graeme Heron</cp:lastModifiedBy>
  <dcterms:modified xsi:type="dcterms:W3CDTF">2013-03-28T22:31:03Z</dcterms:modified>
  <cp:revision>114</cp:revision>
  <dc:subject/>
  <dc:title>Diapositiva 1</dc:title>
</cp:coreProperties>
</file>