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AFF6-1B9D-40FC-A584-AAD99197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4485-290D-428E-B5D2-D2032E3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A9A4-7C5A-4033-8455-8300A374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692E-B549-4927-B596-B54D6E6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30EA-5E00-4BEC-ACA6-07C744AA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62CA-F7C1-4ADD-B39A-FEADB5A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096D-8774-457F-858C-283959F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47BC-AF9E-427F-AA8E-B6B5DCA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757E-D340-4A11-AF96-9CD786C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0598-72E2-4903-BFCD-6A576E3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174D-426C-4EB7-A498-CAD7D80B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4063-7AEB-447E-B374-2B529020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/>
          <p:cNvPicPr/>
          <p:nvPr/>
        </p:nvPicPr>
        <p:blipFill>
          <a:blip r:embed="rId3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BEF-534E-4D5B-ADC8-F884C5DCB5FF}" type="slidenum"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Information network on rare cancers  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CasellaDiTesto 2"/>
          <p:cNvSpPr/>
          <p:nvPr/>
        </p:nvSpPr>
        <p:spPr>
          <a:xfrm>
            <a:off x="285120" y="3429000"/>
            <a:ext cx="78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nnalisa Trama, Gemma Gatt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Fondazione IRCCS Istituto Nazionale dei Tumori, Milan (Ita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updated 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entre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nical diagnosis and management 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(including very rare cancers)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formation for pati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st of centre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st of patient’s associ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4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Information on rare canc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47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484280"/>
          <a:ext cx="7993080" cy="4176720"/>
        </p:xfrm>
        <a:graphic>
          <a:graphicData uri="http://schemas.openxmlformats.org/drawingml/2006/table">
            <a:tbl>
              <a:tblPr/>
              <a:tblGrid>
                <a:gridCol w="1241640"/>
                <a:gridCol w="6751440"/>
              </a:tblGrid>
              <a:tr h="854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umb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20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oord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Dissem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epidemiology of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</a:t>
                      </a: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entr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 of expertise for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clinical management of rare cancer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for patients with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ttangolo 5"/>
          <p:cNvSpPr/>
          <p:nvPr/>
        </p:nvSpPr>
        <p:spPr>
          <a:xfrm>
            <a:off x="539640" y="3860640"/>
            <a:ext cx="799308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(1)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498840" y="1484280"/>
            <a:ext cx="5105520" cy="432108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4"/>
          <p:cNvSpPr/>
          <p:nvPr/>
        </p:nvSpPr>
        <p:spPr>
          <a:xfrm>
            <a:off x="270000" y="2565360"/>
            <a:ext cx="307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EUROCARE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100 cancer regis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22 european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</a:t>
            </a:r>
            <a:r>
              <a:rPr b="1" lang="en-US" sz="3100" spc="-1" strike="noStrike">
                <a:solidFill>
                  <a:srgbClr val="003366"/>
                </a:solidFill>
                <a:latin typeface="Arial Narrow"/>
              </a:rPr>
              <a:t>(2)</a:t>
            </a:r>
            <a:br>
              <a:rPr sz="3200"/>
            </a:br>
            <a:endParaRPr b="1" lang="en-US" sz="31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052280"/>
            <a:ext cx="80740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Description of the health care pathway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Rettangolo 6"/>
          <p:cNvSpPr/>
          <p:nvPr/>
        </p:nvSpPr>
        <p:spPr>
          <a:xfrm>
            <a:off x="755640" y="2492280"/>
            <a:ext cx="7345440" cy="21970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High resolution study with a selected group of cancer regist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Analysis on the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ssociation between outcome and hospital caseload/volume of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centres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of expertise for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000" y="1773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dentification of qualification criteria for centers of expertis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Rettangolo 4"/>
          <p:cNvSpPr/>
          <p:nvPr/>
        </p:nvSpPr>
        <p:spPr>
          <a:xfrm>
            <a:off x="826920" y="2708280"/>
            <a:ext cx="70581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First consensus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ttangolo 5"/>
          <p:cNvSpPr/>
          <p:nvPr/>
        </p:nvSpPr>
        <p:spPr>
          <a:xfrm>
            <a:off x="826920" y="3284640"/>
            <a:ext cx="7129800" cy="100872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High resolution study on a selected group of cancer regis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ccia circolare a sinistra 6"/>
          <p:cNvSpPr/>
          <p:nvPr/>
        </p:nvSpPr>
        <p:spPr>
          <a:xfrm>
            <a:off x="6804000" y="2565360"/>
            <a:ext cx="1224000" cy="33116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713160 h 3311640"/>
              <a:gd name="textAreaBottom" fmla="*/ 244548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3543535"/>
                <a:lnTo>
                  <a:pt x="5400" y="21305"/>
                </a:lnTo>
                <a:lnTo>
                  <a:pt x="0" y="19605"/>
                </a:lnTo>
                <a:lnTo>
                  <a:pt x="5400" y="17314"/>
                </a:lnTo>
                <a:lnTo>
                  <a:pt x="5400" y="18312"/>
                </a:lnTo>
                <a:arcTo wR="21600" hR="9304" stAng="3543535" swAng="-3383972"/>
                <a:lnTo>
                  <a:pt x="21475" y="10301"/>
                </a:lnTo>
                <a:arcTo wR="21600" hR="9304" stAng="-159563" swAng="-5240437"/>
                <a:close/>
              </a:path>
              <a:path fill="darkenLess"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-159563"/>
                <a:lnTo>
                  <a:pt x="21475" y="10301"/>
                </a:lnTo>
                <a:arcTo wR="21600" hR="9304" stAng="-159563" swAng="-5240437"/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ttangolo 7"/>
          <p:cNvSpPr/>
          <p:nvPr/>
        </p:nvSpPr>
        <p:spPr>
          <a:xfrm>
            <a:off x="226836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UCERD Recommendations on Quality Criteria for Centres of Expertise for Rare Diseases in Member St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ttangolo 8"/>
          <p:cNvSpPr/>
          <p:nvPr/>
        </p:nvSpPr>
        <p:spPr>
          <a:xfrm>
            <a:off x="826920" y="4437000"/>
            <a:ext cx="71298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Final Consensus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120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and management (1)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629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management : VERY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Information for patients with rare cancer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… 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we have a lot of expectation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Segnaposto contenuto 2"/>
          <p:cNvSpPr/>
          <p:nvPr/>
        </p:nvSpPr>
        <p:spPr>
          <a:xfrm>
            <a:off x="539640" y="2565360"/>
            <a:ext cx="814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List of patients associations dedicated to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List of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Information material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8769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Arial Narrow"/>
              </a:rPr>
              <a:t>Coordination with other initiatives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CARE</a:t>
            </a:r>
            <a:br>
              <a:rPr sz="3600"/>
            </a:b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“</a:t>
            </a:r>
            <a:r>
              <a:rPr b="0" lang="it-IT" sz="3600" spc="-1" strike="noStrike">
                <a:solidFill>
                  <a:srgbClr val="003366"/>
                </a:solidFill>
                <a:latin typeface="Arial Narrow"/>
              </a:rPr>
              <a:t>Surveillance of rare cancers in Europe”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1989000"/>
            <a:ext cx="8677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Tahoma"/>
              </a:rPr>
              <a:t>Aim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provide 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definition of “rare cancers”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and a list of canc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estimate the burden of rare cancers in Euro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improve the quality of data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i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cancer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regis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develop strategies for the diffusion of information among all the key play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20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1280" y="1338120"/>
            <a:ext cx="90014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ho will work with us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66" name="Immagine 4" descr="Lisa.jpg"/>
          <p:cNvPicPr/>
          <p:nvPr/>
        </p:nvPicPr>
        <p:blipFill>
          <a:blip r:embed="rId1"/>
          <a:stretch/>
        </p:blipFill>
        <p:spPr>
          <a:xfrm>
            <a:off x="539640" y="1052640"/>
            <a:ext cx="863640" cy="785520"/>
          </a:xfrm>
          <a:prstGeom prst="rect">
            <a:avLst/>
          </a:prstGeom>
          <a:ln w="0">
            <a:noFill/>
          </a:ln>
        </p:spPr>
      </p:pic>
      <p:pic>
        <p:nvPicPr>
          <p:cNvPr id="167" name="Immagine 5" descr="Sabine.jpg"/>
          <p:cNvPicPr/>
          <p:nvPr/>
        </p:nvPicPr>
        <p:blipFill>
          <a:blip r:embed="rId2"/>
          <a:stretch/>
        </p:blipFill>
        <p:spPr>
          <a:xfrm>
            <a:off x="4643280" y="1052640"/>
            <a:ext cx="649440" cy="90468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6" descr="ian_kunkler.jpg"/>
          <p:cNvPicPr/>
          <p:nvPr/>
        </p:nvPicPr>
        <p:blipFill>
          <a:blip r:embed="rId3"/>
          <a:stretch/>
        </p:blipFill>
        <p:spPr>
          <a:xfrm>
            <a:off x="539640" y="2205000"/>
            <a:ext cx="85428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Immagine 8" descr="Maja.jpg"/>
          <p:cNvPicPr/>
          <p:nvPr/>
        </p:nvPicPr>
        <p:blipFill>
          <a:blip r:embed="rId4"/>
          <a:stretch/>
        </p:blipFill>
        <p:spPr>
          <a:xfrm>
            <a:off x="611280" y="3284640"/>
            <a:ext cx="720720" cy="955440"/>
          </a:xfrm>
          <a:prstGeom prst="rect">
            <a:avLst/>
          </a:prstGeom>
          <a:ln w="0">
            <a:noFill/>
          </a:ln>
        </p:spPr>
      </p:pic>
      <p:pic>
        <p:nvPicPr>
          <p:cNvPr id="170" name="Immagine 9" descr="Pukkala.jpg"/>
          <p:cNvPicPr/>
          <p:nvPr/>
        </p:nvPicPr>
        <p:blipFill>
          <a:blip r:embed="rId5"/>
          <a:stretch/>
        </p:blipFill>
        <p:spPr>
          <a:xfrm>
            <a:off x="4643280" y="3429000"/>
            <a:ext cx="66384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Immagine 10" descr="Comber.jpg"/>
          <p:cNvPicPr/>
          <p:nvPr/>
        </p:nvPicPr>
        <p:blipFill>
          <a:blip r:embed="rId6"/>
          <a:stretch/>
        </p:blipFill>
        <p:spPr>
          <a:xfrm>
            <a:off x="611280" y="4508640"/>
            <a:ext cx="72396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11" descr="Dimitrova.jpg"/>
          <p:cNvPicPr/>
          <p:nvPr/>
        </p:nvPicPr>
        <p:blipFill>
          <a:blip r:embed="rId7"/>
          <a:stretch/>
        </p:blipFill>
        <p:spPr>
          <a:xfrm>
            <a:off x="4572000" y="4581360"/>
            <a:ext cx="792000" cy="835200"/>
          </a:xfrm>
          <a:prstGeom prst="rect">
            <a:avLst/>
          </a:prstGeom>
          <a:ln w="0">
            <a:noFill/>
          </a:ln>
        </p:spPr>
      </p:pic>
      <p:sp>
        <p:nvSpPr>
          <p:cNvPr id="173" name="Rettangolo 12"/>
          <p:cNvSpPr/>
          <p:nvPr/>
        </p:nvSpPr>
        <p:spPr>
          <a:xfrm>
            <a:off x="1476360" y="1052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Arial Narrow"/>
              </a:rPr>
              <a:t>Lisa Licitra - Fondazione IRCCS Istituto Nazionale dei Tumori, Milan (Italy</a:t>
            </a:r>
            <a:r>
              <a:rPr b="0" lang="it-IT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ttangolo 13"/>
          <p:cNvSpPr/>
          <p:nvPr/>
        </p:nvSpPr>
        <p:spPr>
          <a:xfrm>
            <a:off x="5364000" y="1125360"/>
            <a:ext cx="34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Sabine Siesling - Comprehensive Cancer Centre the Netherlan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ttangolo 14"/>
          <p:cNvSpPr/>
          <p:nvPr/>
        </p:nvSpPr>
        <p:spPr>
          <a:xfrm>
            <a:off x="1547640" y="213372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Ian Kunkler - The University of Edinburgh, Scotland, United Kingdom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Immagine 15" descr="Benhamou.jpg"/>
          <p:cNvPicPr/>
          <p:nvPr/>
        </p:nvPicPr>
        <p:blipFill>
          <a:blip r:embed="rId8"/>
          <a:stretch/>
        </p:blipFill>
        <p:spPr>
          <a:xfrm>
            <a:off x="4643280" y="2133720"/>
            <a:ext cx="576360" cy="1001520"/>
          </a:xfrm>
          <a:prstGeom prst="rect">
            <a:avLst/>
          </a:prstGeom>
          <a:ln w="0">
            <a:noFill/>
          </a:ln>
        </p:spPr>
      </p:pic>
      <p:sp>
        <p:nvSpPr>
          <p:cNvPr id="177" name="Rettangolo 16"/>
          <p:cNvSpPr/>
          <p:nvPr/>
        </p:nvSpPr>
        <p:spPr>
          <a:xfrm>
            <a:off x="5435640" y="2160720"/>
            <a:ext cx="307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5f6d"/>
                </a:solidFill>
                <a:latin typeface="Century Schoolbook"/>
              </a:rPr>
              <a:t>Ellen Benhamou - Institut de Cancérologie Gustave Roussy, (Franc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ttangolo 17"/>
          <p:cNvSpPr/>
          <p:nvPr/>
        </p:nvSpPr>
        <p:spPr>
          <a:xfrm>
            <a:off x="1403280" y="329076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Maja Primic-Žakelj - </a:t>
            </a:r>
            <a:r>
              <a:rPr b="0" lang="en-GB" sz="1400" spc="-1" strike="noStrike">
                <a:solidFill>
                  <a:srgbClr val="575f6d"/>
                </a:solidFill>
                <a:latin typeface="Century Schoolbook"/>
              </a:rPr>
              <a:t>Institute of Oncology Ljubljana (Sloveni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ttangolo 18"/>
          <p:cNvSpPr/>
          <p:nvPr/>
        </p:nvSpPr>
        <p:spPr>
          <a:xfrm>
            <a:off x="5435640" y="328464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Eero Pukkala - Finnish Cancer Registry, Institute for Statistical and Epidemiological Cancer Research (Finlan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ttangolo 19"/>
          <p:cNvSpPr/>
          <p:nvPr/>
        </p:nvSpPr>
        <p:spPr>
          <a:xfrm>
            <a:off x="1476360" y="458136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Harry Comber – Irish National Cancer Registry (Irelan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ttangolo 20"/>
          <p:cNvSpPr/>
          <p:nvPr/>
        </p:nvSpPr>
        <p:spPr>
          <a:xfrm>
            <a:off x="5580000" y="46530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5f6d"/>
                </a:solidFill>
                <a:latin typeface="Century Schoolbook"/>
              </a:rPr>
              <a:t>Nadia Dimitrova - Bulgarian National Cancer Registry (BNCR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ttangolo 22"/>
          <p:cNvSpPr/>
          <p:nvPr/>
        </p:nvSpPr>
        <p:spPr>
          <a:xfrm>
            <a:off x="1476360" y="5589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5f6d"/>
                </a:solidFill>
                <a:latin typeface="Century Schoolbook"/>
              </a:rPr>
              <a:t>Riccardo Capocaccia - Istituto Superiore di Sanità, Rome (Italy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9"/>
          <a:stretch/>
        </p:blipFill>
        <p:spPr>
          <a:xfrm>
            <a:off x="539640" y="5516640"/>
            <a:ext cx="792360" cy="85248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21"/>
          <p:cNvSpPr/>
          <p:nvPr/>
        </p:nvSpPr>
        <p:spPr>
          <a:xfrm>
            <a:off x="4572000" y="56610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European Cancer Patient Coalition (ECPC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Collaborating partn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4920" y="126828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Rare Cancers Europe (RCE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Partnerships for Action Against Cancer (EPAAC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of Surgical Oncology (ESS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chool of Oncology (ES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Arial Narrow"/>
              </a:rPr>
              <a:t>Institut National de la Santé et de la Recherche Médicale (INSERM)- Orphane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Arial Narrow"/>
              </a:rPr>
              <a:t>Centre Léon Bérard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Surveillance of Cancers in Europe (EUROCARE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for Medical Oncology (ESM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LeukaNE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Cancer Organisation (ECC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for Therapeutic Radiology and Oncology (ESTR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hank you for your atten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www.rarecare.eu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Annalisa.tram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Gemma.gatt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ahoma"/>
              </a:rPr>
              <a:t>Rationale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Frequency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Rare cancers are those cancers that present specific problem in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clinical decision making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,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health care organization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 and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clinical research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 because of their low frequency</a:t>
            </a:r>
            <a:endParaRPr b="0" lang="en-US" sz="19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Incidence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ahoma"/>
              </a:rPr>
              <a:t>Incidence better indicator for rare cancer</a:t>
            </a: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ahoma"/>
              </a:rPr>
              <a:t>Prevalence better indicator for non neoplastic rare diseases</a:t>
            </a: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Tahoma"/>
              </a:rPr>
              <a:t>Threshold for rarity = 6/100.000/year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Tahoma"/>
              </a:rPr>
              <a:t>186 rare cancer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00360" y="40464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  <a:ea typeface="Arial"/>
              </a:rPr>
              <a:t>DEFINITION OF “RARE CANCER”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12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  <a:ea typeface="Arial"/>
              </a:rPr>
              <a:t>RARE CANCERS, burden in Europe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628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About 500,000 new cas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22% of all new malignanc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About 4 millions alive with a diagnosis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24% of the total cancer prevalence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egnaposto contenuto 6" descr=""/>
          <p:cNvPicPr/>
          <p:nvPr/>
        </p:nvPicPr>
        <p:blipFill>
          <a:blip r:embed="rId1"/>
          <a:stretch/>
        </p:blipFill>
        <p:spPr>
          <a:xfrm>
            <a:off x="0" y="1127160"/>
            <a:ext cx="8820000" cy="4944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RARE CANCERS, burden in Europe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5 YEAR RELATIVE SURVIVAL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647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 canc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ate or incorrect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mited access to appropriate therapies and clinical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mited information about the disea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ack of clinical trial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  <a:ea typeface="Arial"/>
              </a:rPr>
              <a:t>RARECARENet</a:t>
            </a:r>
            <a:endParaRPr b="1" lang="en-US" sz="4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88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building an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information network </a:t>
            </a: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to provide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omprehensive information </a:t>
            </a: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on rare cancers to the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ommunity at large 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6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1" lang="en-US" sz="6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Graeme Heron</cp:lastModifiedBy>
  <dcterms:modified xsi:type="dcterms:W3CDTF">2013-03-28T22:31:03Z</dcterms:modified>
  <cp:revision>114</cp:revision>
  <dc:subject/>
  <dc:title>Diapositiva 1</dc:title>
</cp:coreProperties>
</file>