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879480" y="732960"/>
            <a:ext cx="48895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5"/>
          </p:nvPr>
        </p:nvSpPr>
        <p:spPr>
          <a:xfrm>
            <a:off x="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0F0D-EE1B-4AFB-A8D1-1BF4B06689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Is basis for tumour specific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jdelijke aanduiding voor dianummer 3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D375-3485-4983-B026-BBCE35B2EF15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8F51-7C81-4C6D-A174-8DD66E3C00EC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F07B-AC21-4146-AF6F-C074A21ECF93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0CDB-D905-4CB5-B085-05A34C84D3BF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9706-80EA-4B71-BCFC-7A4054BB775F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steps in global to make to come to th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5223-912E-483F-9DF2-DAB764DA0529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05A6-22FC-4288-9E0F-2214E04A986D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expect WP 1 to present the general aim of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727A-91F6-4402-A321-E271F2EA9A7D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B64D-6D05-4C0A-A33F-B69D7DD16129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PC was mentioned as associated partner: that is not in the final proposal! RCE was mentioned in the colaborating partners, this was not mentioned in the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partners involved for our WP, explain their possible con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1C52-F92B-462E-B8F2-BE2827801DE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PC was mentioned as associated partner: that is not in the final proposal! RCE was mentioned in the colaborating partners, this was not mentioned in the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partners involved for our WP, explain their possible con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D449-C110-478D-8297-38A52147D9BB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E42-4718-43F3-9FED-8AAD4946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F88C-B454-4D79-A7C4-39E99725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7AD8-A163-4FA1-B826-49B10AC2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2F4F-78D0-4357-8ABD-ECD292D9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A5A-5AA8-4571-8648-6E4919C6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1688-C238-4A95-A6AE-5B328B81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646-A9D5-479E-9251-1564BC05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2B16-DAA2-4337-ABFD-2C592204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8CF-6DA4-4725-B89D-3A9B09FF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1F3-5E01-406C-9ED1-3FA7E8F4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FB44-A797-4C08-8639-40A68131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8FF8-13F8-4203-99C4-2EF0AB44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it/imgres?imgurl=http://www.nanonord.dk/images/eu_logo.jpg&amp;imgrefurl=http://cdv.altrove.it/2007_11_01_archive.html&amp;h=284&amp;w=426&amp;sz=11&amp;hl=it&amp;start=8&amp;usg=__yUfhwimJm_NX6EYSntE6HhkfIiQ=&amp;tbnid=xx1uKZukoCCTsM:&amp;tbnh=84&amp;tbnw=126&amp;prev=/images?q=commissione+europea&amp;gbv=2&amp;hl=it&amp;sa=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"/>
          <p:cNvPicPr/>
          <p:nvPr/>
        </p:nvPicPr>
        <p:blipFill>
          <a:blip r:embed="rId2"/>
          <a:stretch/>
        </p:blipFill>
        <p:spPr>
          <a:xfrm>
            <a:off x="1187280" y="5964120"/>
            <a:ext cx="7956720" cy="9082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9" descr="eu_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64120"/>
            <a:ext cx="1187280" cy="9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78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466200" y="6786720"/>
            <a:ext cx="716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574200" y="6786720"/>
            <a:ext cx="716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698040" y="6786720"/>
            <a:ext cx="716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2798-91E3-462B-885C-4BE6B228DE4B}" type="slidenum"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66560" y="1482840"/>
            <a:ext cx="7521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Objectives of Work Package 5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objectives for toda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466560" y="2693880"/>
            <a:ext cx="7521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Information on centres of expertise for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671400" y="3500280"/>
            <a:ext cx="71103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b">
            <a:noAutofit/>
          </a:bodyPr>
          <a:p>
            <a:pPr>
              <a:lnSpc>
                <a:spcPts val="2999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3366"/>
                </a:solidFill>
                <a:latin typeface="Arial"/>
              </a:rPr>
              <a:t>WP leader: Sabine Siesling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Possible general criteria for CoE (EUCERD):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77560" y="1380960"/>
            <a:ext cx="81817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1) the attractiveness measured through the volume of cases treated (relation to WP4),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2) the capacity to produce and adhere to clinical guidelines (i.e. staging procedure and treatment),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3) outcomes (i.e. surgical free margins, number of revision surgery, survival and recurrence),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Possible general criteria for CoE (EUCERD):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557360"/>
            <a:ext cx="854388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4) the availability of multidisciplinary team,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5) the collaboration with other centers of expertise at national and international level (also for clinical trials).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6) capacity to participate in data collection (clinical research and public health in relation to CR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25440" y="1341360"/>
            <a:ext cx="835020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Only for a selection of rare cancer typ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ationa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xpected difference in clinical management (adherence to guidelin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xpected difference in clinical out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Geographical patterns (risk factors) and trends in inciden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lready work done by other grou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Not extremely r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69850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 Narrow"/>
              </a:rPr>
              <a:t>Specific criteria for CoE </a:t>
            </a:r>
            <a:br>
              <a:rPr sz="3200"/>
            </a:br>
            <a:r>
              <a:rPr b="1" lang="en-GB" sz="3200" spc="-1" strike="noStrike">
                <a:solidFill>
                  <a:srgbClr val="003366"/>
                </a:solidFill>
                <a:latin typeface="Arial Narrow"/>
              </a:rPr>
              <a:t>and High Resolution Studies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69850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 Narrow"/>
              </a:rPr>
              <a:t>Specific criteria for CoE </a:t>
            </a:r>
            <a:br>
              <a:rPr sz="3200"/>
            </a:br>
            <a:r>
              <a:rPr b="1" lang="en-GB" sz="3200" spc="-1" strike="noStrike">
                <a:solidFill>
                  <a:srgbClr val="003366"/>
                </a:solidFill>
                <a:latin typeface="Arial Narrow"/>
              </a:rPr>
              <a:t>and High Resolution Studies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Four groups of rare tumours we focus on;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18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18576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Sarcoma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18576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esticular cancer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18576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Neuroendocrine tumour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18576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Head And Neck Tumou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 Narrow"/>
              </a:rPr>
              <a:t>Criteria for expert groups to develop specific indicators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evelop tumour specific indicators for CoE on specific rare tumours preferably based on guidelin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ll experts involved in diagnostics and treatment for specific tumour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athology, medical oncology, surgery, radiotherapy, patient advocacy group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58" name="Afbeelding 3" descr=""/>
          <p:cNvPicPr/>
          <p:nvPr/>
        </p:nvPicPr>
        <p:blipFill>
          <a:blip r:embed="rId1"/>
          <a:stretch/>
        </p:blipFill>
        <p:spPr>
          <a:xfrm>
            <a:off x="3780000" y="2421000"/>
            <a:ext cx="12855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 Narrow"/>
              </a:rPr>
              <a:t>Objectives of meeting today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1. A list of the </a:t>
            </a: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main issues per tumour site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2. The </a:t>
            </a: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way forward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to come to indicato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6697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 Narrow"/>
              </a:rPr>
              <a:t>1. A list of the </a:t>
            </a:r>
            <a:r>
              <a:rPr b="1" lang="en-GB" sz="3200" spc="-1" strike="noStrike">
                <a:solidFill>
                  <a:srgbClr val="003366"/>
                </a:solidFill>
                <a:latin typeface="Arial Narrow"/>
              </a:rPr>
              <a:t>main</a:t>
            </a:r>
            <a:r>
              <a:rPr b="1" lang="nl-NL" sz="3200" spc="-1" strike="noStrike">
                <a:solidFill>
                  <a:srgbClr val="003366"/>
                </a:solidFill>
                <a:latin typeface="Arial Narrow"/>
              </a:rPr>
              <a:t> issues per tumor site 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4000" y="1125360"/>
            <a:ext cx="87120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ocument circulated with proposa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resentation of key-note 20-25 minut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What is very important for this specific cancer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re there disparities to be expected between hospitals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an we identify centres of excellence with main issues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re there main issues lacking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How is the view of the patient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roposal of most important issues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68407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 Narrow"/>
              </a:rPr>
              <a:t>2. The way forward </a:t>
            </a:r>
            <a:r>
              <a:rPr b="1" lang="en-GB" sz="3200" spc="-1" strike="noStrike">
                <a:solidFill>
                  <a:srgbClr val="003366"/>
                </a:solidFill>
                <a:latin typeface="Arial Narrow"/>
              </a:rPr>
              <a:t>to come to indicators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ntinuation of todays meeting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High detailed analysi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llaboration with other parties for dissemination of result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ORTC/OECI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ole of scientific society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ole of patient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Who else should be involved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Questions and suggestion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66" name="Picture 2" descr="http://marketingepic.com/sites/marketingepic.com/files/Question-Mark.jpg"/>
          <p:cNvPicPr/>
          <p:nvPr/>
        </p:nvPicPr>
        <p:blipFill>
          <a:blip r:embed="rId1"/>
          <a:stretch/>
        </p:blipFill>
        <p:spPr>
          <a:xfrm>
            <a:off x="1979640" y="1341360"/>
            <a:ext cx="52084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Work Package 5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im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3556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o identify the qualification criteria for centres Centres of Expertise (CoE) for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eliverable (No: 7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eport identifying criteria indicating the level/quality of expertise for rare cancers managemen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Milestone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ileston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nsensus’ meeting on criteria CoE (today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 protocol for the high resolution study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ata collection (cancer registries) and analysi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eeting to discuss the result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Final dissemination meeting with experts held/report &gt; spring 2014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 Narrow"/>
              </a:rPr>
              <a:t>How?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26920" y="1341360"/>
            <a:ext cx="77011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with a wide consensus proces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35880" indent="-3358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high resolution studie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35880" indent="-3358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feedback/discussion on the result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ogether with partners, collaborators, clinicians, patients, scientific societies, health authoriti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7" name="PIJL-OMLAAG 3"/>
          <p:cNvSpPr/>
          <p:nvPr/>
        </p:nvSpPr>
        <p:spPr>
          <a:xfrm>
            <a:off x="4335480" y="3429000"/>
            <a:ext cx="809640" cy="116532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 Narrow"/>
              </a:rPr>
              <a:t>High 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resolution study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77560" y="1380960"/>
            <a:ext cx="86151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Study with detailed data on i.e. stage and treatmen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nswering more in depth question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ore than the “general” epidemiological / public health study questions (incidence, mortality, survival, prevalence)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ossible already gathered in the cancer registry or available but still needs to be registered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Partners WP5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3" marL="161640" indent="-16164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ssociated partner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INT, ISS, UEDIN, ECPC,  NOH, NCR, CSF, OILJ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61640" indent="-1587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llaborating partners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CE (Rare cancers Europe), EPAAC, ESSO,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SO, INSERM (Orphanet), Centre of Leon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Bernard, ESMO, LeukaNet, ECCO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xperts (clinicians and patient groups) for selected tumour types!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Afbeelding 2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888000" cy="5249880"/>
          </a:xfrm>
          <a:prstGeom prst="rect">
            <a:avLst/>
          </a:prstGeom>
          <a:ln w="0">
            <a:noFill/>
          </a:ln>
        </p:spPr>
      </p:pic>
      <p:sp>
        <p:nvSpPr>
          <p:cNvPr id="143" name="Tekstvak 5"/>
          <p:cNvSpPr/>
          <p:nvPr/>
        </p:nvSpPr>
        <p:spPr>
          <a:xfrm>
            <a:off x="3924360" y="54435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66"/>
                </a:solidFill>
                <a:latin typeface="Arial"/>
              </a:rPr>
              <a:t>YOU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 Narrow"/>
              </a:rPr>
              <a:t>Criteria 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for</a:t>
            </a:r>
            <a:r>
              <a:rPr b="1" lang="nl-NL" sz="3600" spc="-1" strike="noStrike">
                <a:solidFill>
                  <a:srgbClr val="003366"/>
                </a:solidFill>
                <a:latin typeface="Arial Narrow"/>
              </a:rPr>
              <a:t> Co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66"/>
                </a:solidFill>
                <a:latin typeface="Arial Narrow"/>
              </a:rPr>
              <a:t>General criteria &gt; </a:t>
            </a:r>
            <a:r>
              <a:rPr b="0" lang="en-GB" sz="3600" spc="-1" strike="noStrike">
                <a:solidFill>
                  <a:srgbClr val="003366"/>
                </a:solidFill>
                <a:latin typeface="Arial Narrow"/>
              </a:rPr>
              <a:t>all rare tumour types</a:t>
            </a:r>
            <a:endParaRPr b="0" lang="en-US" sz="3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Arial Narrow"/>
              </a:rPr>
              <a:t>Specific criteria &gt; selection of tumour types</a:t>
            </a:r>
            <a:endParaRPr b="0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General criteria for Co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83977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General criteria for CoE on all rare diseases availabl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European Union Committee of Experts of rare diseases (EUCERD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ultidisciplinary scientific society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atient organization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olicy mak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12:06Z</dcterms:created>
  <dc:creator>Roberto Rizzo</dc:creator>
  <dc:description/>
  <dc:language>en-US</dc:language>
  <cp:lastModifiedBy>Graeme Heron</cp:lastModifiedBy>
  <dcterms:modified xsi:type="dcterms:W3CDTF">2013-03-28T22:31:30Z</dcterms:modified>
  <cp:revision>134</cp:revision>
  <dc:subject/>
  <dc:title>Diapositiva 1</dc:title>
</cp:coreProperties>
</file>