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6BB7-4907-4CFC-B5CC-E45929E96B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Is basis for tumour specific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C3D9-245B-4248-968E-CA51AF424507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34BC-F666-4CB5-951B-3BA87DE19D02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0179-479F-4872-A103-7F09FE1AF8F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D63A-577C-4C89-8EB0-8DC541685CD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7A30-2A02-42F2-B722-598CFD7CA3E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85D8-EF3C-43E7-ADA6-BA56DBF52F8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790F-8C2E-44F2-924A-BB119C26E75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expect WP 1 to present the general aim of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9171-DC13-4F43-A71F-E45470D36B9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5005-46BE-459C-9C28-4BE2D07A003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PC was mentioned as associated partner: that is not in the final proposal! RCE was mentioned in the colaborating partners, this was not mentioned in the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partners involved for our WP, explain their possible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F5D8-9D40-4F4F-9CAD-8497F47DF30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PC was mentioned as associated partner: that is not in the final proposal! RCE was mentioned in the colaborating partners, this was not mentioned in the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partners involved for our WP, explain their possible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92B0-9D5B-424E-93AA-6D39B7BD7CA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19E-26DC-4FAC-8E44-7F65E62E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48C-3AC5-4B42-A59D-1B4B08AA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47E-0BD7-4824-802D-6B559D27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37E-B57A-4E38-9BCD-8ADC633F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FDA-BF85-4974-AC21-4B06052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1B0-E3C7-4BA9-8C84-82D58CA9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B3B-D925-4CF4-A4F5-E0F8FE9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CD2-342B-47FC-A11D-041C0F4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66D-CF2C-40B6-9672-A135A2F8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07C3-0732-42D0-B7C2-0084F0CC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F20-AAC5-4475-9FBF-05EC24AA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A60-3FB5-4C4B-800B-46B3A4D0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66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574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9804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9FE9-5F42-48A7-9611-D0F743FB9964}" type="slidenum"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66560" y="1482840"/>
            <a:ext cx="7521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Objectives of Work Package 5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objectives for toda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66560" y="2693880"/>
            <a:ext cx="7521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formation on centres of expertise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71400" y="3500280"/>
            <a:ext cx="711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b">
            <a:noAutofit/>
          </a:bodyPr>
          <a:p>
            <a:pPr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"/>
              </a:rPr>
              <a:t>WP leader: Sabine Siesling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ossible general criteria for CoE (EUCERD):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7560" y="1380960"/>
            <a:ext cx="81817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1) the attractiveness measured through the volume of cases treated (relation to WP4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2) the capacity to produce and adhere to clinical guidelines (i.e. staging procedure and treatment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3) outcomes (i.e. surgical free margins, number of revision surgery, survival and recurrence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ossible general criteria for CoE (EUCERD):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557360"/>
            <a:ext cx="85438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4) the availability of multidisciplinary team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5) the collaboration with other centers of expertise at national and international level (also for clinical trials)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6) capacity to participate in data collection (clinical research and public health in relation to C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25440" y="1341360"/>
            <a:ext cx="835020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Only for a selection of rare cancer ty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ationa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difference in clinical management (adherence to guidelin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difference in clinical 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Geographical patterns (risk factors) and trends in incide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lready work done by other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Not extremely r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6985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Specific criteria for CoE </a:t>
            </a:r>
            <a:br>
              <a:rPr sz="3200"/>
            </a:b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and High Resolution Studie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6985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Specific criteria for CoE </a:t>
            </a:r>
            <a:br>
              <a:rPr sz="3200"/>
            </a:b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and High Resolution Studie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ur groups of rare tumours we focus on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arcoma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esticular cance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Neuroendocrine tumour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1857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ead And Neck Tumou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Criteria for expert groups to develop specific indicato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tumour specific indicators for CoE on specific rare tumours preferably based on guideli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ll experts involved in diagnostics and treatment for specific tumou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hology, medical oncology, surgery, radiotherapy, patient advocacy grou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58" name="Afbeelding 3" descr=""/>
          <p:cNvPicPr/>
          <p:nvPr/>
        </p:nvPicPr>
        <p:blipFill>
          <a:blip r:embed="rId1"/>
          <a:stretch/>
        </p:blipFill>
        <p:spPr>
          <a:xfrm>
            <a:off x="3780000" y="2421000"/>
            <a:ext cx="12855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Objectives of meeting today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1. A list of the </a:t>
            </a: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main issues per tumour site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2. The </a:t>
            </a: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way forward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to come to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697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 Narrow"/>
              </a:rPr>
              <a:t>1. A list of the </a:t>
            </a: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main</a:t>
            </a:r>
            <a:r>
              <a:rPr b="1" lang="nl-NL" sz="3200" spc="-1" strike="noStrike">
                <a:solidFill>
                  <a:srgbClr val="003366"/>
                </a:solidFill>
                <a:latin typeface="Arial Narrow"/>
              </a:rPr>
              <a:t> issues per tumor site 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1125360"/>
            <a:ext cx="8712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ocument circulated with proposa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esentation of key-note 20-25 minut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hat is very important for this specific cancer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re there disparities to be expected between hospitals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an we identify centres of excellence with main issues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re there main issues lacking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ow is the view of the patient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oposal of most important issues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6840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 Narrow"/>
              </a:rPr>
              <a:t>2. The way forward </a:t>
            </a: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to come to indicato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tinuation of todays meeting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igh detailed analy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on with other parties for dissemination of resul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ORTC/OECI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ole of scientific societ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ole of patien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ho else should be involved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Questions and suggestion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66" name="Picture 2" descr="http://marketingepic.com/sites/marketingepic.com/files/Question-Mark.jpg"/>
          <p:cNvPicPr/>
          <p:nvPr/>
        </p:nvPicPr>
        <p:blipFill>
          <a:blip r:embed="rId1"/>
          <a:stretch/>
        </p:blipFill>
        <p:spPr>
          <a:xfrm>
            <a:off x="1979640" y="1341360"/>
            <a:ext cx="52084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5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im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3556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identify the qualification criteria for centres Centres of Expertise (CoE)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liverable (No: 7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eport identifying criteria indicating the level/quality of expertise for rare cancers manage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sensus’ meeting on criteria CoE (today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 protocol for the high resolution study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ata collection (cancer registries) and analy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eeting to discuss the result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inal dissemination meeting with experts held/report &gt; spring 2014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ow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1341360"/>
            <a:ext cx="77011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ith a wide consensus proces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igh resolution studie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eedback/discussion on the resul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gether with partners, collaborators, clinicians, patients, scientific societies, health authorit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IJL-OMLAAG 3"/>
          <p:cNvSpPr/>
          <p:nvPr/>
        </p:nvSpPr>
        <p:spPr>
          <a:xfrm>
            <a:off x="4335480" y="3429000"/>
            <a:ext cx="809640" cy="11653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igh 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resolution study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7560" y="1380960"/>
            <a:ext cx="8615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tudy with detailed data on i.e. stage and 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nswering more in depth ques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ore than the “general” epidemiological / public health study questions (incidence, mortality, survival, prevalence)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ossible already gathered in the cancer registry or available but still needs to be register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artners WP5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3" marL="161640" indent="-16164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ssociated partner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T, ISS, UEDIN, ECPC,  NOH, NCR, CSF, OILJ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61640" indent="-1587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ng partner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CE (Rare cancers Europe), EPAAC, ESSO,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SO, INSERM (Orphanet), Centre of Leon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Bernard, ESMO, LeukaNet, ECCO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rts (clinicians and patient groups) for selected tumour types!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2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888000" cy="5249880"/>
          </a:xfrm>
          <a:prstGeom prst="rect">
            <a:avLst/>
          </a:prstGeom>
          <a:ln w="0">
            <a:noFill/>
          </a:ln>
        </p:spPr>
      </p:pic>
      <p:sp>
        <p:nvSpPr>
          <p:cNvPr id="143" name="Tekstvak 5"/>
          <p:cNvSpPr/>
          <p:nvPr/>
        </p:nvSpPr>
        <p:spPr>
          <a:xfrm>
            <a:off x="3924360" y="54435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66"/>
                </a:solidFill>
                <a:latin typeface="Arial"/>
              </a:rPr>
              <a:t>YOU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Criteria 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for</a:t>
            </a: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 Co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66"/>
                </a:solidFill>
                <a:latin typeface="Arial Narrow"/>
              </a:rPr>
              <a:t>General criteria &gt; </a:t>
            </a:r>
            <a:r>
              <a:rPr b="0" lang="en-GB" sz="3600" spc="-1" strike="noStrike">
                <a:solidFill>
                  <a:srgbClr val="003366"/>
                </a:solidFill>
                <a:latin typeface="Arial Narrow"/>
              </a:rPr>
              <a:t>all rare tumour types</a:t>
            </a: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Arial Narrow"/>
              </a:rPr>
              <a:t>Specific criteria &gt; selection of tumour types</a:t>
            </a: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General criteria for Co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83977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General criteria for CoE on all rare diseases availabl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European Union Committee of Experts of rare diseases (EUCERD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ultidisciplinary scientific societ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ient organiza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olicy mak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Graeme Heron</cp:lastModifiedBy>
  <dcterms:modified xsi:type="dcterms:W3CDTF">2013-03-28T22:31:30Z</dcterms:modified>
  <cp:revision>134</cp:revision>
  <dc:subject/>
  <dc:title>Diapositiva 1</dc:title>
</cp:coreProperties>
</file>