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39214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884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084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3476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084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3476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26920" y="2599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4884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26920" y="39214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4884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8084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3476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2692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8084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3476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26920" y="2599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4884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26920" y="39214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4884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8084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34760" y="155736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2692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48084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34760" y="392148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26920" y="2599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48840" y="392148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8840" y="155736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92148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675560" y="6278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17.01.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4788000" y="6278400"/>
            <a:ext cx="17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aarit Lein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10"/>
          <p:cNvGraphicFramePr/>
          <p:nvPr/>
        </p:nvGraphicFramePr>
        <p:xfrm>
          <a:off x="539640" y="5661000"/>
          <a:ext cx="8604360" cy="4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5661000"/>
                    <a:ext cx="8604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" name="Object 11"/>
          <p:cNvGraphicFramePr/>
          <p:nvPr/>
        </p:nvGraphicFramePr>
        <p:xfrm>
          <a:off x="0" y="0"/>
          <a:ext cx="539640" cy="58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3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" name="Object 12"/>
          <p:cNvGraphicFramePr/>
          <p:nvPr/>
        </p:nvGraphicFramePr>
        <p:xfrm>
          <a:off x="0" y="5661000"/>
          <a:ext cx="539640" cy="4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661000"/>
                    <a:ext cx="539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7" descr="Web image"/>
          <p:cNvPicPr/>
          <p:nvPr/>
        </p:nvPicPr>
        <p:blipFill>
          <a:blip r:embed="rId9"/>
          <a:stretch/>
        </p:blipFill>
        <p:spPr>
          <a:xfrm>
            <a:off x="395280" y="6165720"/>
            <a:ext cx="316872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69800" y="6278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14.08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788000" y="6278400"/>
            <a:ext cx="17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tunimi Sukuni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539640" y="5661000"/>
          <a:ext cx="8604360" cy="4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5661000"/>
                    <a:ext cx="8604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5"/>
          <p:cNvGraphicFramePr/>
          <p:nvPr/>
        </p:nvGraphicFramePr>
        <p:xfrm>
          <a:off x="0" y="0"/>
          <a:ext cx="539640" cy="58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3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6"/>
          <p:cNvGraphicFramePr/>
          <p:nvPr/>
        </p:nvGraphicFramePr>
        <p:xfrm>
          <a:off x="0" y="5661000"/>
          <a:ext cx="539640" cy="4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661000"/>
                    <a:ext cx="539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Web image"/>
          <p:cNvPicPr/>
          <p:nvPr/>
        </p:nvPicPr>
        <p:blipFill>
          <a:blip r:embed="rId9"/>
          <a:stretch/>
        </p:blipFill>
        <p:spPr>
          <a:xfrm>
            <a:off x="395280" y="6165720"/>
            <a:ext cx="316872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9"/>
          <p:cNvGraphicFramePr/>
          <p:nvPr/>
        </p:nvGraphicFramePr>
        <p:xfrm>
          <a:off x="0" y="0"/>
          <a:ext cx="539640" cy="587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3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"/>
          <p:cNvGraphicFramePr/>
          <p:nvPr/>
        </p:nvGraphicFramePr>
        <p:xfrm>
          <a:off x="539640" y="5661000"/>
          <a:ext cx="860436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5661000"/>
                    <a:ext cx="8604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1"/>
          <p:cNvGraphicFramePr/>
          <p:nvPr/>
        </p:nvGraphicFramePr>
        <p:xfrm>
          <a:off x="0" y="5661000"/>
          <a:ext cx="539640" cy="4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661000"/>
                    <a:ext cx="539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26"/>
          <p:cNvSpPr/>
          <p:nvPr/>
        </p:nvSpPr>
        <p:spPr>
          <a:xfrm>
            <a:off x="7675560" y="6278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17.01.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0" descr="Web image"/>
          <p:cNvPicPr/>
          <p:nvPr/>
        </p:nvPicPr>
        <p:blipFill>
          <a:blip r:embed="rId8"/>
          <a:stretch/>
        </p:blipFill>
        <p:spPr>
          <a:xfrm>
            <a:off x="395280" y="6165720"/>
            <a:ext cx="316872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louhivesi"/>
          <p:cNvPicPr/>
          <p:nvPr/>
        </p:nvPicPr>
        <p:blipFill>
          <a:blip r:embed="rId9"/>
          <a:stretch/>
        </p:blipFill>
        <p:spPr>
          <a:xfrm>
            <a:off x="539640" y="476280"/>
            <a:ext cx="8604360" cy="4844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28036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RECARENet project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-resolution study in the Finnish Cancer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00000" y="4076640"/>
            <a:ext cx="73440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 Narrow"/>
              </a:rPr>
              <a:t>Maarit Lein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 Narrow"/>
              </a:rPr>
              <a:t>Chief 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 Narrow"/>
              </a:rPr>
              <a:t>Finnish Cancer Registry, Helsin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0" y="0"/>
          <a:ext cx="52848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2848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blems in piloting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; fixed number in others than GEPNET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Gender; by protocol 0=female, 1=male but in ACCESS 1 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th digit of morphology code? Only 5 digits in the F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GEPNET, well-differentiated functioning endocrine tumour of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ncreas (8152/3), preferred morphology 8240/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urgery, resection, chemo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-by protocol generally 0=no, 1=yes but in ACCESS 0, 1 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troperitoneal lymph node dissection (testis) –missing from the protocol, values 0, 1 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71680" y="1267920"/>
            <a:ext cx="86040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arallel public and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cer treatments in the first line mainly in public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 hospital districts + Å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pulation range from 28 500 to ~1.6 million inhabi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shall organize and provide special care for inhabi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central hospital and local hospitals within th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university hospital distr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pulation about a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most demanding special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2"/>
          <p:cNvSpPr/>
          <p:nvPr/>
        </p:nvSpPr>
        <p:spPr>
          <a:xfrm>
            <a:off x="61128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nish Health C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71680" y="1267920"/>
            <a:ext cx="86040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itute for Statistical and Epidemiological Canc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 of the Cancer Society of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cer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pulation-based and nationwid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owned by the National Institute for Health and Welf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ncludes 2 mass screening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, refine, control quality, provide services, del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nel about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2"/>
          <p:cNvSpPr/>
          <p:nvPr/>
        </p:nvSpPr>
        <p:spPr>
          <a:xfrm>
            <a:off x="61128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nish Cancer Registry (F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6240" y="1197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ed in 1952 by Cancer Society of Finland (C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Health’s official statistics (T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entirely by CSF till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iously 50% funding for 'routine' registration by RAY (not-for-profit gambling company in Fin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11 state budget - Ministry - THL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13 about 50% funding also for the Mass Screening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2"/>
          <p:cNvSpPr/>
          <p:nvPr/>
        </p:nvSpPr>
        <p:spPr>
          <a:xfrm>
            <a:off x="61128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33320" y="1196640"/>
            <a:ext cx="777240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 on the National Institute for Health and Welfare (T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Institution must evaluate and follow population health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fare, risk factors, preventio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Institution must maintain registers and produce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 on National Health Car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data is conf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THL can give permission to us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Data utilization must fol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al Data Act, Act on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 and Rights of Patients, Medical Research Act, Act on the Medical Use of Human Organs and Tissues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2"/>
          <p:cNvSpPr/>
          <p:nvPr/>
        </p:nvSpPr>
        <p:spPr>
          <a:xfrm>
            <a:off x="61128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6240" y="1197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ive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ifications obligatory since 1961 (special legis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ifications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hysicians,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ath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mass screen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cer data is collected and compiled in the F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ree registration clerks and three registration assistan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2"/>
          <p:cNvSpPr/>
          <p:nvPr/>
        </p:nvSpPr>
        <p:spPr>
          <a:xfrm>
            <a:off x="61128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6240" y="1197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CR ow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routine variables (ID, date of birth, date of diagnosis, topo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fo, own stage variable, death, emi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dditional information collected, saved but not coded (e.g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pital of diagnosis, hospital of tretament, chemotherap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mens, irradiation dose, T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e Registers for Health Care (hospital discharge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data on all hospitalization and treatments given for ra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cer pati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ICD-10 code of cancer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tient records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full PAD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more detailed data on different treatments, order of treatments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 of hospital giving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2"/>
          <p:cNvSpPr/>
          <p:nvPr/>
        </p:nvSpPr>
        <p:spPr>
          <a:xfrm>
            <a:off x="61128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539640" y="1675080"/>
            <a:ext cx="860436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access to tabulated data (upon request, data provision only after acceptance by Chief Medical Offic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 level data can only be used for statistics or research (with permission from THL), not e.g. for decision making for a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good legal basis (special legis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 research (incl. linkages to other regis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aboration with outside groups (agreement on research co-operation and maintenance of the personal data file re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 in design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2"/>
          <p:cNvSpPr/>
          <p:nvPr/>
        </p:nvSpPr>
        <p:spPr>
          <a:xfrm>
            <a:off x="611280" y="115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4000" y="1487160"/>
            <a:ext cx="845964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cancer diagnoses 30 000 + 15 000 basali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nical notifications: 3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745 sources of which e-notifications  only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notifications: 98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pprox. sources 45 of which e-notifications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th certificates: 20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ancer deaths 11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% follow-up for population data (death, emigration) through Population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base contains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.2M c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ers (1M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patients), completeness &gt; 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0" y="0"/>
          <a:ext cx="52704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527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"/>
          <p:cNvSpPr/>
          <p:nvPr/>
        </p:nvSpPr>
        <p:spPr>
          <a:xfrm>
            <a:off x="684360" y="98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CR statistics from year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8:00:36Z</dcterms:created>
  <dc:creator>JohannaF</dc:creator>
  <dc:description/>
  <dc:language>en-US</dc:language>
  <cp:lastModifiedBy>Chris Matthews</cp:lastModifiedBy>
  <dcterms:modified xsi:type="dcterms:W3CDTF">2014-08-04T11:19:56Z</dcterms:modified>
  <cp:revision>184</cp:revision>
  <dc:subject/>
  <dc:title>Dia 1</dc:title>
</cp:coreProperties>
</file>