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874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5592240" y="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559224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779D-5866-4684-831F-52235A89D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FD0-52FD-48F2-B2A6-F85CB33D822D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0AC0-4970-45BD-BA4E-24E3EF4F29D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54AB-F11B-46AB-B0B7-FA7D965205C5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9CA6-AEF4-4EA1-9C34-AA63681414C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FA03-AC78-4B5A-A56B-25F41EB093B1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2010-B3A8-4048-AAB1-9E63C04E562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D47-4071-4E6A-8A13-494AB4E0B9C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A159-F41D-4EB1-95D0-5F460C06D69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ACA8-A0B0-48B4-8FDD-A7C450E3C5A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C3D8-38D8-4465-96B8-49F4CEA9C88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73CB-4B27-46B6-A17D-9222A9929F4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3236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87120" y="3228840"/>
            <a:ext cx="789948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5592600" y="6456240"/>
            <a:ext cx="42800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006E-28E9-4E38-AF60-106154A70AA6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AD5-696E-4889-9FAF-D1550F61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A41-33C0-4474-9853-5ACE6469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86D-ED06-4510-9556-8CEC3BE1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78F-1300-41CC-97F3-80972287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59E-01BC-4782-BC80-91A803E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676-75CE-4FFA-82EE-B1B9C717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947-EEEA-4831-9870-C7934417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A6F-E11C-4A46-89E2-942D03E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F26-81FD-4655-AEC6-16B39FDD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FE9-FDCC-45C6-95CC-2CD204FF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2BA-651C-4F90-B855-ABC1C9F0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B81-EEA2-42B0-81AC-128834E9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7E4-434F-467C-80BE-6EA98E14314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eu_logo"/>
          <p:cNvPicPr/>
          <p:nvPr/>
        </p:nvPicPr>
        <p:blipFill>
          <a:blip r:embed="rId3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 2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07920" y="2205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Dissemination of the projec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65000" y="692280"/>
            <a:ext cx="75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66"/>
                </a:solidFill>
                <a:latin typeface="Arial Narrow"/>
              </a:rPr>
              <a:t>RARECARENe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765000" y="3357720"/>
            <a:ext cx="755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Aidan Hutchison </a:t>
            </a:r>
            <a:r>
              <a:rPr b="1" i="1" lang="en-GB" sz="2800" spc="-1" strike="noStrike">
                <a:solidFill>
                  <a:srgbClr val="003366"/>
                </a:solidFill>
                <a:latin typeface="Arial Narrow"/>
              </a:rPr>
              <a:t>on behalf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Professor Ian Kunk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65000" y="4565520"/>
            <a:ext cx="75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</a:rPr>
              <a:t>University of Edinburg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Data Association Too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nalysis too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344680" y="1557360"/>
            <a:ext cx="4425840" cy="987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/>
          <p:cNvSpPr/>
          <p:nvPr/>
        </p:nvSpPr>
        <p:spPr>
          <a:xfrm>
            <a:off x="2344680" y="26989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3366"/>
                </a:solidFill>
                <a:latin typeface="Arial"/>
              </a:rPr>
              <a:t>http://surveillance.cancer.gov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2268360" y="3006720"/>
            <a:ext cx="4991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Social networking websites are a family of formats used to publish frequently updated work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Facebook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Twitte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SS feed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Used to give ‘stickiness’ to websites or projec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dding content &amp; responding are burdensom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o will author output and RARECAREnet timely responses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ealing with queries from pati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Alternative to social networking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ARECARENet web site where people can sign up to receive emails abou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Regular newsletter with input from each work packag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nnounc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n area of the web site that allows users to respond to items in the newsletter or announc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280" y="274680"/>
            <a:ext cx="6491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Knowledge System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brary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rea for each WP in web sit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mmunal area that pulls data togethe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formed patients make informed choice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 Narrow"/>
              </a:rPr>
              <a:t>http://www.cmlsupport.org.uk/about</a:t>
            </a: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ata considera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User requiremen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linical databas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at data do you want to collect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atient identifiable information – permission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crease confidentiality – decrease integrity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How do I know if a patient has been added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formation system – the sum of all its par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Clinical database / disease registr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What would you like?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ase ascertainmen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Cross-sectional (i.e. one point in time)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Follow-up (how often)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What sorts of data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Demographic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Clinical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Pathological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Radiographic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etc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website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unused/partially developed func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otential new function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New projec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Our initial proposal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But we need your feedback!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tle 2"/>
          <p:cNvSpPr/>
          <p:nvPr/>
        </p:nvSpPr>
        <p:spPr>
          <a:xfrm>
            <a:off x="2268360" y="260280"/>
            <a:ext cx="6645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Remit :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Placeholder 1"/>
          <p:cNvSpPr/>
          <p:nvPr/>
        </p:nvSpPr>
        <p:spPr>
          <a:xfrm>
            <a:off x="468360" y="1341360"/>
            <a:ext cx="82296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Objectives and deliverables for WP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How to improve the web-site to reach the different stakeholders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Provide user friendly statistics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Search for clinical guidelin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Discussion of other means of dissemin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Development of a clinical database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Objectives and deliverable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evelopment of web-based platform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vering guidelines and info on rare cancers, centres of excellence, patient organisations,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pidemiological data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Include social media (Twitter, Facebook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Facilitate collaboration with parties inside/outside RARECAREnet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nk with EUCERD,EPAAC,EAARC, START,ESO and ECPC website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Milestones WP2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7786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Consensus on improvement of website (M4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Dissemination plan including publications (M24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List of scientific meetings for project results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    </a:t>
            </a: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(M28)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le 2"/>
          <p:cNvSpPr/>
          <p:nvPr/>
        </p:nvSpPr>
        <p:spPr>
          <a:xfrm>
            <a:off x="2268360" y="260280"/>
            <a:ext cx="6645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Topic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RARECARE webs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Existing unused/partially developed fun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Potential new func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New RARECARENet proj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Alternatives to www for dissemin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Narrow"/>
              </a:rPr>
              <a:t>Our initial propos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6553440" cy="5589720"/>
          </a:xfrm>
          <a:prstGeom prst="rect">
            <a:avLst/>
          </a:prstGeom>
          <a:ln w="0">
            <a:noFill/>
          </a:ln>
        </p:spPr>
      </p:pic>
      <p:sp>
        <p:nvSpPr>
          <p:cNvPr id="139" name="TextBox 7"/>
          <p:cNvSpPr/>
          <p:nvPr/>
        </p:nvSpPr>
        <p:spPr>
          <a:xfrm>
            <a:off x="162000" y="1405080"/>
            <a:ext cx="203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Unclutte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lear men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News bann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ulti-lingu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561960" y="812880"/>
            <a:ext cx="8020080" cy="6000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Calibri"/>
              </a:rPr>
              <a:t>Large volumes of data can be download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earch tool – in developmen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2195640" y="817560"/>
            <a:ext cx="596880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 Narrow"/>
              </a:rPr>
              <a:t>Search Tool Result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cp:lastPrinted>2012-07-05T11:55:52Z</cp:lastPrinted>
  <dcterms:modified xsi:type="dcterms:W3CDTF">2012-07-19T15:40:29Z</dcterms:modified>
  <cp:revision>211</cp:revision>
  <dc:subject/>
  <dc:title>Diapositiva 1</dc:title>
</cp:coreProperties>
</file>