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874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559224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559224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E9E6-228D-49CF-97E0-367366A33E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896D-88D1-4C86-9781-D213A3EC465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A1F7-D896-404F-869E-127A56C5F95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FB52-8CDD-432F-9310-E1C3CB5ECC2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C503-0159-4AB5-B6F2-CC973236E6F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98B-326F-4E27-9AA6-531516FF0CD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F49-1AF8-4BE1-951E-90CB2D9C50A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6E29-8550-4A48-BF54-1F6B1BB2BED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51F-99EE-4121-B38F-645833244EE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53ED-3889-4084-BB63-264A5ED1FBD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238A-55AE-4362-9701-A7595F2DF46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3987-D7BA-4F12-A98C-2F13F88BC850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B671-DB30-4469-81E0-5715EBD38F1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65C-BBCD-4EB9-91AD-2D520DF7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1F4-4D1D-4EA3-9B89-0D68B0B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DB2-E6A4-4270-A00F-E259CC52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594-0B00-460F-AB70-485DABE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F13-17D0-403E-8AC6-988CC0F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274-CBD5-4310-87B0-852F3FA6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9FF-10FF-49D0-9943-1124200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F34-C7BE-4DCE-9754-9568756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004-87F7-4010-A19E-854AF41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CAA-8B4E-4CA6-A457-39DF736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C41-5A82-45E4-B665-41CA4D93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E38-76A9-4581-A8CB-57C12407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659-8094-48CB-A6ED-8D2CEC873E2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eu_logo"/>
          <p:cNvPicPr/>
          <p:nvPr/>
        </p:nvPicPr>
        <p:blipFill>
          <a:blip r:embed="rId3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2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0792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Dissemination of the projec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65000" y="692280"/>
            <a:ext cx="75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 Narrow"/>
              </a:rPr>
              <a:t>RARECARENe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000" y="3357720"/>
            <a:ext cx="755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Aidan Hutchison </a:t>
            </a:r>
            <a:r>
              <a:rPr b="1" i="1" lang="en-GB" sz="2800" spc="-1" strike="noStrike">
                <a:solidFill>
                  <a:srgbClr val="003366"/>
                </a:solidFill>
                <a:latin typeface="Arial Narrow"/>
              </a:rPr>
              <a:t>on behalf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Professor Ian Kunk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65000" y="4565520"/>
            <a:ext cx="75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University of 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Data Association Too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nalysis too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344680" y="1557360"/>
            <a:ext cx="4425840" cy="987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2344680" y="26989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http://surveillance.cancer.gov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2268360" y="3006720"/>
            <a:ext cx="4991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Social networking websites are a family of formats used to publish frequently updated work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Facebook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Twitte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SS feed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Used to give ‘stickiness’ to websites or projec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dding content &amp; responding are burdensom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o will author output and RARECAREnet timely responses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ealing with queries from pati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lternative to social networking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ARECARENet web site where people can sign up to receive emails abou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egular newsletter with input from each work packag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nnounc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n area of the web site that allows users to respond to items in the newsletter or announc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280" y="27468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Knowledge System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brary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rea for each WP in web sit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mmunal area that pulls data togethe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formed patients make informed choice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http://www.cmlsupport.org.uk/about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ata considera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User requir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linical databas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at data do you want to collect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atient identifiable information – permission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crease confidentiality – decrease integrity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ow do I know if a patient has been add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formation system – the sum of all its par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linical database / disease registr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at would you like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se ascertainmen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ross-sectional (i.e. one point in time)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 (how often)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at sorts of data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Demographic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Clinical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Pathological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Radiographic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tc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websit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unused/partially developed func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otential new func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New projec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Our initial proposal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But we need your feedback!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2"/>
          <p:cNvSpPr/>
          <p:nvPr/>
        </p:nvSpPr>
        <p:spPr>
          <a:xfrm>
            <a:off x="2268360" y="260280"/>
            <a:ext cx="6645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Remit 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Placeholder 1"/>
          <p:cNvSpPr/>
          <p:nvPr/>
        </p:nvSpPr>
        <p:spPr>
          <a:xfrm>
            <a:off x="468360" y="1341360"/>
            <a:ext cx="82296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Objectives and deliverables for WP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How to improve the web-site to reach the different stakeholders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Provide user friendly statistics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Search for clinical guidelin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Discussion of other means of dissemin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Development of a clinical database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and deliverab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evelopment of web-based platform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vering guidelines and info on rare cancers, centres of excellence, patient organisations,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pidemiological data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clude social media (Twitter, Facebook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Facilitate collaboration with parties inside/outside RARECAREne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nk with EUCERD,EPAAC,EAARC, START,ESO and ECPC website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 WP2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786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nsensus on improvement of website (M4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issemination plan including publications (M24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st of scientific meetings for project resul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(M28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le 2"/>
          <p:cNvSpPr/>
          <p:nvPr/>
        </p:nvSpPr>
        <p:spPr>
          <a:xfrm>
            <a:off x="2268360" y="260280"/>
            <a:ext cx="6645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Topic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RARECARE webs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unused/partially developed fun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otential new fun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New RARECARENet proj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Our initial propos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655344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162000" y="1405080"/>
            <a:ext cx="203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nclutte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lear men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News bann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561960" y="812880"/>
            <a:ext cx="8020080" cy="6000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alibri"/>
              </a:rPr>
              <a:t>Large volumes of data can be download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earch tool – in developmen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195640" y="817560"/>
            <a:ext cx="5968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earch Tool Result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cp:lastPrinted>2012-07-05T11:55:52Z</cp:lastPrinted>
  <dcterms:modified xsi:type="dcterms:W3CDTF">2012-07-19T15:40:29Z</dcterms:modified>
  <cp:revision>211</cp:revision>
  <dc:subject/>
  <dc:title>Diapositiva 1</dc:title>
</cp:coreProperties>
</file>