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144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1"/>
          </p:nvPr>
        </p:nvSpPr>
        <p:spPr>
          <a:xfrm>
            <a:off x="3765600" y="0"/>
            <a:ext cx="288144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879480" y="732960"/>
            <a:ext cx="48895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 Narrow"/>
              </a:rPr>
              <a:t>Click to move the slide</a:t>
            </a: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65280" y="4646520"/>
            <a:ext cx="5317920" cy="44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2"/>
          </p:nvPr>
        </p:nvSpPr>
        <p:spPr>
          <a:xfrm>
            <a:off x="0" y="9291600"/>
            <a:ext cx="288144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3"/>
          </p:nvPr>
        </p:nvSpPr>
        <p:spPr>
          <a:xfrm>
            <a:off x="3765600" y="9291600"/>
            <a:ext cx="288144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AEB25-4C01-4D42-BEB9-830EFE1E935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879480" y="733320"/>
            <a:ext cx="4889520" cy="366876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65280" y="4646520"/>
            <a:ext cx="531792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egnaposto numero diapositiva 3"/>
          <p:cNvSpPr/>
          <p:nvPr/>
        </p:nvSpPr>
        <p:spPr>
          <a:xfrm>
            <a:off x="3765600" y="9291600"/>
            <a:ext cx="28814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26023-981F-4230-9882-33F864716277}" type="slidenum">
              <a:rPr b="0" lang="en-GB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879480" y="733320"/>
            <a:ext cx="4889520" cy="366876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65280" y="4646520"/>
            <a:ext cx="531792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egnaposto numero diapositiva 3"/>
          <p:cNvSpPr/>
          <p:nvPr/>
        </p:nvSpPr>
        <p:spPr>
          <a:xfrm>
            <a:off x="3765600" y="9291600"/>
            <a:ext cx="28814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10614-3994-4D57-A48E-BC8C688E6857}" type="slidenum">
              <a:rPr b="0" lang="en-GB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hyperlink" Target="http://images.google.it/imgres?imgurl=http://www.nanonord.dk/images/eu_logo.jpg&amp;imgrefurl=http://cdv.altrove.it/2007_11_01_archive.html&amp;h=284&amp;w=426&amp;sz=11&amp;hl=it&amp;start=8&amp;usg=__yUfhwimJm_NX6EYSntE6HhkfIiQ=&amp;tbnid=xx1uKZukoCCTsM:&amp;tbnh=84&amp;tbnw=126&amp;prev=/images?q=commissione+europea&amp;gbv=2&amp;hl=it&amp;sa=G" TargetMode="External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tretch/>
        </p:blipFill>
        <p:spPr>
          <a:xfrm>
            <a:off x="179280" y="260280"/>
            <a:ext cx="1901880" cy="765360"/>
          </a:xfrm>
          <a:prstGeom prst="rect">
            <a:avLst/>
          </a:prstGeom>
          <a:ln w="0">
            <a:noFill/>
          </a:ln>
        </p:spPr>
      </p:pic>
      <p:pic>
        <p:nvPicPr>
          <p:cNvPr id="1" name="Immagine 9" descr=""/>
          <p:cNvPicPr/>
          <p:nvPr/>
        </p:nvPicPr>
        <p:blipFill>
          <a:blip r:embed="rId3">
            <a:lum bright="-18000"/>
          </a:blip>
          <a:stretch/>
        </p:blipFill>
        <p:spPr>
          <a:xfrm>
            <a:off x="0" y="6035760"/>
            <a:ext cx="9144000" cy="836640"/>
          </a:xfrm>
          <a:prstGeom prst="rect">
            <a:avLst/>
          </a:prstGeom>
          <a:ln w="0">
            <a:noFill/>
          </a:ln>
        </p:spPr>
      </p:pic>
      <p:sp>
        <p:nvSpPr>
          <p:cNvPr id="2" name="Text Box 4"/>
          <p:cNvSpPr/>
          <p:nvPr/>
        </p:nvSpPr>
        <p:spPr>
          <a:xfrm>
            <a:off x="5346720" y="6496200"/>
            <a:ext cx="3797280" cy="361800"/>
          </a:xfrm>
          <a:prstGeom prst="rect">
            <a:avLst/>
          </a:pr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Information network on rare cancer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2" descr=""/>
          <p:cNvPicPr/>
          <p:nvPr/>
        </p:nvPicPr>
        <p:blipFill>
          <a:blip r:embed="rId2"/>
          <a:stretch/>
        </p:blipFill>
        <p:spPr>
          <a:xfrm>
            <a:off x="179280" y="260280"/>
            <a:ext cx="1901880" cy="765360"/>
          </a:xfrm>
          <a:prstGeom prst="rect">
            <a:avLst/>
          </a:prstGeom>
          <a:ln w="0">
            <a:noFill/>
          </a:ln>
        </p:spPr>
      </p:pic>
      <p:pic>
        <p:nvPicPr>
          <p:cNvPr id="40" name="Immagine 9" descr=""/>
          <p:cNvPicPr/>
          <p:nvPr/>
        </p:nvPicPr>
        <p:blipFill>
          <a:blip r:embed="rId3">
            <a:lum bright="-18000"/>
          </a:blip>
          <a:stretch/>
        </p:blipFill>
        <p:spPr>
          <a:xfrm>
            <a:off x="0" y="6035760"/>
            <a:ext cx="9144000" cy="836640"/>
          </a:xfrm>
          <a:prstGeom prst="rect">
            <a:avLst/>
          </a:prstGeom>
          <a:ln w="0">
            <a:noFill/>
          </a:ln>
        </p:spPr>
      </p:pic>
      <p:sp>
        <p:nvSpPr>
          <p:cNvPr id="41" name="Text Box 4"/>
          <p:cNvSpPr/>
          <p:nvPr/>
        </p:nvSpPr>
        <p:spPr>
          <a:xfrm>
            <a:off x="5346720" y="6496200"/>
            <a:ext cx="3797280" cy="361800"/>
          </a:xfrm>
          <a:prstGeom prst="rect">
            <a:avLst/>
          </a:pr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Information network on rare cancer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42" name="Picture 3" descr=""/>
          <p:cNvPicPr/>
          <p:nvPr/>
        </p:nvPicPr>
        <p:blipFill>
          <a:blip r:embed="rId4"/>
          <a:stretch/>
        </p:blipFill>
        <p:spPr>
          <a:xfrm>
            <a:off x="1187280" y="5964120"/>
            <a:ext cx="7956720" cy="9082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9" descr="eu_logo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5964120"/>
            <a:ext cx="1187280" cy="908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4360" y="76464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3366"/>
                </a:solidFill>
                <a:latin typeface="Arial Narrow"/>
              </a:rPr>
              <a:t>Work Package 4</a:t>
            </a: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795240" y="2349360"/>
            <a:ext cx="7521840" cy="10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 Narrow"/>
              </a:rPr>
              <a:t>Information on epidemiology of rare cancer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971640" y="2997360"/>
            <a:ext cx="711036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0" tIns="0" bIns="0" anchor="b">
            <a:noAutofit/>
          </a:bodyPr>
          <a:p>
            <a:pPr algn="ctr">
              <a:lnSpc>
                <a:spcPts val="2999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3366"/>
                </a:solidFill>
                <a:latin typeface="Arial Narrow"/>
              </a:rPr>
              <a:t>Riccardo Capocaccia and  Sandra Mallone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ts val="2999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3366"/>
                </a:solidFill>
                <a:latin typeface="Arial Narrow"/>
              </a:rPr>
              <a:t>Cancer Epidemiology Unit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ts val="2999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3366"/>
                </a:solidFill>
                <a:latin typeface="Arial Narrow"/>
              </a:rPr>
              <a:t>Istituto Superiore di Sanità, Rome - Italy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324000" y="1125000"/>
            <a:ext cx="84960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2" marL="3326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 Narrow"/>
              </a:rPr>
              <a:t>Analysis -3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lvl="2"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 Narrow"/>
              </a:rPr>
              <a:t>Survival time trends</a:t>
            </a:r>
            <a:r>
              <a:rPr b="0" lang="en-US" sz="2800" spc="-1" strike="noStrike">
                <a:solidFill>
                  <a:srgbClr val="003366"/>
                </a:solidFill>
                <a:latin typeface="Arial Narrow"/>
              </a:rPr>
              <a:t> for consecutive triennia (1990 – 2007) will be estimated by using 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 Narrow"/>
              </a:rPr>
              <a:t>multiple regression models*</a:t>
            </a:r>
            <a:r>
              <a:rPr b="0" lang="en-US" sz="2800" spc="-1" strike="noStrike">
                <a:solidFill>
                  <a:srgbClr val="003366"/>
                </a:solidFill>
                <a:latin typeface="Arial Narrow"/>
              </a:rPr>
              <a:t> to assess the 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 Narrow"/>
              </a:rPr>
              <a:t>mutual effect of age, sex, country</a:t>
            </a:r>
            <a:r>
              <a:rPr b="0" lang="en-US" sz="2800" spc="-1" strike="noStrike">
                <a:solidFill>
                  <a:srgbClr val="003366"/>
                </a:solidFill>
                <a:latin typeface="Arial Narrow"/>
              </a:rPr>
              <a:t> ( and geographic area) and possibly 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 Narrow"/>
              </a:rPr>
              <a:t>stage</a:t>
            </a:r>
            <a:r>
              <a:rPr b="0" lang="en-US" sz="2800" spc="-1" strike="noStrike">
                <a:solidFill>
                  <a:srgbClr val="003366"/>
                </a:solidFill>
                <a:latin typeface="Arial Narrow"/>
              </a:rPr>
              <a:t>, on risk of death and to obtain 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 Narrow"/>
              </a:rPr>
              <a:t>relative excess risk (RER)</a:t>
            </a:r>
            <a:r>
              <a:rPr b="0" lang="en-US" sz="2800" spc="-1" strike="noStrike">
                <a:solidFill>
                  <a:srgbClr val="003366"/>
                </a:solidFill>
                <a:latin typeface="Arial Narrow"/>
              </a:rPr>
              <a:t> for categories of the same variable. RER quantify the extent to which the hazard of death in a given category differs from the hazard in the reference category, after taking into account the background risk of death in the general population. 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lvl="2" marL="33264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 Narrow"/>
              </a:rPr>
              <a:t>*Hakulinen and Dickman et al. (Hakulinen 1982, Dickman et al., 2004). </a:t>
            </a:r>
            <a:endParaRPr b="0" lang="en-US" sz="2400" spc="-1" strike="noStrike">
              <a:solidFill>
                <a:srgbClr val="003366"/>
              </a:solidFill>
              <a:latin typeface="Arial Narrow"/>
            </a:endParaRPr>
          </a:p>
          <a:p>
            <a:pPr marL="33264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07" name="Titolo 1"/>
          <p:cNvSpPr/>
          <p:nvPr/>
        </p:nvSpPr>
        <p:spPr>
          <a:xfrm>
            <a:off x="2195640" y="189000"/>
            <a:ext cx="64087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3366"/>
                </a:solidFill>
                <a:latin typeface="Arial"/>
              </a:rPr>
              <a:t>WP 4  </a:t>
            </a: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Epidemiology of rare cancer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Updated epidemiological indicators</a:t>
            </a:r>
            <a:r>
              <a:rPr b="1" lang="it-IT" sz="2800" spc="-1" strike="noStrike">
                <a:solidFill>
                  <a:srgbClr val="003366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24000" y="1196640"/>
            <a:ext cx="84960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 Narrow"/>
              </a:rPr>
              <a:t>Analysis -4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lvl="2" marL="343080" indent="-343080">
              <a:spcBef>
                <a:spcPts val="700"/>
              </a:spcBef>
              <a:buClr>
                <a:srgbClr val="003366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Estimates of observed prevalence, i.e the observed number or proportion of cancer survivors per 100,000 population will be obtained form CRs incidence and follow-up data at </a:t>
            </a:r>
            <a:r>
              <a:rPr b="0" lang="en-GB" sz="2800" spc="-1" strike="noStrike" u="sng">
                <a:solidFill>
                  <a:srgbClr val="003366"/>
                </a:solidFill>
                <a:uFillTx/>
                <a:latin typeface="Arial Narrow"/>
              </a:rPr>
              <a:t>the index date of 31 December 2008</a:t>
            </a: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, by using the counting method. Prevalence proportions will be disaggregated by cancer entity, age, sex and time since diagnosis. 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lvl="2"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The completeness index method will be used to estimate the number of prevalent cases who were diagnosed before the start of cancer registration.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lvl="2"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lvl="2"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09" name="Titolo 1"/>
          <p:cNvSpPr/>
          <p:nvPr/>
        </p:nvSpPr>
        <p:spPr>
          <a:xfrm>
            <a:off x="2195640" y="189000"/>
            <a:ext cx="64087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3366"/>
                </a:solidFill>
                <a:latin typeface="Arial"/>
              </a:rPr>
              <a:t>WP 4  </a:t>
            </a: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Epidemiology of rare cancer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Updated epidemiological indicators</a:t>
            </a:r>
            <a:r>
              <a:rPr b="1" lang="it-IT" sz="2800" spc="-1" strike="noStrike">
                <a:solidFill>
                  <a:srgbClr val="003366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324000" y="1196640"/>
            <a:ext cx="84960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 Narrow"/>
              </a:rPr>
              <a:t>Cancer registries and data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lvl="2" marL="228600">
              <a:spcAft>
                <a:spcPts val="601"/>
              </a:spcAft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Arial Narrow"/>
              </a:rPr>
              <a:t>A selection of cancer registries will send also information on the hospital of diagnosis/treatment of cancer cases.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lvl="2" marL="228600">
              <a:spcAft>
                <a:spcPts val="601"/>
              </a:spcAft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Arial Narrow"/>
              </a:rPr>
              <a:t>Participant national registries: Finland, Ireland, Bulgaria, Slovenia and Netherlands. Other registries can join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lvl="2" marL="228600">
              <a:spcAft>
                <a:spcPts val="601"/>
              </a:spcAft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Arial Narrow"/>
              </a:rPr>
              <a:t>Confidentiality problems regarding both patients and individual hospitals will be considered by shaping the published output according to the local legislation.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lvl="2" marL="228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11" name="Titolo 1"/>
          <p:cNvSpPr/>
          <p:nvPr/>
        </p:nvSpPr>
        <p:spPr>
          <a:xfrm>
            <a:off x="2195640" y="189000"/>
            <a:ext cx="694836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3366"/>
                </a:solidFill>
                <a:latin typeface="Arial"/>
              </a:rPr>
              <a:t>WP 4  </a:t>
            </a: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Epidemiology of rare cancer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Health care pathways for rare cancer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250560" y="1196640"/>
            <a:ext cx="856908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 Narrow"/>
              </a:rPr>
              <a:t>Issues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 Narrow"/>
            </a:endParaRPr>
          </a:p>
          <a:p>
            <a:pPr lvl="2" marL="636480" indent="-514080">
              <a:buClr>
                <a:srgbClr val="003366"/>
              </a:buClr>
              <a:buSzPct val="75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 Narrow"/>
              </a:rPr>
              <a:t>In which hospitals are rare cancers most frequently diagnosed/treated ?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lvl="2" marL="636480" indent="-514080">
              <a:buClr>
                <a:srgbClr val="003366"/>
              </a:buClr>
              <a:buSzPct val="75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 Narrow"/>
              </a:rPr>
              <a:t>Is there an association between hospital case volumes and (stage-adjusted) survival ?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lvl="2" marL="63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lvl="2" marL="63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 Narrow"/>
              </a:rPr>
              <a:t>Is there an impact of the differing socio economical and organizational contexts on survival across countries ?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13" name="Titolo 1"/>
          <p:cNvSpPr/>
          <p:nvPr/>
        </p:nvSpPr>
        <p:spPr>
          <a:xfrm>
            <a:off x="2195640" y="189000"/>
            <a:ext cx="694836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3366"/>
                </a:solidFill>
                <a:latin typeface="Arial"/>
              </a:rPr>
              <a:t>WP 4  </a:t>
            </a: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Epidemiology of rare cancer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Health care pathways for rare cancer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itolo 1"/>
          <p:cNvSpPr/>
          <p:nvPr/>
        </p:nvSpPr>
        <p:spPr>
          <a:xfrm>
            <a:off x="2195640" y="189000"/>
            <a:ext cx="694836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3366"/>
                </a:solidFill>
                <a:latin typeface="Arial"/>
              </a:rPr>
              <a:t>WP 4  </a:t>
            </a: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Epidemiology of rare cancer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Health care pathways for rare cancer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5" name="Tekstvak 13" descr=""/>
          <p:cNvPicPr/>
          <p:nvPr/>
        </p:nvPicPr>
        <p:blipFill>
          <a:blip r:embed="rId1"/>
          <a:stretch/>
        </p:blipFill>
        <p:spPr>
          <a:xfrm>
            <a:off x="244440" y="3687840"/>
            <a:ext cx="1986120" cy="1146240"/>
          </a:xfrm>
          <a:prstGeom prst="rect">
            <a:avLst/>
          </a:prstGeom>
          <a:ln w="0">
            <a:noFill/>
          </a:ln>
        </p:spPr>
      </p:pic>
      <p:pic>
        <p:nvPicPr>
          <p:cNvPr id="116" name="Tekstvak 16" descr=""/>
          <p:cNvPicPr/>
          <p:nvPr/>
        </p:nvPicPr>
        <p:blipFill>
          <a:blip r:embed="rId2"/>
          <a:stretch/>
        </p:blipFill>
        <p:spPr>
          <a:xfrm>
            <a:off x="4059360" y="2895480"/>
            <a:ext cx="3255840" cy="1146240"/>
          </a:xfrm>
          <a:prstGeom prst="rect">
            <a:avLst/>
          </a:prstGeom>
          <a:ln w="0">
            <a:noFill/>
          </a:ln>
        </p:spPr>
      </p:pic>
      <p:sp>
        <p:nvSpPr>
          <p:cNvPr id="117" name="PIJL-LINKS en -RECHTS 18"/>
          <p:cNvSpPr/>
          <p:nvPr/>
        </p:nvSpPr>
        <p:spPr>
          <a:xfrm rot="20408400">
            <a:off x="2556000" y="3736440"/>
            <a:ext cx="1008000" cy="223920"/>
          </a:xfrm>
          <a:prstGeom prst="leftRightArrow">
            <a:avLst>
              <a:gd name="adj1" fmla="val 50000"/>
              <a:gd name="adj2" fmla="val 49914"/>
            </a:avLst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250560" y="1196640"/>
            <a:ext cx="8569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 Narrow"/>
              </a:rPr>
              <a:t>Definition of  Centers of Expertise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pic>
        <p:nvPicPr>
          <p:cNvPr id="119" name="Tekstvak 16" descr=""/>
          <p:cNvPicPr/>
          <p:nvPr/>
        </p:nvPicPr>
        <p:blipFill>
          <a:blip r:embed="rId3"/>
          <a:stretch/>
        </p:blipFill>
        <p:spPr>
          <a:xfrm>
            <a:off x="4133880" y="4840200"/>
            <a:ext cx="3254400" cy="1146240"/>
          </a:xfrm>
          <a:prstGeom prst="rect">
            <a:avLst/>
          </a:prstGeom>
          <a:ln w="0">
            <a:noFill/>
          </a:ln>
        </p:spPr>
      </p:pic>
      <p:sp>
        <p:nvSpPr>
          <p:cNvPr id="120" name="PIJL-LINKS en -RECHTS 18"/>
          <p:cNvSpPr/>
          <p:nvPr/>
        </p:nvSpPr>
        <p:spPr>
          <a:xfrm flipV="1" rot="5400000">
            <a:off x="5417280" y="4295160"/>
            <a:ext cx="662040" cy="193680"/>
          </a:xfrm>
          <a:prstGeom prst="leftRightArrow">
            <a:avLst>
              <a:gd name="adj1" fmla="val 50000"/>
              <a:gd name="adj2" fmla="val 49770"/>
            </a:avLst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1" name="Tekstvak 13" descr=""/>
          <p:cNvPicPr/>
          <p:nvPr/>
        </p:nvPicPr>
        <p:blipFill>
          <a:blip r:embed="rId4"/>
          <a:stretch/>
        </p:blipFill>
        <p:spPr>
          <a:xfrm>
            <a:off x="1322280" y="1749600"/>
            <a:ext cx="1987560" cy="536400"/>
          </a:xfrm>
          <a:prstGeom prst="rect">
            <a:avLst/>
          </a:prstGeom>
          <a:ln w="0">
            <a:noFill/>
          </a:ln>
        </p:spPr>
      </p:pic>
      <p:sp>
        <p:nvSpPr>
          <p:cNvPr id="122" name="PIJL-LINKS en -RECHTS 18"/>
          <p:cNvSpPr/>
          <p:nvPr/>
        </p:nvSpPr>
        <p:spPr>
          <a:xfrm rot="1975200">
            <a:off x="3511440" y="2315880"/>
            <a:ext cx="1008000" cy="223920"/>
          </a:xfrm>
          <a:prstGeom prst="leftRightArrow">
            <a:avLst>
              <a:gd name="adj1" fmla="val 50000"/>
              <a:gd name="adj2" fmla="val 49914"/>
            </a:avLst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" name="PIJL-LINKS en -RECHTS 18"/>
          <p:cNvSpPr/>
          <p:nvPr/>
        </p:nvSpPr>
        <p:spPr>
          <a:xfrm rot="18703200">
            <a:off x="1704600" y="2721960"/>
            <a:ext cx="1008360" cy="223920"/>
          </a:xfrm>
          <a:prstGeom prst="leftRightArrow">
            <a:avLst>
              <a:gd name="adj1" fmla="val 50000"/>
              <a:gd name="adj2" fmla="val 49931"/>
            </a:avLst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CasellaDiTesto 17"/>
          <p:cNvSpPr/>
          <p:nvPr/>
        </p:nvSpPr>
        <p:spPr>
          <a:xfrm>
            <a:off x="457920" y="262728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Patients dat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" name="CasellaDiTesto 19"/>
          <p:cNvSpPr/>
          <p:nvPr/>
        </p:nvSpPr>
        <p:spPr>
          <a:xfrm>
            <a:off x="4582440" y="2133720"/>
            <a:ext cx="162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Hospitals dat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" name="CasellaDiTesto 20"/>
          <p:cNvSpPr/>
          <p:nvPr/>
        </p:nvSpPr>
        <p:spPr>
          <a:xfrm>
            <a:off x="2610000" y="4076640"/>
            <a:ext cx="117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Volumes,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Outcome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250560" y="1125360"/>
            <a:ext cx="856908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 Narrow"/>
              </a:rPr>
              <a:t>Data to be collected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lvl="2" marL="119880"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Arial Narrow"/>
              </a:rPr>
              <a:t>Patient characteristics: age at diagnosis, sex, date of diagnosis;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lvl="2" marL="119880"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Arial Narrow"/>
              </a:rPr>
              <a:t>Tumour characteristics: </a:t>
            </a:r>
            <a:r>
              <a:rPr b="0" lang="it-IT" sz="2800" spc="-1" strike="noStrike">
                <a:solidFill>
                  <a:srgbClr val="003366"/>
                </a:solidFill>
                <a:latin typeface="Arial Narrow"/>
              </a:rPr>
              <a:t>stage at diagnosis, tumour size,</a:t>
            </a:r>
            <a:r>
              <a:rPr b="1" lang="it-IT" sz="2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0" lang="it-IT" sz="2800" spc="-1" strike="noStrike">
                <a:solidFill>
                  <a:srgbClr val="003366"/>
                </a:solidFill>
                <a:latin typeface="Arial Narrow"/>
              </a:rPr>
              <a:t>recurrencies, </a:t>
            </a:r>
            <a:r>
              <a:rPr b="0" lang="en-US" sz="2800" spc="-1" strike="noStrike">
                <a:solidFill>
                  <a:srgbClr val="003366"/>
                </a:solidFill>
                <a:latin typeface="Arial Narrow"/>
              </a:rPr>
              <a:t>c</a:t>
            </a:r>
            <a:r>
              <a:rPr b="0" lang="it-IT" sz="2800" spc="-1" strike="noStrike">
                <a:solidFill>
                  <a:srgbClr val="003366"/>
                </a:solidFill>
                <a:latin typeface="Arial Narrow"/>
              </a:rPr>
              <a:t>omorbidity;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lvl="2" marL="119880">
              <a:spcAft>
                <a:spcPts val="601"/>
              </a:spcAft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0" lang="it-IT" sz="2800" spc="-1" strike="noStrike">
                <a:solidFill>
                  <a:srgbClr val="003366"/>
                </a:solidFill>
                <a:latin typeface="Arial Narrow"/>
              </a:rPr>
              <a:t>Treatment (radioterapy, chemotherapy, surgery);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lvl="2" marL="119880">
              <a:spcAft>
                <a:spcPts val="601"/>
              </a:spcAft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0" lang="it-IT" sz="2800" spc="-1" strike="noStrike">
                <a:solidFill>
                  <a:srgbClr val="003366"/>
                </a:solidFill>
                <a:latin typeface="Arial Narrow"/>
              </a:rPr>
              <a:t>Date of treatment(s);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lvl="2" marL="119880">
              <a:spcAft>
                <a:spcPts val="601"/>
              </a:spcAft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Arial Narrow"/>
              </a:rPr>
              <a:t>Case volume defined as the </a:t>
            </a:r>
            <a:r>
              <a:rPr b="0" lang="it-IT" sz="2800" spc="-1" strike="noStrike">
                <a:solidFill>
                  <a:srgbClr val="003366"/>
                </a:solidFill>
                <a:latin typeface="Arial Narrow"/>
              </a:rPr>
              <a:t>number of diagnosis/operations performed per year;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lvl="2" marL="119880">
              <a:spcAft>
                <a:spcPts val="601"/>
              </a:spcAft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0" lang="it-IT" sz="2800" spc="-1" strike="noStrike">
                <a:solidFill>
                  <a:srgbClr val="003366"/>
                </a:solidFill>
                <a:latin typeface="Arial Narrow"/>
              </a:rPr>
              <a:t>Second opinion, re-operation, free margins, multidisciplinary teams etc.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lvl="2" marL="1198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lvl="2" marL="119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lvl="2" marL="1198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lvl="2" marL="1198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lvl="2" marL="119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lvl="2" marL="119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28" name="Titolo 1"/>
          <p:cNvSpPr/>
          <p:nvPr/>
        </p:nvSpPr>
        <p:spPr>
          <a:xfrm>
            <a:off x="2050920" y="189000"/>
            <a:ext cx="70930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3366"/>
                </a:solidFill>
                <a:latin typeface="Arial"/>
              </a:rPr>
              <a:t>WP 4  </a:t>
            </a: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Epidemiology of rare cancer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High Resolution studies on rare cancer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324000" y="1196640"/>
            <a:ext cx="84960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 Narrow"/>
              </a:rPr>
              <a:t>Analysis 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lvl="2"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lvl="2"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lvl="2"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 Narrow"/>
              </a:rPr>
              <a:t>Relative Survival </a:t>
            </a:r>
            <a:r>
              <a:rPr b="0" lang="en-US" sz="2800" spc="-1" strike="noStrike">
                <a:solidFill>
                  <a:srgbClr val="003366"/>
                </a:solidFill>
                <a:latin typeface="Arial Narrow"/>
              </a:rPr>
              <a:t>will be estimated by using 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 Narrow"/>
              </a:rPr>
              <a:t>multiple regression models*</a:t>
            </a:r>
            <a:r>
              <a:rPr b="0" lang="en-US" sz="2800" spc="-1" strike="noStrike">
                <a:solidFill>
                  <a:srgbClr val="003366"/>
                </a:solidFill>
                <a:latin typeface="Arial Narrow"/>
              </a:rPr>
              <a:t> to assess the 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 Narrow"/>
              </a:rPr>
              <a:t>mutual effect of the previous variables on risk of death and to obtain relative excess risk (RER)</a:t>
            </a:r>
            <a:r>
              <a:rPr b="0" lang="en-US" sz="2800" spc="-1" strike="noStrike">
                <a:solidFill>
                  <a:srgbClr val="003366"/>
                </a:solidFill>
                <a:latin typeface="Arial Narrow"/>
              </a:rPr>
              <a:t> for categories of the same variable. 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lvl="2"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lvl="2"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lvl="2"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lvl="2"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30" name="Titolo 1"/>
          <p:cNvSpPr/>
          <p:nvPr/>
        </p:nvSpPr>
        <p:spPr>
          <a:xfrm>
            <a:off x="2050920" y="189000"/>
            <a:ext cx="70930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3366"/>
                </a:solidFill>
                <a:latin typeface="Arial"/>
              </a:rPr>
              <a:t>WP 4  </a:t>
            </a: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Epidemiology of rare cancer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High Resolution studies on rare cancer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itolo 1"/>
          <p:cNvSpPr/>
          <p:nvPr/>
        </p:nvSpPr>
        <p:spPr>
          <a:xfrm>
            <a:off x="2195640" y="189000"/>
            <a:ext cx="70927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3366"/>
                </a:solidFill>
                <a:latin typeface="Arial"/>
              </a:rPr>
              <a:t>WP 4  </a:t>
            </a: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Epidemiology of rare cancer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Timetable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2" name="Picture 2" descr=""/>
          <p:cNvPicPr/>
          <p:nvPr/>
        </p:nvPicPr>
        <p:blipFill>
          <a:blip r:embed="rId1"/>
          <a:stretch/>
        </p:blipFill>
        <p:spPr>
          <a:xfrm>
            <a:off x="250920" y="1946160"/>
            <a:ext cx="869616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itolo 1"/>
          <p:cNvSpPr/>
          <p:nvPr/>
        </p:nvSpPr>
        <p:spPr>
          <a:xfrm>
            <a:off x="2195640" y="189000"/>
            <a:ext cx="64087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3366"/>
                </a:solidFill>
                <a:latin typeface="Arial Narrow"/>
              </a:rPr>
              <a:t>Work Package 4:</a:t>
            </a:r>
            <a:r>
              <a:rPr b="1" lang="it-IT" sz="28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Epidemiology of rare cancer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324000" y="1487520"/>
            <a:ext cx="849600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3" marL="17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 Narrow"/>
              </a:rPr>
              <a:t>Partners involved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lvl="3" marL="177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lvl="3" marL="177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Associated: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INT, UEDIN, IKNL, ECPC, NOH, NCR, CSF, OILJ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lvl="2"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Collaborating: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lvl="1"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RCE, EPAAC, ESO, INSERM, EUROCARE, ESMO, LeukaNet, ECCO 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324000" y="1198440"/>
            <a:ext cx="849600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 Narrow"/>
              </a:rPr>
              <a:t>Objectives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lvl="3"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To revise the list of rare cancers 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lvl="3"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To collect and disseminate information on: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lvl="4" marL="10936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- updated </a:t>
            </a:r>
            <a:r>
              <a:rPr b="0" lang="en-GB" sz="2800" spc="-1" strike="noStrike" u="sng">
                <a:solidFill>
                  <a:srgbClr val="003366"/>
                </a:solidFill>
                <a:uFillTx/>
                <a:latin typeface="Arial Narrow"/>
              </a:rPr>
              <a:t>epidemiological indicators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lvl="4" marL="10936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- the </a:t>
            </a:r>
            <a:r>
              <a:rPr b="0" lang="en-GB" sz="2800" spc="-1" strike="noStrike" u="sng">
                <a:solidFill>
                  <a:srgbClr val="003366"/>
                </a:solidFill>
                <a:uFillTx/>
                <a:latin typeface="Arial Narrow"/>
              </a:rPr>
              <a:t>health care pathways</a:t>
            </a: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lvl="3"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for </a:t>
            </a:r>
            <a:r>
              <a:rPr b="1" lang="en-GB" sz="2800" spc="-1" strike="noStrike">
                <a:solidFill>
                  <a:srgbClr val="003366"/>
                </a:solidFill>
                <a:latin typeface="Arial Narrow"/>
              </a:rPr>
              <a:t>rare cancers 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lvl="3"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 Narrow"/>
              </a:rPr>
              <a:t>Deliverable (No.7)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lvl="1"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3366"/>
                </a:solidFill>
                <a:uFillTx/>
                <a:latin typeface="Arial Narrow"/>
              </a:rPr>
              <a:t>Report</a:t>
            </a: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 on the health care pathway study and on the updated epidemiological indicators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93" name="Titolo 1"/>
          <p:cNvSpPr/>
          <p:nvPr/>
        </p:nvSpPr>
        <p:spPr>
          <a:xfrm>
            <a:off x="2195640" y="189000"/>
            <a:ext cx="64087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2060"/>
                </a:solidFill>
                <a:latin typeface="Arial Narrow"/>
              </a:rPr>
              <a:t>WP 4   </a:t>
            </a: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Epidemiology of rare cancer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324000" y="1197000"/>
            <a:ext cx="849600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 Narrow"/>
              </a:rPr>
              <a:t>Milestones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lvl="2"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3366"/>
                </a:solidFill>
                <a:uFillTx/>
                <a:latin typeface="Arial Narrow"/>
              </a:rPr>
              <a:t>Consensus meeting</a:t>
            </a: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 to revise </a:t>
            </a:r>
            <a:r>
              <a:rPr b="0" lang="en-GB" sz="2800" spc="-1" strike="noStrike" u="sng">
                <a:solidFill>
                  <a:srgbClr val="003366"/>
                </a:solidFill>
                <a:uFillTx/>
                <a:latin typeface="Arial Narrow"/>
              </a:rPr>
              <a:t>list of rare cancers</a:t>
            </a: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lvl="2"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lvl="2"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3366"/>
                </a:solidFill>
                <a:uFillTx/>
                <a:latin typeface="Arial Narrow"/>
              </a:rPr>
              <a:t>Partners meeting </a:t>
            </a: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to discuss quality check and analysis necessary to update </a:t>
            </a:r>
            <a:r>
              <a:rPr b="0" lang="en-GB" sz="2800" spc="-1" strike="noStrike" u="sng">
                <a:solidFill>
                  <a:srgbClr val="003366"/>
                </a:solidFill>
                <a:uFillTx/>
                <a:latin typeface="Arial Narrow"/>
              </a:rPr>
              <a:t>epidemiological indicators and estimate trends</a:t>
            </a: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lvl="2"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lvl="2"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3366"/>
                </a:solidFill>
                <a:uFillTx/>
                <a:latin typeface="Arial Narrow"/>
              </a:rPr>
              <a:t>Meeting with CRs, together with WP5,</a:t>
            </a: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 to discuss </a:t>
            </a:r>
            <a:r>
              <a:rPr b="0" lang="en-GB" sz="2800" spc="-1" strike="noStrike" u="sng">
                <a:solidFill>
                  <a:srgbClr val="003366"/>
                </a:solidFill>
                <a:uFillTx/>
                <a:latin typeface="Arial Narrow"/>
              </a:rPr>
              <a:t>health care pathway</a:t>
            </a: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 study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lvl="2"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95" name="Titolo 1"/>
          <p:cNvSpPr/>
          <p:nvPr/>
        </p:nvSpPr>
        <p:spPr>
          <a:xfrm>
            <a:off x="2195640" y="189000"/>
            <a:ext cx="662436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3366"/>
                </a:solidFill>
                <a:latin typeface="Arial"/>
              </a:rPr>
              <a:t>WP </a:t>
            </a:r>
            <a:r>
              <a:rPr b="1" lang="it-IT" sz="3200" spc="-1" strike="noStrike">
                <a:solidFill>
                  <a:srgbClr val="002060"/>
                </a:solidFill>
                <a:latin typeface="Arial"/>
              </a:rPr>
              <a:t>4   </a:t>
            </a: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Epidemiology of rare cancer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324000" y="1196640"/>
            <a:ext cx="84960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 Narrow"/>
              </a:rPr>
              <a:t>List of rare cancer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The </a:t>
            </a:r>
            <a:r>
              <a:rPr b="0" lang="en-GB" sz="2800" spc="-1" strike="noStrike" u="sng">
                <a:solidFill>
                  <a:srgbClr val="003366"/>
                </a:solidFill>
                <a:uFillTx/>
                <a:latin typeface="Arial Narrow"/>
              </a:rPr>
              <a:t>list of rare cancers</a:t>
            </a: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 which derives from the ICD-O-3 (186 identified rare cancers - around 4 million people in the European Union affected by rare cancers) will be revised and updated (refinements suggested by previous analyses, new entities)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66"/>
                </a:solidFill>
                <a:latin typeface="Arial Narrow"/>
              </a:rPr>
              <a:t> </a:t>
            </a:r>
            <a:endParaRPr b="0" lang="en-US" sz="12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A </a:t>
            </a:r>
            <a:r>
              <a:rPr b="0" lang="en-GB" sz="2800" spc="-1" strike="noStrike" u="sng">
                <a:solidFill>
                  <a:srgbClr val="003366"/>
                </a:solidFill>
                <a:uFillTx/>
                <a:latin typeface="Arial Narrow"/>
              </a:rPr>
              <a:t>consensus meeting</a:t>
            </a: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 is envisioned to convene the group of international experts and oncologic societies to revise the list. 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A contact will be established with </a:t>
            </a:r>
            <a:r>
              <a:rPr b="0" lang="en-GB" sz="2800" spc="-1" strike="noStrike" u="sng">
                <a:solidFill>
                  <a:srgbClr val="003366"/>
                </a:solidFill>
                <a:uFillTx/>
                <a:latin typeface="Arial Narrow"/>
              </a:rPr>
              <a:t>NCI </a:t>
            </a: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rare cancers study group: which level of coordination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97" name="Titolo 1"/>
          <p:cNvSpPr/>
          <p:nvPr/>
        </p:nvSpPr>
        <p:spPr>
          <a:xfrm>
            <a:off x="2195640" y="189000"/>
            <a:ext cx="64087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3366"/>
                </a:solidFill>
                <a:latin typeface="Arial"/>
              </a:rPr>
              <a:t>WP 4   </a:t>
            </a: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Epidemiology of rare cancer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324000" y="1196640"/>
            <a:ext cx="84960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 Narrow"/>
              </a:rPr>
              <a:t>Work Programme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-343080">
              <a:spcAft>
                <a:spcPts val="601"/>
              </a:spcAft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0" lang="en-GB" sz="2600" spc="-1" strike="noStrike">
                <a:solidFill>
                  <a:srgbClr val="003366"/>
                </a:solidFill>
                <a:latin typeface="Arial Narrow"/>
              </a:rPr>
              <a:t>7-8 / 2012: definition of the working group (basically the RARECARE wg) </a:t>
            </a:r>
            <a:endParaRPr b="0" lang="en-US" sz="26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-343080">
              <a:spcAft>
                <a:spcPts val="601"/>
              </a:spcAft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0" lang="en-GB" sz="2600" spc="-1" strike="noStrike">
                <a:solidFill>
                  <a:srgbClr val="003366"/>
                </a:solidFill>
                <a:latin typeface="Arial Narrow"/>
              </a:rPr>
              <a:t>9 / 2012: circulating the present list and proposed amendments</a:t>
            </a:r>
            <a:endParaRPr b="0" lang="en-US" sz="26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-343080">
              <a:spcAft>
                <a:spcPts val="601"/>
              </a:spcAft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0" lang="en-GB" sz="2600" spc="-1" strike="noStrike">
                <a:solidFill>
                  <a:srgbClr val="003366"/>
                </a:solidFill>
                <a:latin typeface="Arial Narrow"/>
              </a:rPr>
              <a:t>9-11 / 2012: discussion by email or forum on RARECARE website</a:t>
            </a:r>
            <a:endParaRPr b="0" lang="en-US" sz="26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-343080">
              <a:spcAft>
                <a:spcPts val="601"/>
              </a:spcAft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0" lang="en-GB" sz="2600" spc="-1" strike="noStrike">
                <a:solidFill>
                  <a:srgbClr val="003366"/>
                </a:solidFill>
                <a:latin typeface="Arial Narrow"/>
              </a:rPr>
              <a:t>11 /2012: meeting for final delivery </a:t>
            </a:r>
            <a:endParaRPr b="0" lang="en-US" sz="26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-343080">
              <a:spcAft>
                <a:spcPts val="601"/>
              </a:spcAft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0" lang="en-GB" sz="2600" spc="-1" strike="noStrike">
                <a:solidFill>
                  <a:srgbClr val="003366"/>
                </a:solidFill>
                <a:latin typeface="Arial Narrow"/>
              </a:rPr>
              <a:t>12/ 2012: possibility for a second meeting, if necessary</a:t>
            </a:r>
            <a:endParaRPr b="0" lang="en-US" sz="26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-343080">
              <a:spcAft>
                <a:spcPts val="601"/>
              </a:spcAft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0" lang="en-GB" sz="2600" spc="-1" strike="noStrike">
                <a:solidFill>
                  <a:srgbClr val="003366"/>
                </a:solidFill>
                <a:latin typeface="Arial Narrow"/>
              </a:rPr>
              <a:t>1 /2013: new list available for endorsement  from scientific associations and for analyses</a:t>
            </a:r>
            <a:endParaRPr b="0" lang="en-US" sz="26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99" name="Titolo 1"/>
          <p:cNvSpPr/>
          <p:nvPr/>
        </p:nvSpPr>
        <p:spPr>
          <a:xfrm>
            <a:off x="2195640" y="189000"/>
            <a:ext cx="64087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3366"/>
                </a:solidFill>
                <a:latin typeface="Arial"/>
              </a:rPr>
              <a:t>WP 4  </a:t>
            </a: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Epidemiology of rare cancer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List of rare cancer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324000" y="1125000"/>
            <a:ext cx="84960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 Narrow"/>
              </a:rPr>
              <a:t>Cancer registries and data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 Narrow"/>
              </a:rPr>
              <a:t>RARECARENet project will analyze incidence and follow-up data on cancer 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 Narrow"/>
              </a:rPr>
              <a:t>cases diagnosed in 1978-2007 </a:t>
            </a:r>
            <a:r>
              <a:rPr b="0" lang="en-US" sz="2800" spc="-1" strike="noStrike">
                <a:solidFill>
                  <a:srgbClr val="003366"/>
                </a:solidFill>
                <a:latin typeface="Arial Narrow"/>
              </a:rPr>
              <a:t>and 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 Narrow"/>
              </a:rPr>
              <a:t>followed-up until 2008</a:t>
            </a:r>
            <a:r>
              <a:rPr b="0" lang="en-US" sz="2800" spc="-1" strike="noStrike">
                <a:solidFill>
                  <a:srgbClr val="003366"/>
                </a:solidFill>
                <a:latin typeface="Arial Narrow"/>
              </a:rPr>
              <a:t> from more than 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 Narrow"/>
              </a:rPr>
              <a:t>100 population-based cancer registries</a:t>
            </a:r>
            <a:r>
              <a:rPr b="0" lang="en-US" sz="2800" spc="-1" strike="noStrike">
                <a:solidFill>
                  <a:srgbClr val="003366"/>
                </a:solidFill>
                <a:latin typeface="Arial Narrow"/>
              </a:rPr>
              <a:t> (CR) in 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 Narrow"/>
              </a:rPr>
              <a:t>30 European Countries</a:t>
            </a:r>
            <a:r>
              <a:rPr b="0" lang="en-US" sz="2800" spc="-1" strike="noStrike">
                <a:solidFill>
                  <a:srgbClr val="003366"/>
                </a:solidFill>
                <a:latin typeface="Arial Narrow"/>
              </a:rPr>
              <a:t>*.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 Narrow"/>
              </a:rPr>
              <a:t>This activity will be </a:t>
            </a: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carried out in collaboration with the EUROCARE project and all contributing European CRs, </a:t>
            </a:r>
            <a:r>
              <a:rPr b="0" lang="en-US" sz="2800" spc="-1" strike="noStrike">
                <a:solidFill>
                  <a:srgbClr val="003366"/>
                </a:solidFill>
                <a:latin typeface="Arial Narrow"/>
              </a:rPr>
              <a:t>after seeking permission to use the EUROCARE-5 database. 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 Narrow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 Narrow"/>
              </a:rPr>
              <a:t>*Bulgaria, Croatia, Estonia, Hungary, Latvia, Lithuania, Slovakia (new joining countries). </a:t>
            </a:r>
            <a:endParaRPr b="0" lang="en-US" sz="24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01" name="Titolo 1"/>
          <p:cNvSpPr/>
          <p:nvPr/>
        </p:nvSpPr>
        <p:spPr>
          <a:xfrm>
            <a:off x="2195640" y="189000"/>
            <a:ext cx="64087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3366"/>
                </a:solidFill>
                <a:latin typeface="Arial"/>
              </a:rPr>
              <a:t>WP 4  </a:t>
            </a: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Epidemiology of rare cancer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Updated epidemiological indicators</a:t>
            </a:r>
            <a:r>
              <a:rPr b="1" lang="it-IT" sz="2800" spc="-1" strike="noStrike">
                <a:solidFill>
                  <a:srgbClr val="003366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324000" y="1196640"/>
            <a:ext cx="84960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 Narrow"/>
              </a:rPr>
              <a:t>Analysis -1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lvl="2" marL="343080" indent="-343080" algn="just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0" lang="it-IT" sz="2800" spc="-1" strike="noStrike" u="sng">
                <a:solidFill>
                  <a:srgbClr val="003366"/>
                </a:solidFill>
                <a:uFillTx/>
                <a:latin typeface="Arial Narrow"/>
              </a:rPr>
              <a:t>Incidence rates</a:t>
            </a:r>
            <a:r>
              <a:rPr b="0" lang="it-IT" sz="2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Arial Narrow"/>
              </a:rPr>
              <a:t>will be provided for malignant cancers including 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 Narrow"/>
              </a:rPr>
              <a:t>cases diagnosed between 2000 and 2007</a:t>
            </a:r>
            <a:r>
              <a:rPr b="0" lang="en-US" sz="2800" spc="-1" strike="noStrike">
                <a:solidFill>
                  <a:srgbClr val="003366"/>
                </a:solidFill>
                <a:latin typeface="Arial Narrow"/>
              </a:rPr>
              <a:t>, </a:t>
            </a:r>
            <a:r>
              <a:rPr b="0" lang="it-IT" sz="2800" spc="-1" strike="noStrike">
                <a:solidFill>
                  <a:srgbClr val="003366"/>
                </a:solidFill>
                <a:latin typeface="Arial Narrow"/>
              </a:rPr>
              <a:t>by scancer entity, sex, and country (and geographical area). 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lvl="2"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lvl="2" marL="343080" indent="-343080" algn="just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c00000"/>
                </a:solidFill>
                <a:latin typeface="Arial Narrow"/>
              </a:rPr>
              <a:t> </a:t>
            </a:r>
            <a:r>
              <a:rPr b="1" lang="it-IT" sz="2800" spc="-1" strike="noStrike">
                <a:solidFill>
                  <a:srgbClr val="c00000"/>
                </a:solidFill>
                <a:latin typeface="Arial Narrow"/>
              </a:rPr>
              <a:t>Other macro-indicators: GDP level, TNEH level ?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lvl="2"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lvl="2" marL="343080" indent="-343080" algn="just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Arial Narrow"/>
              </a:rPr>
              <a:t>Joint Point method will be used for 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 Narrow"/>
              </a:rPr>
              <a:t>incidence trend analysis</a:t>
            </a:r>
            <a:r>
              <a:rPr b="0" lang="en-US" sz="2800" spc="-1" strike="noStrike">
                <a:solidFill>
                  <a:srgbClr val="003366"/>
                </a:solidFill>
                <a:latin typeface="Arial Narrow"/>
              </a:rPr>
              <a:t> in the period 1990 to 2007. 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lvl="2"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lvl="2"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lvl="2"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03" name="Titolo 1"/>
          <p:cNvSpPr/>
          <p:nvPr/>
        </p:nvSpPr>
        <p:spPr>
          <a:xfrm>
            <a:off x="2195640" y="189000"/>
            <a:ext cx="64087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3366"/>
                </a:solidFill>
                <a:latin typeface="Arial"/>
              </a:rPr>
              <a:t>WP 4 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Epidemiology of rare cancer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Updated epidemiological indicators</a:t>
            </a:r>
            <a:r>
              <a:rPr b="1" lang="it-IT" sz="2800" spc="-1" strike="noStrike">
                <a:solidFill>
                  <a:srgbClr val="003366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324000" y="1052640"/>
            <a:ext cx="84960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2"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 Narrow"/>
              </a:rPr>
              <a:t>Analysis -2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lvl="2"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0" lang="en-GB" sz="2800" spc="-1" strike="noStrike" u="sng">
                <a:solidFill>
                  <a:srgbClr val="003366"/>
                </a:solidFill>
                <a:uFillTx/>
                <a:latin typeface="Arial Narrow"/>
              </a:rPr>
              <a:t>Absolute and relative survival</a:t>
            </a: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 of patients diagnosed between 2000 and 2007 (i.e. patients diagnosed 5,10 or more years ago) will be provided according to the Ederer II method.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lvl="2"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Three possible different approaches: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lvl="3" marL="66492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Cohort 2000-2004, follow-up to 2008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lvl="3" marL="66492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Period 2005-2007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lvl="3" marL="66492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Complete 2000-2007 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lvl="2"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 Narrow"/>
              </a:rPr>
              <a:t>Estimates will be given by cancer entity, sex, and country (and geographical area)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lvl="2"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lvl="2"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lvl="2"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05" name="Titolo 1"/>
          <p:cNvSpPr/>
          <p:nvPr/>
        </p:nvSpPr>
        <p:spPr>
          <a:xfrm>
            <a:off x="2195640" y="189000"/>
            <a:ext cx="64087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3366"/>
                </a:solidFill>
                <a:latin typeface="Arial"/>
              </a:rPr>
              <a:t>WP 4  </a:t>
            </a: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Epidemiology of rare cancer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Updated epidemiological indicators</a:t>
            </a:r>
            <a:r>
              <a:rPr b="1" lang="it-IT" sz="2800" spc="-1" strike="noStrike">
                <a:solidFill>
                  <a:srgbClr val="003366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5T15:12:06Z</dcterms:created>
  <dc:creator>Roberto Rizzo</dc:creator>
  <dc:description/>
  <dc:language>en-US</dc:language>
  <cp:lastModifiedBy>HERON Graeme</cp:lastModifiedBy>
  <dcterms:modified xsi:type="dcterms:W3CDTF">2012-07-19T15:40:18Z</dcterms:modified>
  <cp:revision>146</cp:revision>
  <dc:subject/>
  <dc:title>Diapositiva 1</dc:title>
</cp:coreProperties>
</file>