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7CC-5071-4E9D-B54F-E1E0994059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egnaposto numero diapositiva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3638-6C3D-485D-869D-A8B0D359A54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egnaposto numero diapositiva 3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009-8B5B-4CAB-8A59-EA12E00EA5E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40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1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eu_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4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95240" y="2349360"/>
            <a:ext cx="7521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Information on 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71640" y="2997360"/>
            <a:ext cx="711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b">
            <a:noAutofit/>
          </a:bodyPr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Riccardo Capocaccia and  Sandra Mall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Cancer Epidemiology Uni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ts val="2999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66"/>
                </a:solidFill>
                <a:latin typeface="Arial Narrow"/>
              </a:rPr>
              <a:t>Istituto Superiore di Sanità, Rome - Italy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3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Survival time trend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onsecutive triennia (1990 – 2007) will be estimated by us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ltiple regression models*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to assess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tual effect of age, sex, country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( and geographic area) and possib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stage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, on risk of death and to obta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relative excess risk (RER)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ategories of the same variable. RER quantify the extent to which the hazard of death in a given category differs from the hazard in the reference category, after taking into account the background risk of death in the general population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*Hakulinen and Dickman et al. (Hakulinen 1982, Dickman et al., 2004)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4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stimates of observed prevalence, i.e the observed number or proportion of cancer survivors per 100,000 population will be obtained form CRs incidence and follow-up data at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the index date of 31 December 2008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, by using the counting method. Prevalence proportions will be disaggregated by cancer entity, age, sex and time since diagnosis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e completeness index method will be used to estimate the number of prevalent cases who were diagnosed before the start of cancer registration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Cancer registries and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 selection of cancer registries will send also information on the hospital of diagnosis/treatment of cancer cases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articipant national registries: Finland, Ireland, Bulgaria, Slovenia and Netherlands. Other registries can joi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onfidentiality problems regarding both patients and individual hospitals will be considered by shaping the published output according to the local legislation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Issu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-514080"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 which hospitals are rare cancers most frequently diagnosed/treated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-514080">
              <a:buClr>
                <a:srgbClr val="003366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s there an association between hospital case volumes and (stage-adjusted) survival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63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s there an impact of the differing socio economical and organizational contexts on survival across countries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olo 1"/>
          <p:cNvSpPr/>
          <p:nvPr/>
        </p:nvSpPr>
        <p:spPr>
          <a:xfrm>
            <a:off x="2195640" y="189000"/>
            <a:ext cx="694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alth care pathways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Tekstvak 13" descr=""/>
          <p:cNvPicPr/>
          <p:nvPr/>
        </p:nvPicPr>
        <p:blipFill>
          <a:blip r:embed="rId1"/>
          <a:stretch/>
        </p:blipFill>
        <p:spPr>
          <a:xfrm>
            <a:off x="244440" y="3687840"/>
            <a:ext cx="1986120" cy="1146240"/>
          </a:xfrm>
          <a:prstGeom prst="rect">
            <a:avLst/>
          </a:prstGeom>
          <a:ln w="0">
            <a:noFill/>
          </a:ln>
        </p:spPr>
      </p:pic>
      <p:pic>
        <p:nvPicPr>
          <p:cNvPr id="116" name="Tekstvak 16" descr=""/>
          <p:cNvPicPr/>
          <p:nvPr/>
        </p:nvPicPr>
        <p:blipFill>
          <a:blip r:embed="rId2"/>
          <a:stretch/>
        </p:blipFill>
        <p:spPr>
          <a:xfrm>
            <a:off x="4059360" y="2895480"/>
            <a:ext cx="3255840" cy="1146240"/>
          </a:xfrm>
          <a:prstGeom prst="rect">
            <a:avLst/>
          </a:prstGeom>
          <a:ln w="0">
            <a:noFill/>
          </a:ln>
        </p:spPr>
      </p:pic>
      <p:sp>
        <p:nvSpPr>
          <p:cNvPr id="117" name="PIJL-LINKS en -RECHTS 18"/>
          <p:cNvSpPr/>
          <p:nvPr/>
        </p:nvSpPr>
        <p:spPr>
          <a:xfrm rot="20408400">
            <a:off x="2556000" y="3736440"/>
            <a:ext cx="1008000" cy="223920"/>
          </a:xfrm>
          <a:prstGeom prst="leftRightArrow">
            <a:avLst>
              <a:gd name="adj1" fmla="val 50000"/>
              <a:gd name="adj2" fmla="val 4991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efinition of  Centers of Expertis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19" name="Tekstvak 16" descr=""/>
          <p:cNvPicPr/>
          <p:nvPr/>
        </p:nvPicPr>
        <p:blipFill>
          <a:blip r:embed="rId3"/>
          <a:stretch/>
        </p:blipFill>
        <p:spPr>
          <a:xfrm>
            <a:off x="4133880" y="4840200"/>
            <a:ext cx="3254400" cy="1146240"/>
          </a:xfrm>
          <a:prstGeom prst="rect">
            <a:avLst/>
          </a:prstGeom>
          <a:ln w="0">
            <a:noFill/>
          </a:ln>
        </p:spPr>
      </p:pic>
      <p:sp>
        <p:nvSpPr>
          <p:cNvPr id="120" name="PIJL-LINKS en -RECHTS 18"/>
          <p:cNvSpPr/>
          <p:nvPr/>
        </p:nvSpPr>
        <p:spPr>
          <a:xfrm flipV="1" rot="5400000">
            <a:off x="5417280" y="4295160"/>
            <a:ext cx="662040" cy="193680"/>
          </a:xfrm>
          <a:prstGeom prst="leftRightArrow">
            <a:avLst>
              <a:gd name="adj1" fmla="val 50000"/>
              <a:gd name="adj2" fmla="val 49770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Tekstvak 13" descr=""/>
          <p:cNvPicPr/>
          <p:nvPr/>
        </p:nvPicPr>
        <p:blipFill>
          <a:blip r:embed="rId4"/>
          <a:stretch/>
        </p:blipFill>
        <p:spPr>
          <a:xfrm>
            <a:off x="1322280" y="1749600"/>
            <a:ext cx="1987560" cy="536400"/>
          </a:xfrm>
          <a:prstGeom prst="rect">
            <a:avLst/>
          </a:prstGeom>
          <a:ln w="0">
            <a:noFill/>
          </a:ln>
        </p:spPr>
      </p:pic>
      <p:sp>
        <p:nvSpPr>
          <p:cNvPr id="122" name="PIJL-LINKS en -RECHTS 18"/>
          <p:cNvSpPr/>
          <p:nvPr/>
        </p:nvSpPr>
        <p:spPr>
          <a:xfrm rot="1975200">
            <a:off x="3511440" y="2315880"/>
            <a:ext cx="1008000" cy="223920"/>
          </a:xfrm>
          <a:prstGeom prst="leftRightArrow">
            <a:avLst>
              <a:gd name="adj1" fmla="val 50000"/>
              <a:gd name="adj2" fmla="val 49914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IJL-LINKS en -RECHTS 18"/>
          <p:cNvSpPr/>
          <p:nvPr/>
        </p:nvSpPr>
        <p:spPr>
          <a:xfrm rot="18703200">
            <a:off x="1704600" y="2721960"/>
            <a:ext cx="1008360" cy="223920"/>
          </a:xfrm>
          <a:prstGeom prst="leftRightArrow">
            <a:avLst>
              <a:gd name="adj1" fmla="val 50000"/>
              <a:gd name="adj2" fmla="val 49931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CasellaDiTesto 17"/>
          <p:cNvSpPr/>
          <p:nvPr/>
        </p:nvSpPr>
        <p:spPr>
          <a:xfrm>
            <a:off x="457920" y="2627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atient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CasellaDiTesto 19"/>
          <p:cNvSpPr/>
          <p:nvPr/>
        </p:nvSpPr>
        <p:spPr>
          <a:xfrm>
            <a:off x="4582440" y="2133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ospital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CasellaDiTesto 20"/>
          <p:cNvSpPr/>
          <p:nvPr/>
        </p:nvSpPr>
        <p:spPr>
          <a:xfrm>
            <a:off x="2610000" y="407664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Volumes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utco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ata to be collect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atient characteristics: age at diagnosis, sex, date of diagnosis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umour characteristics: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stage at diagnosis, tumour size,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recurrencies,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omorbidity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reatment (radioterapy, chemotherapy, surgery)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Date of treatment(s)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ase volume defined as the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number of diagnosis/operations performed per year;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Second opinion, re-operation, free margins, multidisciplinary teams etc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9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Titolo 1"/>
          <p:cNvSpPr/>
          <p:nvPr/>
        </p:nvSpPr>
        <p:spPr>
          <a:xfrm>
            <a:off x="2050920" y="189000"/>
            <a:ext cx="70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gh Resolution studie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Relative Survival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ill be estimated by us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ltiple regression models*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to assess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mutual effect of the previous variables on risk of death and to obtain relative excess risk (RER)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or categories of the same variable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0" name="Titolo 1"/>
          <p:cNvSpPr/>
          <p:nvPr/>
        </p:nvSpPr>
        <p:spPr>
          <a:xfrm>
            <a:off x="2050920" y="189000"/>
            <a:ext cx="70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igh Resolution studie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olo 1"/>
          <p:cNvSpPr/>
          <p:nvPr/>
        </p:nvSpPr>
        <p:spPr>
          <a:xfrm>
            <a:off x="2195640" y="189000"/>
            <a:ext cx="709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imetab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50920" y="1946160"/>
            <a:ext cx="86961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4:</a:t>
            </a: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48752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Partners involv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7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ssociated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INT, UEDIN, IKNL, ECPC, NOH, NCR, CSF, OILJ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llaborating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CE, EPAAC, ESO, INSERM, EUROCARE, ESMO, LeukaNet, ECCO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119844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Objectiv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revise the list of rare cance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collect and disseminate information on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1093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- updated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4" marL="1093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- th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health care pathway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r </a:t>
            </a: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rare cancer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Deliverable (No.7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Report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on the health care pathway study and on the updated epidemiological indicato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 Narrow"/>
              </a:rPr>
              <a:t>WP 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Mileston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Consensus meeting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revis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list of rare cancer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Partners meeting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o discuss quality check and analysis necessary to updat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epidemiological indicators and estimate trend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Meeting with CRs, together with WP5,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to discuss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health care pathway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study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Titolo 1"/>
          <p:cNvSpPr/>
          <p:nvPr/>
        </p:nvSpPr>
        <p:spPr>
          <a:xfrm>
            <a:off x="2195640" y="189000"/>
            <a:ext cx="66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</a:t>
            </a:r>
            <a:r>
              <a:rPr b="1" lang="it-IT" sz="3200" spc="-1" strike="noStrike">
                <a:solidFill>
                  <a:srgbClr val="002060"/>
                </a:solidFill>
                <a:latin typeface="Arial"/>
              </a:rPr>
              <a:t>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List of rare canc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e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list of rare cancers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which derives from the ICD-O-3 (186 identified rare cancers - around 4 million people in the European Union affected by rare cancers) will be revised and updated (refinements suggested by previous analyses, new entitie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consensus meeting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is envisioned to convene the group of international experts and oncologic societies to revise the list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A contact will be established with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NCI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rare cancers study group: which level of coordina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WP 4 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Work Programm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7-8 / 2012: definition of the working group (basically the RARECARE wg) 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9 / 2012: circulating the present list and proposed amendments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9-11 / 2012: discussion by email or forum on RARECARE website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1 /2012: meeting for final delivery 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2/ 2012: possibility for a second meeting, if necessary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Aft>
                <a:spcPts val="601"/>
              </a:spcAft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Arial Narrow"/>
              </a:rPr>
              <a:t>1 /2013: new list available for endorsement  from scientific associations and for analyses</a:t>
            </a: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st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Cancer registries and data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RARECARENet project will analyze incidence and follow-up data on cance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cases diagnosed in 1978-2007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nd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followed-up until 2008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from more tha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100 population-based cancer registri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(CR)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30 European Countrie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*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is activity will be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rried out in collaboration with the EUROCARE project and all contributing European CRs,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fter seeking permission to use the EUROCARE-5 database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*Bulgaria, Croatia, Estonia, Hungary, Latvia, Lithuania, Slovakia (new joining countries).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1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 u="sng">
                <a:solidFill>
                  <a:srgbClr val="003366"/>
                </a:solidFill>
                <a:uFillTx/>
                <a:latin typeface="Arial Narrow"/>
              </a:rPr>
              <a:t>Incidence rates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ill be provided for malignant cancers includ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cases diagnosed between 2000 and 2007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by scancer entity, sex, and country (and geographical area)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1" lang="it-IT" sz="2800" spc="-1" strike="noStrike">
                <a:solidFill>
                  <a:srgbClr val="c00000"/>
                </a:solidFill>
                <a:latin typeface="Arial Narrow"/>
              </a:rPr>
              <a:t>Other macro-indicators: GDP level, TNEH level 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Joint Point method will be used for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 Narrow"/>
              </a:rPr>
              <a:t>incidence trend analysis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in the period 1990 to 2007.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Narrow"/>
              </a:rPr>
              <a:t>Analysis -2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Absolute and relative survival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of patients diagnosed between 2000 and 2007 (i.e. patients diagnosed 5,10 or more years ago) will be provided according to the Ederer II method.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Three possible different approaches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hort 2000-2004, follow-up to 2008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Period 2005-2007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66492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omplete 2000-2007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Estimates will be given by cancer entity, sex, and country (and geographical area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Titolo 1"/>
          <p:cNvSpPr/>
          <p:nvPr/>
        </p:nvSpPr>
        <p:spPr>
          <a:xfrm>
            <a:off x="2195640" y="18900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WP 4  </a:t>
            </a: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Epidemiology of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pdated epidemiological indicators</a:t>
            </a:r>
            <a:r>
              <a:rPr b="1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40:18Z</dcterms:modified>
  <cp:revision>146</cp:revision>
  <dc:subject/>
  <dc:title>Diapositiva 1</dc:title>
</cp:coreProperties>
</file>