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879480" y="732960"/>
            <a:ext cx="48895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5"/>
          </p:nvPr>
        </p:nvSpPr>
        <p:spPr>
          <a:xfrm>
            <a:off x="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8D47-ECCC-47B1-8CEC-DD76DEC12F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7B79-C5D4-4D1A-B850-6ED3E4EEF1D7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steps in global to make to come to th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9C12-AC52-4070-AFC0-A19604E9D8F6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steps in global to make to come to th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0FF3-57BA-42E4-8BDE-CF2985570FF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steps in global to make to come to th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414E-B12B-424E-9EEE-00C166D5C874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steps in global to make to come to th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2751-DE5E-4FE8-BCEF-F94CA2C8FB5F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steps in global to make to come to th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7B0E-E78C-4C6B-9318-B28AE386C313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steps in global to make to come to th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E8B6-1E8D-4666-8BBE-6C145930C20F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9285-29B1-4D03-BE06-694DBE8B58AB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5F7F-A42B-4A10-96E8-FE4996E92BAF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A8D1-626C-4DCD-BF86-1D599673F34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expect WP 1 to present the general aim of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6535-EE10-45F1-8DA1-ED1530180BE5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lity this is the strategy linked to a timeline. This is important for WP4 to check as the changes we made will affect their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E046-3392-4DC2-9EFA-6CD94A468CD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the final deliverable, the report will be written in a way that it can be used by WP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260E-4978-4A93-B1A2-9F019F3706FC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oint chortly the relation between our WP and the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P 3 is the only exeption, we are not in direct contact with this W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overview is not representing the relation between other WP, this should maybe be clar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p1: We inform them on all our activities, we get feedback from their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p2: We will give input towards dessimination plan , this is a relative one way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p3: No direct contact, contact will be via W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p4: Close collaboration, we need each others’ information to come to the expecte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p6: They will develop a gateway for information, we have to give input upon their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p7: Close collaboration, our WP will give them input to loby and indicate on Co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EA23-9C2E-4780-9ACF-7BE90F7210A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62BD-B7D9-40FC-BE77-DD13023C050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k denk dat de introductie een korte uitleg kan geven over onze organisatie en de mogelijk de recente fus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arna een toelichting van de EU projecten waar we bij betrokken zijn en wat we daarin doen/gedaan heb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arnaast is het denk ik belangrijk aan te geven hoe we betrokken waren bij het RARECAR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iteindelijk kunnen we hier uitleggen waarom IKNL de partner is om bij RARECARENet te betrek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4200-E8D5-4AC3-9C47-7B04E0FE7FC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hort introduction upon our organisation and the role of it within the E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rtly explain how we were involved for this project (explaining EUROCHIP and RAREC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F7A3-3CD1-47E5-9FC7-C69189A8A040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CB53-E43A-4806-9AC5-9583499CCE4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requested we give a example on how to work (process) for in this case NETs, this to better explain and visualise our plans to come to the results using the mile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C918-0C06-42B9-B029-E0869B69E6D4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PC was mentioned as associated partner: that is not in the final proposal! RCE was mentioned in the colaborating partners, this was not mentioned in the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partners involved for our WP, explain their possible con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B30F-3CB9-4CC4-9398-D33CCF8B5101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expect WP 1 to present the general aim of the projec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88FA-790C-407F-9D84-CF96288AAA9B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Is basis for tumour specific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1635-0A57-4BF7-B0B5-48E454095F29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BD8-9938-4C30-886D-28FAB02D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D39-2213-49B4-B4FB-59C67826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286-2081-4149-9EC1-5C3BD241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B61-4C5D-4A9B-B7A7-1C5B43BE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377-6B58-4B2D-A06A-36E09F58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3D33-8725-4C2E-83DF-D15FD61E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E7C-7CBC-4EEB-9D88-D17373B0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42D5-2843-4500-9784-5B6824BB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77B-4A4B-47B3-A770-F40CF56F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F01-EB2B-4C36-A040-D7D514AC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28A0-858D-46F2-B5F0-A207E7FE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8B50-F17C-465E-9F24-413E28DB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it/imgres?imgurl=http://www.nanonord.dk/images/eu_logo.jpg&amp;imgrefurl=http://cdv.altrove.it/2007_11_01_archive.html&amp;h=284&amp;w=426&amp;sz=11&amp;hl=it&amp;start=8&amp;usg=__yUfhwimJm_NX6EYSntE6HhkfIiQ=&amp;tbnid=xx1uKZukoCCTsM:&amp;tbnh=84&amp;tbnw=126&amp;prev=/images?q=commissione+europea&amp;gbv=2&amp;hl=it&amp;sa=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"/>
          <p:cNvPicPr/>
          <p:nvPr/>
        </p:nvPicPr>
        <p:blipFill>
          <a:blip r:embed="rId2"/>
          <a:stretch/>
        </p:blipFill>
        <p:spPr>
          <a:xfrm>
            <a:off x="1187280" y="5964120"/>
            <a:ext cx="7956720" cy="9082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9" descr="eu_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64120"/>
            <a:ext cx="1187280" cy="9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78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466200" y="678672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574200" y="678672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698040" y="6786720"/>
            <a:ext cx="7164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7238-283E-4825-B48F-6742413DB4DA}" type="slidenum"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66560" y="1482840"/>
            <a:ext cx="7521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Work Package 5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466560" y="2693880"/>
            <a:ext cx="7521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Information on centres of expertise for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671400" y="3500280"/>
            <a:ext cx="71103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b">
            <a:noAutofit/>
          </a:bodyPr>
          <a:p>
            <a:pPr>
              <a:lnSpc>
                <a:spcPts val="2999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366"/>
                </a:solidFill>
                <a:latin typeface="Arial"/>
              </a:rPr>
              <a:t>WP leader: Sabine Siesling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Specific criteria/indicators</a:t>
            </a:r>
            <a:br>
              <a:rPr sz="3600"/>
            </a:b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criteria for expert group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evelop tumour specific indicators for CoE on specific rare tumours preferably based on guidelin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ll experts involved in diagnostics and treatment for specific tumour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athology, medical oncology, surgery, radiotherapy, patient advocacy group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Specific criteria/indicator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evelop tumour specific indicators for CoE on specific rare tumours preferably based on guidelin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&gt; discussion on level of detai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Based on patient pathway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iagnosi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reatmen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ollow-up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 Narrow"/>
              </a:rPr>
              <a:t>Define criteria for the indicator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77560" y="1380960"/>
            <a:ext cx="83264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 Narrow"/>
              </a:rPr>
              <a:t>Valid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 Narrow"/>
              </a:rPr>
              <a:t>Reliabl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 Narrow"/>
              </a:rPr>
              <a:t>Reveal differenc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 Narrow"/>
              </a:rPr>
              <a:t>Describe either structure (challenge to collect), process or outcom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 Narrow"/>
              </a:rPr>
              <a:t>Influences outcome of the patient (difference in indicator matter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 Narrow"/>
              </a:rPr>
              <a:t>Registration by CR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Specific criteria/indicators</a:t>
            </a:r>
            <a:br>
              <a:rPr sz="3600"/>
            </a:b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example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iagnosis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Use of imaging/specific diagnostic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Stage at time of diagnosi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athology report (reviewed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re-treatment MD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vailability of relevant disciplines at MDT (pathologist etc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ime between pathological confirmation and first treatmen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Specific criteria/indicators</a:t>
            </a:r>
            <a:br>
              <a:rPr sz="3600"/>
            </a:b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example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reatment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eferral pattern = hospital of diagnosis and hospital of treatmen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ccording to guideline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ree margins after surgery/number of revision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ost-treatment MD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vailability of different disciplines at MDT (pathologist etc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ime between first treatment and adjuvant therapy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Specific criteria/indicators</a:t>
            </a:r>
            <a:br>
              <a:rPr sz="3600"/>
            </a:b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example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ollow-up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13160" indent="-27432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1, 3, 5 year survival (WP4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13160" indent="-27432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ecurrence within 5 years after diagnosi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13160" indent="-27432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atient satisfaction (not collected by CR!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13160" indent="-27432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Information to patient about treatmen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General: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13160" indent="-27432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Organisation of care: a case manager for every patient (too much detail, survey? Not by data from CR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Specific criteria/indicators</a:t>
            </a:r>
            <a:br>
              <a:rPr sz="3600"/>
            </a:b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plan of action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heck availablility in EU Cancer Registries (CR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Some CR will be invited to collect information from clinical files in retrospect (time period important for ability to find data (electronically), partly overlap of period of Wp4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evelop a protocol to retrieve data for these High Resolution Studi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High Resolution Studie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llect data on specific indicators by high resolution study using a set protoco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Selected number of CR (partners NL, Finland, Italy, Ireland, Bulgaria, Slovenia i.e. based on EUROCHIP survey on availablity stage etc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nalyse data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iscuss results with exper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escribe an advice upon CoE for the specific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03040" y="18864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Criteria for Selection of rare cancer type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12840" y="1125360"/>
            <a:ext cx="770076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Which rare cancers to select for High Resolution Stud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ational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xpected difference in clinical management (adherence to guidelin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xpected difference in clinical 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ake geographical patterns and trends in incidence into account (mesothelioma, Thyroid cancer): WP4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lready work done by other groups (could be included in expert group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69850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Proposal for High Resolution Studie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ive (?) groups of rare tumours we could focus on;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42960" indent="-45720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esothelioma (Italy, NL, clusters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42960" indent="-45720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Sarcomas (EPAAC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42960" indent="-45720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Leukemia (partner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42960" indent="-45720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ndocrine tumours (thyroid cluster?, Finland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42960" indent="-45720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Neuroendocrine tumour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Work Package 5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im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3556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 identify the qualification criteria for centres Centres of Expertise (CoE) for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355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eliverable (No: 7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eport identifying criteria indicating the level/quality of expertise for rare cancers managemen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Timelin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2: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Kick off meeting (Now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3: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Start preparing consensus meeting with exper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7: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Start developing protocol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8: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nsensus meeting with exper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9: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Send out protocol for data on indicato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9-M17: 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llect data from CR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17-M19: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ata analys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21: Data collection and data analyses completed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23: Meeting to discuss output with CR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-294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24: Meeting present results to exper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Expected results and output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71" name="Rectangle 3" descr=""/>
          <p:cNvPicPr/>
          <p:nvPr/>
        </p:nvPicPr>
        <p:blipFill>
          <a:blip r:embed="rId1"/>
          <a:stretch/>
        </p:blipFill>
        <p:spPr>
          <a:xfrm>
            <a:off x="219240" y="1322280"/>
            <a:ext cx="78152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03120" y="18864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Link to other WP’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73" name="Tekstvak 10" descr=""/>
          <p:cNvPicPr/>
          <p:nvPr/>
        </p:nvPicPr>
        <p:blipFill>
          <a:blip r:embed="rId1"/>
          <a:stretch/>
        </p:blipFill>
        <p:spPr>
          <a:xfrm>
            <a:off x="3608280" y="1609560"/>
            <a:ext cx="1755720" cy="804960"/>
          </a:xfrm>
          <a:prstGeom prst="rect">
            <a:avLst/>
          </a:prstGeom>
          <a:ln w="0">
            <a:noFill/>
          </a:ln>
        </p:spPr>
      </p:pic>
      <p:pic>
        <p:nvPicPr>
          <p:cNvPr id="174" name="Tekstvak 11" descr=""/>
          <p:cNvPicPr/>
          <p:nvPr/>
        </p:nvPicPr>
        <p:blipFill>
          <a:blip r:embed="rId2"/>
          <a:stretch/>
        </p:blipFill>
        <p:spPr>
          <a:xfrm>
            <a:off x="6114960" y="2664000"/>
            <a:ext cx="1919520" cy="1768320"/>
          </a:xfrm>
          <a:prstGeom prst="rect">
            <a:avLst/>
          </a:prstGeom>
          <a:ln w="0">
            <a:noFill/>
          </a:ln>
        </p:spPr>
      </p:pic>
      <p:pic>
        <p:nvPicPr>
          <p:cNvPr id="175" name="Tekstvak 12" descr=""/>
          <p:cNvPicPr/>
          <p:nvPr/>
        </p:nvPicPr>
        <p:blipFill>
          <a:blip r:embed="rId3"/>
          <a:stretch/>
        </p:blipFill>
        <p:spPr>
          <a:xfrm>
            <a:off x="6114960" y="1609560"/>
            <a:ext cx="1749600" cy="804960"/>
          </a:xfrm>
          <a:prstGeom prst="rect">
            <a:avLst/>
          </a:prstGeom>
          <a:ln w="0">
            <a:noFill/>
          </a:ln>
        </p:spPr>
      </p:pic>
      <p:pic>
        <p:nvPicPr>
          <p:cNvPr id="176" name="Tekstvak 13" descr=""/>
          <p:cNvPicPr/>
          <p:nvPr/>
        </p:nvPicPr>
        <p:blipFill>
          <a:blip r:embed="rId4"/>
          <a:stretch/>
        </p:blipFill>
        <p:spPr>
          <a:xfrm>
            <a:off x="987480" y="3011400"/>
            <a:ext cx="1805040" cy="1073160"/>
          </a:xfrm>
          <a:prstGeom prst="rect">
            <a:avLst/>
          </a:prstGeom>
          <a:ln w="0">
            <a:noFill/>
          </a:ln>
        </p:spPr>
      </p:pic>
      <p:pic>
        <p:nvPicPr>
          <p:cNvPr id="177" name="Tekstvak 14" descr=""/>
          <p:cNvPicPr/>
          <p:nvPr/>
        </p:nvPicPr>
        <p:blipFill>
          <a:blip r:embed="rId5"/>
          <a:stretch/>
        </p:blipFill>
        <p:spPr>
          <a:xfrm>
            <a:off x="5089680" y="4797360"/>
            <a:ext cx="1749240" cy="1354320"/>
          </a:xfrm>
          <a:prstGeom prst="rect">
            <a:avLst/>
          </a:prstGeom>
          <a:ln w="0">
            <a:noFill/>
          </a:ln>
        </p:spPr>
      </p:pic>
      <p:pic>
        <p:nvPicPr>
          <p:cNvPr id="178" name="Tekstvak 15" descr=""/>
          <p:cNvPicPr/>
          <p:nvPr/>
        </p:nvPicPr>
        <p:blipFill>
          <a:blip r:embed="rId6"/>
          <a:stretch/>
        </p:blipFill>
        <p:spPr>
          <a:xfrm>
            <a:off x="2286000" y="4797360"/>
            <a:ext cx="1743120" cy="1354320"/>
          </a:xfrm>
          <a:prstGeom prst="rect">
            <a:avLst/>
          </a:prstGeom>
          <a:ln w="0">
            <a:noFill/>
          </a:ln>
        </p:spPr>
      </p:pic>
      <p:pic>
        <p:nvPicPr>
          <p:cNvPr id="179" name="Tekstvak 16" descr=""/>
          <p:cNvPicPr/>
          <p:nvPr/>
        </p:nvPicPr>
        <p:blipFill>
          <a:blip r:embed="rId7"/>
          <a:stretch/>
        </p:blipFill>
        <p:spPr>
          <a:xfrm>
            <a:off x="3578400" y="3181320"/>
            <a:ext cx="1742760" cy="804960"/>
          </a:xfrm>
          <a:prstGeom prst="rect">
            <a:avLst/>
          </a:prstGeom>
          <a:ln w="0">
            <a:noFill/>
          </a:ln>
        </p:spPr>
      </p:pic>
      <p:sp>
        <p:nvSpPr>
          <p:cNvPr id="180" name="PIJL-OMHOOG en -OMLAAG 3"/>
          <p:cNvSpPr/>
          <p:nvPr/>
        </p:nvSpPr>
        <p:spPr>
          <a:xfrm>
            <a:off x="4334040" y="2422440"/>
            <a:ext cx="161640" cy="628560"/>
          </a:xfrm>
          <a:prstGeom prst="upDownArrow">
            <a:avLst>
              <a:gd name="adj1" fmla="val 50000"/>
              <a:gd name="adj2" fmla="val 50084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IJL-LINKS en -RECHTS 18"/>
          <p:cNvSpPr/>
          <p:nvPr/>
        </p:nvSpPr>
        <p:spPr>
          <a:xfrm>
            <a:off x="2836800" y="3513240"/>
            <a:ext cx="642960" cy="168120"/>
          </a:xfrm>
          <a:prstGeom prst="leftRightArrow">
            <a:avLst>
              <a:gd name="adj1" fmla="val 50000"/>
              <a:gd name="adj2" fmla="val 50054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IJL-LINKS en -RECHTS 19"/>
          <p:cNvSpPr/>
          <p:nvPr/>
        </p:nvSpPr>
        <p:spPr>
          <a:xfrm flipV="1">
            <a:off x="5470560" y="1887480"/>
            <a:ext cx="541440" cy="179280"/>
          </a:xfrm>
          <a:prstGeom prst="leftRightArrow">
            <a:avLst>
              <a:gd name="adj1" fmla="val 50000"/>
              <a:gd name="adj2" fmla="val 50041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IJL-RECHTS 20"/>
          <p:cNvSpPr/>
          <p:nvPr/>
        </p:nvSpPr>
        <p:spPr>
          <a:xfrm>
            <a:off x="5519880" y="3465360"/>
            <a:ext cx="442800" cy="168480"/>
          </a:xfrm>
          <a:prstGeom prst="rightArrow">
            <a:avLst>
              <a:gd name="adj1" fmla="val 50000"/>
              <a:gd name="adj2" fmla="val 49924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IJL-LINKS en -OMHOOG 21"/>
          <p:cNvSpPr/>
          <p:nvPr/>
        </p:nvSpPr>
        <p:spPr>
          <a:xfrm>
            <a:off x="4152960" y="4108320"/>
            <a:ext cx="363600" cy="903240"/>
          </a:xfrm>
          <a:custGeom>
            <a:avLst/>
            <a:gdLst/>
            <a:ahLst/>
            <a:rect l="l" t="t" r="r" b="b"/>
            <a:pathLst>
              <a:path w="363538" h="903288">
                <a:moveTo>
                  <a:pt x="0" y="812404"/>
                </a:moveTo>
                <a:lnTo>
                  <a:pt x="90885" y="721519"/>
                </a:lnTo>
                <a:lnTo>
                  <a:pt x="90885" y="766961"/>
                </a:lnTo>
                <a:lnTo>
                  <a:pt x="227211" y="766961"/>
                </a:lnTo>
                <a:lnTo>
                  <a:pt x="227211" y="90885"/>
                </a:lnTo>
                <a:lnTo>
                  <a:pt x="181769" y="90885"/>
                </a:lnTo>
                <a:lnTo>
                  <a:pt x="272654" y="0"/>
                </a:lnTo>
                <a:lnTo>
                  <a:pt x="363538" y="90885"/>
                </a:lnTo>
                <a:lnTo>
                  <a:pt x="318096" y="90885"/>
                </a:lnTo>
                <a:lnTo>
                  <a:pt x="318096" y="857846"/>
                </a:lnTo>
                <a:lnTo>
                  <a:pt x="90885" y="857846"/>
                </a:lnTo>
                <a:lnTo>
                  <a:pt x="90885" y="903288"/>
                </a:lnTo>
                <a:lnTo>
                  <a:pt x="0" y="812404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IJL-LINKS en -OMHOOG 25"/>
          <p:cNvSpPr/>
          <p:nvPr/>
        </p:nvSpPr>
        <p:spPr>
          <a:xfrm rot="5400000">
            <a:off x="4313880" y="4409280"/>
            <a:ext cx="903240" cy="320400"/>
          </a:xfrm>
          <a:custGeom>
            <a:avLst/>
            <a:gdLst/>
            <a:ahLst/>
            <a:rect l="l" t="t" r="r" b="b"/>
            <a:pathLst>
              <a:path w="903288" h="320675">
                <a:moveTo>
                  <a:pt x="0" y="240506"/>
                </a:moveTo>
                <a:lnTo>
                  <a:pt x="48672" y="160338"/>
                </a:lnTo>
                <a:lnTo>
                  <a:pt x="48672" y="200422"/>
                </a:lnTo>
                <a:lnTo>
                  <a:pt x="783035" y="200422"/>
                </a:lnTo>
                <a:lnTo>
                  <a:pt x="783035" y="48672"/>
                </a:lnTo>
                <a:lnTo>
                  <a:pt x="742951" y="48672"/>
                </a:lnTo>
                <a:lnTo>
                  <a:pt x="823119" y="0"/>
                </a:lnTo>
                <a:lnTo>
                  <a:pt x="903288" y="48672"/>
                </a:lnTo>
                <a:lnTo>
                  <a:pt x="863204" y="48672"/>
                </a:lnTo>
                <a:lnTo>
                  <a:pt x="863204" y="280591"/>
                </a:lnTo>
                <a:lnTo>
                  <a:pt x="48672" y="280591"/>
                </a:lnTo>
                <a:lnTo>
                  <a:pt x="48672" y="320675"/>
                </a:lnTo>
                <a:lnTo>
                  <a:pt x="0" y="240506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Questions and suggestion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87" name="Picture 2" descr="http://marketingepic.com/sites/marketingepic.com/files/Question-Mark.jpg"/>
          <p:cNvPicPr/>
          <p:nvPr/>
        </p:nvPicPr>
        <p:blipFill>
          <a:blip r:embed="rId1"/>
          <a:stretch/>
        </p:blipFill>
        <p:spPr>
          <a:xfrm>
            <a:off x="1979640" y="1341360"/>
            <a:ext cx="52084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6560" y="31248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Introduction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89" name="Rectangle 3" descr=""/>
          <p:cNvPicPr/>
          <p:nvPr/>
        </p:nvPicPr>
        <p:blipFill>
          <a:blip r:embed="rId1"/>
          <a:stretch/>
        </p:blipFill>
        <p:spPr>
          <a:xfrm>
            <a:off x="219240" y="1322280"/>
            <a:ext cx="77612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49120" y="33300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Content: ADAPT!!!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im of Work Package 5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ileston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ethodology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imelin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xpected results and outpu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Link to other Work Packag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92" name="Picture 13" descr=""/>
          <p:cNvPicPr/>
          <p:nvPr/>
        </p:nvPicPr>
        <p:blipFill>
          <a:blip r:embed="rId1"/>
          <a:stretch/>
        </p:blipFill>
        <p:spPr>
          <a:xfrm>
            <a:off x="5365800" y="1558800"/>
            <a:ext cx="2693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60360" y="33300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Strategy: Exampl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11744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Identify the common indicators on rare disease (example: EUCERD indicators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  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Identify existing indicators and criteria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   on specific tumour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76080" indent="-25992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   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iscuss criteria with experts and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    find consensu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evelop protocol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on data collection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Collect data and analys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or the criteria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data for the exper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5" name="Gebogen PIJL-OMHOOG 2"/>
          <p:cNvSpPr/>
          <p:nvPr/>
        </p:nvSpPr>
        <p:spPr>
          <a:xfrm rot="5400000">
            <a:off x="1579680" y="1764360"/>
            <a:ext cx="462240" cy="1104840"/>
          </a:xfrm>
          <a:custGeom>
            <a:avLst/>
            <a:gdLst/>
            <a:ahLst/>
            <a:rect l="l" t="t" r="r" b="b"/>
            <a:pathLst>
              <a:path w="461963" h="1104900">
                <a:moveTo>
                  <a:pt x="0" y="989409"/>
                </a:moveTo>
                <a:lnTo>
                  <a:pt x="288727" y="989409"/>
                </a:lnTo>
                <a:lnTo>
                  <a:pt x="288727" y="115491"/>
                </a:lnTo>
                <a:lnTo>
                  <a:pt x="230982" y="115491"/>
                </a:lnTo>
                <a:lnTo>
                  <a:pt x="346472" y="0"/>
                </a:lnTo>
                <a:lnTo>
                  <a:pt x="461963" y="115491"/>
                </a:lnTo>
                <a:lnTo>
                  <a:pt x="404218" y="115491"/>
                </a:lnTo>
                <a:lnTo>
                  <a:pt x="404218" y="1104900"/>
                </a:lnTo>
                <a:lnTo>
                  <a:pt x="0" y="1104900"/>
                </a:lnTo>
                <a:lnTo>
                  <a:pt x="0" y="98940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IJL-OMLAAG 3"/>
          <p:cNvSpPr/>
          <p:nvPr/>
        </p:nvSpPr>
        <p:spPr>
          <a:xfrm>
            <a:off x="4916520" y="2746440"/>
            <a:ext cx="249120" cy="64116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Gebogen PIJL-OMHOOG 6"/>
          <p:cNvSpPr/>
          <p:nvPr/>
        </p:nvSpPr>
        <p:spPr>
          <a:xfrm rot="10800000">
            <a:off x="1186920" y="3681000"/>
            <a:ext cx="1248120" cy="538200"/>
          </a:xfrm>
          <a:custGeom>
            <a:avLst/>
            <a:gdLst/>
            <a:ahLst/>
            <a:rect l="l" t="t" r="r" b="b"/>
            <a:pathLst>
              <a:path w="1247775" h="538162">
                <a:moveTo>
                  <a:pt x="0" y="403622"/>
                </a:moveTo>
                <a:lnTo>
                  <a:pt x="1045964" y="403622"/>
                </a:lnTo>
                <a:lnTo>
                  <a:pt x="1045964" y="134541"/>
                </a:lnTo>
                <a:lnTo>
                  <a:pt x="978694" y="134541"/>
                </a:lnTo>
                <a:lnTo>
                  <a:pt x="1113235" y="0"/>
                </a:lnTo>
                <a:lnTo>
                  <a:pt x="1247775" y="134541"/>
                </a:lnTo>
                <a:lnTo>
                  <a:pt x="1180505" y="134541"/>
                </a:lnTo>
                <a:lnTo>
                  <a:pt x="1180505" y="538162"/>
                </a:lnTo>
                <a:lnTo>
                  <a:pt x="0" y="538162"/>
                </a:lnTo>
                <a:lnTo>
                  <a:pt x="0" y="403622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IJL-RECHTS 4"/>
          <p:cNvSpPr/>
          <p:nvPr/>
        </p:nvSpPr>
        <p:spPr>
          <a:xfrm>
            <a:off x="2957400" y="5103720"/>
            <a:ext cx="854280" cy="24948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 Narrow"/>
              </a:rPr>
              <a:t>How?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34" name="Picture 13" descr=""/>
          <p:cNvPicPr/>
          <p:nvPr/>
        </p:nvPicPr>
        <p:blipFill>
          <a:blip r:embed="rId1"/>
          <a:stretch/>
        </p:blipFill>
        <p:spPr>
          <a:xfrm>
            <a:off x="2916360" y="1413000"/>
            <a:ext cx="399096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 Narrow"/>
              </a:rPr>
              <a:t>How?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1341360"/>
            <a:ext cx="77011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with a wide consensus process and high resolution studies and feedback/discussion on the resul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gether with partners, collaborators, clinicians, patients, scientific societies, health authoriti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7" name="PIJL-OMLAAG 3"/>
          <p:cNvSpPr/>
          <p:nvPr/>
        </p:nvSpPr>
        <p:spPr>
          <a:xfrm>
            <a:off x="3960720" y="2651040"/>
            <a:ext cx="809640" cy="116532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Partners WP5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7840" indent="-17784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ssociated partner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INT, ISS, UEDIN, ECPC,  NOH, NCR, CSF, OILJ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77840" indent="-1746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llaborating partners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CE (Rare cancers Europe), EPAAC, ESSO,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SO, INSERM (Orphanet), Centre of Leon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Bernard, ESMO, LeukaNet, ECCO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 be determined: experts for selected tumour types!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Milestone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ileston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nsensus meeting on criteria Co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 protocol for the high resolution study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ata collection and analysi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eeting to discuss the result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inal dissemination meeting with experts held/repor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60105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General criteria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General criteria for CoE on all rare diseases availabl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European Union Committee of Experts of rare diseases (EUCERD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Multidisciplinary scientific society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atient organization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olicy mak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 Narrow"/>
              </a:rPr>
              <a:t>Possible general criteria (EUCERD):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1) the attractiveness measured through the volume of cases treated (link to WP4),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2) the capacity to produce and adhere to clinical guidelines (i.e. staging procedure and treatment),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3) outcomes (i.e. surgical free margins, number of revision surgery, survival and recurrence),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6010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 Narrow"/>
              </a:rPr>
              <a:t>Possible general criteria (EUCERD):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77560" y="1380960"/>
            <a:ext cx="7700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4) the availability of multidisciplinary team,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5) the collaboration with other centers of expertise at national and international level (also for clinical trials).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6) capacity to participate in data collection (clinical research and public health in relation to CR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12:06Z</dcterms:created>
  <dc:creator>Roberto Rizzo</dc:creator>
  <dc:description/>
  <dc:language>en-US</dc:language>
  <cp:lastModifiedBy>HERON Graeme</cp:lastModifiedBy>
  <dcterms:modified xsi:type="dcterms:W3CDTF">2012-07-19T15:40:07Z</dcterms:modified>
  <cp:revision>94</cp:revision>
  <dc:subject/>
  <dc:title>Diapositiva 1</dc:title>
</cp:coreProperties>
</file>