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692B-E44D-40C0-8324-CFEE7C1F2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B7D-BF5A-4CF3-A821-6C55DF68C26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A95C-9E4E-4007-9D2B-B8C9CF867F0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50C-2268-485C-9EB4-A84E5E08692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4F09-7F34-4007-B6A8-FAF0A75D280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F2B-1BEC-4C74-BB24-181A7055A9F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48BB-1800-442B-9351-5881A9B439E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22E6-725D-4502-B234-AC5143C0DC4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473-BA0E-45C2-9894-B80AADFBFD9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AADA-C7F6-4F5D-B29F-9744DC8A6F4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0F0A-F773-4F08-A3AB-F3879ACC4A2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FAD-ED2C-4E1B-B45E-4FB3C44CAD0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lity this is the strategy linked to a timeline. This is important for WP4 to check as the changes we made will affect their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F169-A173-4CE7-A140-0AFA2DCADD7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final deliverable, the report will be written in a way that it can be used by WP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4449-2FDD-4939-A46A-47433EA9458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oint chortly the relation between our WP and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 3 is the only exeption, we are not in direct contact with this W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verview is not representing the relation between other WP, this should maybe be clar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1: We inform them on all our activities, we get feedback from their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2: We will give input towards dessimination plan , this is a relative one way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3: No direct contact, contact will be via W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4: Close collaboration, we need each others’ information to come to the expecte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6: They will develop a gateway for information, we have to give input upon their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7: Close collaboration, our WP will give them input to loby and indicate on Co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2C9C-FE88-4F10-9DCE-3C3149181BF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5449-DF28-4C2A-A158-B9FACB510CD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k denk dat de introductie een korte uitleg kan geven over onze organisatie en de mogelijk de recente fus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arna een toelichting van de EU projecten waar we bij betrokken zijn en wat we daarin doen/gedaan heb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arnaast is het denk ik belangrijk aan te geven hoe we betrokken waren bij het RARECAR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iteindelijk kunnen we hier uitleggen waarom IKNL de partner is om bij RARECARENet te betrek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8A82-40FE-474D-BD1D-F5A0567E771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hort introduction upon our organisation and the role of it within the E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rtly explain how we were involved for this project (explaining EUROCHIP and RAREC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D22-584A-41BD-9A27-7BEA8228698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296-A0BF-41E5-B90F-4A4318E4652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requested we give a example on how to work (process) for in this case NETs, this to better explain and visualise our plans to come to the results using the mile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35AF-960E-4156-93B8-ECBFE3AAAB1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1398-248A-48C8-B146-0027CED9175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236-B55A-435A-BAE8-8E356A3E23D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Is basis for tumour specific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344-B76F-4406-AB7C-D7F65ED93EAF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9CA-45B9-46D2-A7C7-1BF10BB8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6BA-6F26-4A52-A980-63C1D56E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DBE-8551-47AE-9A7A-FA87D6A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67C-AAF1-48AC-A371-9A2A8973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101-D1ED-4469-B090-A6AD45E5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90C-DF97-4CC9-A500-AAA9CC8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1F7-E362-49C3-B465-6F2E2F9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B91-A0A3-44CD-AFBF-326E679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D62-16CF-4E7C-9CB5-FA13BA2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F35-0CE7-4FCB-B615-C70EEACE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FBD-AF06-40A9-9E47-B0B2B5F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95C-4307-44E5-B0BD-AF826E71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66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74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9804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137-258D-43C6-95F0-F5A0F9327791}" type="slidenum"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66560" y="1482840"/>
            <a:ext cx="7521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66560" y="269388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on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71400" y="3500280"/>
            <a:ext cx="711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"/>
              </a:rPr>
              <a:t>WP leader: Sabine Siesl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riteria for expert group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tumour specific indicators for CoE on specific rare tumours preferably based on guideli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l experts involved in diagnostics and treatment for specific tumou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hology, medical oncology, surgery, radiotherapy, patient advocacy grou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tumour specific indicators for CoE on specific rare tumours preferably based on guideli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&gt; discussion on level of detai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Based on patient pathwa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llow-up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Define criteria for the indicato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77560" y="1380960"/>
            <a:ext cx="83264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Vali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Reliab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Reveal differenc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Describe either structure (challenge to collect), process or outcom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Influences outcome of the patient (difference in indicator matte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Registration by C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amp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agnosi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Use of imaging/specific diagnostic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ge at time of 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hology report (reviewed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e-treatment MD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vailability of relevant disciplines at MDT (pathologist et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ime between pathological confirmation and first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amp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reatment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ferral pattern = hospital of diagnosis and hospital of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ccording to guideline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ree margins after surgery/number of revis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st-treatment MD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vailability of different disciplines at MDT (pathologist et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ime between first treatment and adjuvant therap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amp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llow-up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1, 3, 5 year survival (WP4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currence within 5 years after 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ient satisfaction (not collected by CR!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to patient about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neral: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rganisation of care: a case manager for every patient (too much detail, survey? Not by data from 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lan of ac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heck availablility in EU Cancer Registries (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ome CR will be invited to collect information from clinical files in retrospect (time period important for ability to find data (electronically), partly overlap of period of Wp4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a protocol to retrieve data for these High Resolution Stud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High Resolution Studi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ect data on specific indicators by high resolution study using a set protoco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elected number of CR (partners NL, Finland, Italy, Ireland, Bulgaria, Slovenia i.e. based on EUROCHIP survey on availablity stage et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nalyse data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scuss results with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scribe an advice upon CoE for the specific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03040" y="18864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riteria for Selection of rare cancer typ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840" y="1125360"/>
            <a:ext cx="77007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ich rare cancers to select for High Resolution Stud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ationa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management (adherence to guidelin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ake geographical patterns and trends in incidence into account (mesothelioma, Thyroid cancer): WP4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ready work done by other groups (could be included in expert grou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985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roposal for High Resolution Studi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ive (?) groups of rare tumours we could focus on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sothelioma (Italy, NL, cluster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arcomas (EPAA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Leukemia (partne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ndocrine tumours (thyroid cluster?, Finland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euroendocrine tumou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im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identify the qualification criteria for centres Centres of Expertise (CoE)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liverable (No: 7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port identifying criteria indicating the level/quality of expertise for rare cancers manage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Timelin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Kick off meeting (Now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3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rt preparing consensus meeting with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7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rt developing protoco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8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sensus meeting with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9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end out protocol for data on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9-M17: 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ect data from C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17-M19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ata analys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1: Data collection and data analyses complet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3: Meeting to discuss output with C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4: Meeting present results to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pected results and outpu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219240" y="1322280"/>
            <a:ext cx="7815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3120" y="18864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Link to other WP’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73" name="Tekstvak 10" descr=""/>
          <p:cNvPicPr/>
          <p:nvPr/>
        </p:nvPicPr>
        <p:blipFill>
          <a:blip r:embed="rId1"/>
          <a:stretch/>
        </p:blipFill>
        <p:spPr>
          <a:xfrm>
            <a:off x="3608280" y="1609560"/>
            <a:ext cx="1755720" cy="804960"/>
          </a:xfrm>
          <a:prstGeom prst="rect">
            <a:avLst/>
          </a:prstGeom>
          <a:ln w="0">
            <a:noFill/>
          </a:ln>
        </p:spPr>
      </p:pic>
      <p:pic>
        <p:nvPicPr>
          <p:cNvPr id="174" name="Tekstvak 11" descr=""/>
          <p:cNvPicPr/>
          <p:nvPr/>
        </p:nvPicPr>
        <p:blipFill>
          <a:blip r:embed="rId2"/>
          <a:stretch/>
        </p:blipFill>
        <p:spPr>
          <a:xfrm>
            <a:off x="6114960" y="2664000"/>
            <a:ext cx="1919520" cy="1768320"/>
          </a:xfrm>
          <a:prstGeom prst="rect">
            <a:avLst/>
          </a:prstGeom>
          <a:ln w="0">
            <a:noFill/>
          </a:ln>
        </p:spPr>
      </p:pic>
      <p:pic>
        <p:nvPicPr>
          <p:cNvPr id="175" name="Tekstvak 12" descr=""/>
          <p:cNvPicPr/>
          <p:nvPr/>
        </p:nvPicPr>
        <p:blipFill>
          <a:blip r:embed="rId3"/>
          <a:stretch/>
        </p:blipFill>
        <p:spPr>
          <a:xfrm>
            <a:off x="6114960" y="1609560"/>
            <a:ext cx="1749600" cy="804960"/>
          </a:xfrm>
          <a:prstGeom prst="rect">
            <a:avLst/>
          </a:prstGeom>
          <a:ln w="0">
            <a:noFill/>
          </a:ln>
        </p:spPr>
      </p:pic>
      <p:pic>
        <p:nvPicPr>
          <p:cNvPr id="176" name="Tekstvak 13" descr=""/>
          <p:cNvPicPr/>
          <p:nvPr/>
        </p:nvPicPr>
        <p:blipFill>
          <a:blip r:embed="rId4"/>
          <a:stretch/>
        </p:blipFill>
        <p:spPr>
          <a:xfrm>
            <a:off x="987480" y="3011400"/>
            <a:ext cx="1805040" cy="1073160"/>
          </a:xfrm>
          <a:prstGeom prst="rect">
            <a:avLst/>
          </a:prstGeom>
          <a:ln w="0">
            <a:noFill/>
          </a:ln>
        </p:spPr>
      </p:pic>
      <p:pic>
        <p:nvPicPr>
          <p:cNvPr id="177" name="Tekstvak 14" descr=""/>
          <p:cNvPicPr/>
          <p:nvPr/>
        </p:nvPicPr>
        <p:blipFill>
          <a:blip r:embed="rId5"/>
          <a:stretch/>
        </p:blipFill>
        <p:spPr>
          <a:xfrm>
            <a:off x="5089680" y="4797360"/>
            <a:ext cx="1749240" cy="1354320"/>
          </a:xfrm>
          <a:prstGeom prst="rect">
            <a:avLst/>
          </a:prstGeom>
          <a:ln w="0">
            <a:noFill/>
          </a:ln>
        </p:spPr>
      </p:pic>
      <p:pic>
        <p:nvPicPr>
          <p:cNvPr id="178" name="Tekstvak 15" descr=""/>
          <p:cNvPicPr/>
          <p:nvPr/>
        </p:nvPicPr>
        <p:blipFill>
          <a:blip r:embed="rId6"/>
          <a:stretch/>
        </p:blipFill>
        <p:spPr>
          <a:xfrm>
            <a:off x="2286000" y="4797360"/>
            <a:ext cx="1743120" cy="1354320"/>
          </a:xfrm>
          <a:prstGeom prst="rect">
            <a:avLst/>
          </a:prstGeom>
          <a:ln w="0">
            <a:noFill/>
          </a:ln>
        </p:spPr>
      </p:pic>
      <p:pic>
        <p:nvPicPr>
          <p:cNvPr id="179" name="Tekstvak 16" descr=""/>
          <p:cNvPicPr/>
          <p:nvPr/>
        </p:nvPicPr>
        <p:blipFill>
          <a:blip r:embed="rId7"/>
          <a:stretch/>
        </p:blipFill>
        <p:spPr>
          <a:xfrm>
            <a:off x="3578400" y="3181320"/>
            <a:ext cx="1742760" cy="804960"/>
          </a:xfrm>
          <a:prstGeom prst="rect">
            <a:avLst/>
          </a:prstGeom>
          <a:ln w="0">
            <a:noFill/>
          </a:ln>
        </p:spPr>
      </p:pic>
      <p:sp>
        <p:nvSpPr>
          <p:cNvPr id="180" name="PIJL-OMHOOG en -OMLAAG 3"/>
          <p:cNvSpPr/>
          <p:nvPr/>
        </p:nvSpPr>
        <p:spPr>
          <a:xfrm>
            <a:off x="4334040" y="2422440"/>
            <a:ext cx="161640" cy="628560"/>
          </a:xfrm>
          <a:prstGeom prst="upDownArrow">
            <a:avLst>
              <a:gd name="adj1" fmla="val 50000"/>
              <a:gd name="adj2" fmla="val 5008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IJL-LINKS en -RECHTS 18"/>
          <p:cNvSpPr/>
          <p:nvPr/>
        </p:nvSpPr>
        <p:spPr>
          <a:xfrm>
            <a:off x="2836800" y="3513240"/>
            <a:ext cx="642960" cy="168120"/>
          </a:xfrm>
          <a:prstGeom prst="leftRightArrow">
            <a:avLst>
              <a:gd name="adj1" fmla="val 50000"/>
              <a:gd name="adj2" fmla="val 5005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IJL-LINKS en -RECHTS 19"/>
          <p:cNvSpPr/>
          <p:nvPr/>
        </p:nvSpPr>
        <p:spPr>
          <a:xfrm flipV="1">
            <a:off x="5470560" y="1887480"/>
            <a:ext cx="541440" cy="179280"/>
          </a:xfrm>
          <a:prstGeom prst="leftRightArrow">
            <a:avLst>
              <a:gd name="adj1" fmla="val 50000"/>
              <a:gd name="adj2" fmla="val 5004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IJL-RECHTS 20"/>
          <p:cNvSpPr/>
          <p:nvPr/>
        </p:nvSpPr>
        <p:spPr>
          <a:xfrm>
            <a:off x="5519880" y="3465360"/>
            <a:ext cx="442800" cy="1684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IJL-LINKS en -OMHOOG 21"/>
          <p:cNvSpPr/>
          <p:nvPr/>
        </p:nvSpPr>
        <p:spPr>
          <a:xfrm>
            <a:off x="4152960" y="4108320"/>
            <a:ext cx="363600" cy="903240"/>
          </a:xfrm>
          <a:custGeom>
            <a:avLst/>
            <a:gdLst/>
            <a:ahLst/>
            <a:rect l="l" t="t" r="r" b="b"/>
            <a:pathLst>
              <a:path w="363538" h="903288">
                <a:moveTo>
                  <a:pt x="0" y="812404"/>
                </a:moveTo>
                <a:lnTo>
                  <a:pt x="90885" y="721519"/>
                </a:lnTo>
                <a:lnTo>
                  <a:pt x="90885" y="766961"/>
                </a:lnTo>
                <a:lnTo>
                  <a:pt x="227211" y="766961"/>
                </a:lnTo>
                <a:lnTo>
                  <a:pt x="227211" y="90885"/>
                </a:lnTo>
                <a:lnTo>
                  <a:pt x="181769" y="90885"/>
                </a:lnTo>
                <a:lnTo>
                  <a:pt x="272654" y="0"/>
                </a:lnTo>
                <a:lnTo>
                  <a:pt x="363538" y="90885"/>
                </a:lnTo>
                <a:lnTo>
                  <a:pt x="318096" y="90885"/>
                </a:lnTo>
                <a:lnTo>
                  <a:pt x="318096" y="857846"/>
                </a:lnTo>
                <a:lnTo>
                  <a:pt x="90885" y="857846"/>
                </a:lnTo>
                <a:lnTo>
                  <a:pt x="90885" y="903288"/>
                </a:lnTo>
                <a:lnTo>
                  <a:pt x="0" y="81240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IJL-LINKS en -OMHOOG 25"/>
          <p:cNvSpPr/>
          <p:nvPr/>
        </p:nvSpPr>
        <p:spPr>
          <a:xfrm rot="5400000">
            <a:off x="4313880" y="4409280"/>
            <a:ext cx="903240" cy="320400"/>
          </a:xfrm>
          <a:custGeom>
            <a:avLst/>
            <a:gdLst/>
            <a:ahLst/>
            <a:rect l="l" t="t" r="r" b="b"/>
            <a:pathLst>
              <a:path w="903288" h="320675">
                <a:moveTo>
                  <a:pt x="0" y="240506"/>
                </a:moveTo>
                <a:lnTo>
                  <a:pt x="48672" y="160338"/>
                </a:lnTo>
                <a:lnTo>
                  <a:pt x="48672" y="200422"/>
                </a:lnTo>
                <a:lnTo>
                  <a:pt x="783035" y="200422"/>
                </a:lnTo>
                <a:lnTo>
                  <a:pt x="783035" y="48672"/>
                </a:lnTo>
                <a:lnTo>
                  <a:pt x="742951" y="48672"/>
                </a:lnTo>
                <a:lnTo>
                  <a:pt x="823119" y="0"/>
                </a:lnTo>
                <a:lnTo>
                  <a:pt x="903288" y="48672"/>
                </a:lnTo>
                <a:lnTo>
                  <a:pt x="863204" y="48672"/>
                </a:lnTo>
                <a:lnTo>
                  <a:pt x="863204" y="280591"/>
                </a:lnTo>
                <a:lnTo>
                  <a:pt x="48672" y="280591"/>
                </a:lnTo>
                <a:lnTo>
                  <a:pt x="48672" y="320675"/>
                </a:lnTo>
                <a:lnTo>
                  <a:pt x="0" y="2405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Questions and suggestion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87" name="Picture 2" descr="http://marketingepic.com/sites/marketingepic.com/files/Question-Mark.jpg"/>
          <p:cNvPicPr/>
          <p:nvPr/>
        </p:nvPicPr>
        <p:blipFill>
          <a:blip r:embed="rId1"/>
          <a:stretch/>
        </p:blipFill>
        <p:spPr>
          <a:xfrm>
            <a:off x="1979640" y="1341360"/>
            <a:ext cx="5208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31248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Introduc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219240" y="1322280"/>
            <a:ext cx="7761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912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ontent: ADAPT!!!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im of Work Package 5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thodolog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imelin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results and outpu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Link to other Work Packag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1"/>
          <a:stretch/>
        </p:blipFill>
        <p:spPr>
          <a:xfrm>
            <a:off x="5365800" y="1558800"/>
            <a:ext cx="2693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6036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trategy: Exampl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1744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dentify the common indicators on rare disease (example: EUCERD indicator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dentify existing indicators and criteria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on specific tumou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scuss criteria with experts and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 find consensu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protocol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n data collection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Collect data and analy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r the criteria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data for the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5" name="Gebogen PIJL-OMHOOG 2"/>
          <p:cNvSpPr/>
          <p:nvPr/>
        </p:nvSpPr>
        <p:spPr>
          <a:xfrm rot="5400000">
            <a:off x="1579680" y="1764360"/>
            <a:ext cx="462240" cy="1104840"/>
          </a:xfrm>
          <a:custGeom>
            <a:avLst/>
            <a:gdLst/>
            <a:ahLst/>
            <a:rect l="l" t="t" r="r" b="b"/>
            <a:pathLst>
              <a:path w="461963" h="1104900">
                <a:moveTo>
                  <a:pt x="0" y="989409"/>
                </a:moveTo>
                <a:lnTo>
                  <a:pt x="288727" y="989409"/>
                </a:lnTo>
                <a:lnTo>
                  <a:pt x="288727" y="115491"/>
                </a:lnTo>
                <a:lnTo>
                  <a:pt x="230982" y="115491"/>
                </a:lnTo>
                <a:lnTo>
                  <a:pt x="346472" y="0"/>
                </a:lnTo>
                <a:lnTo>
                  <a:pt x="461963" y="115491"/>
                </a:lnTo>
                <a:lnTo>
                  <a:pt x="404218" y="115491"/>
                </a:lnTo>
                <a:lnTo>
                  <a:pt x="404218" y="1104900"/>
                </a:lnTo>
                <a:lnTo>
                  <a:pt x="0" y="1104900"/>
                </a:lnTo>
                <a:lnTo>
                  <a:pt x="0" y="98940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IJL-OMLAAG 3"/>
          <p:cNvSpPr/>
          <p:nvPr/>
        </p:nvSpPr>
        <p:spPr>
          <a:xfrm>
            <a:off x="4916520" y="2746440"/>
            <a:ext cx="249120" cy="6411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Gebogen PIJL-OMHOOG 6"/>
          <p:cNvSpPr/>
          <p:nvPr/>
        </p:nvSpPr>
        <p:spPr>
          <a:xfrm rot="10800000">
            <a:off x="1186920" y="3681000"/>
            <a:ext cx="1248120" cy="538200"/>
          </a:xfrm>
          <a:custGeom>
            <a:avLst/>
            <a:gdLst/>
            <a:ahLst/>
            <a:rect l="l" t="t" r="r" b="b"/>
            <a:pathLst>
              <a:path w="1247775" h="538162">
                <a:moveTo>
                  <a:pt x="0" y="403622"/>
                </a:moveTo>
                <a:lnTo>
                  <a:pt x="1045964" y="403622"/>
                </a:lnTo>
                <a:lnTo>
                  <a:pt x="1045964" y="134541"/>
                </a:lnTo>
                <a:lnTo>
                  <a:pt x="978694" y="134541"/>
                </a:lnTo>
                <a:lnTo>
                  <a:pt x="1113235" y="0"/>
                </a:lnTo>
                <a:lnTo>
                  <a:pt x="1247775" y="134541"/>
                </a:lnTo>
                <a:lnTo>
                  <a:pt x="1180505" y="134541"/>
                </a:lnTo>
                <a:lnTo>
                  <a:pt x="1180505" y="538162"/>
                </a:lnTo>
                <a:lnTo>
                  <a:pt x="0" y="538162"/>
                </a:lnTo>
                <a:lnTo>
                  <a:pt x="0" y="403622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IJL-RECHTS 4"/>
          <p:cNvSpPr/>
          <p:nvPr/>
        </p:nvSpPr>
        <p:spPr>
          <a:xfrm>
            <a:off x="2957400" y="5103720"/>
            <a:ext cx="854280" cy="24948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39909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341360"/>
            <a:ext cx="77011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ith a wide consensus process and high resolution studies and feedback/discussion on the resul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gether with partners, collaborators, clinicians, patients, scientific societies, health author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IJL-OMLAAG 3"/>
          <p:cNvSpPr/>
          <p:nvPr/>
        </p:nvSpPr>
        <p:spPr>
          <a:xfrm>
            <a:off x="3960720" y="2651040"/>
            <a:ext cx="809640" cy="1165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artners WP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7840" indent="-1778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 partner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T, ISS, UEDIN, ECPC,  NOH, NCR, CSF, OILJ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77840" indent="-174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 partner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CE (Rare cancers Europe), EPAAC, ESSO,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SO, INSERM (Orphanet), Centre of Leon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Bernard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be determined: experts for selected tumour types!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sensus meeting on criteria Co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protocol for the high resolution study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ata collection and analy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eting to discuss the result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inal dissemination meeting with experts held/repor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General criteria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neral criteria for CoE on all rare diseases availab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uropean Union Committee of Experts of rare diseases (EUCERD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ultidisciplinary scientific societ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ient organiza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licy mak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Possible general criteria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1) the attractiveness measured through the volume of cases treated (link to WP4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2) the capacity to produce and adhere to clinical guidelines (i.e. staging procedure and treatment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3) outcomes (i.e. surgical free margins, number of revision surgery, survival and recurrence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Possible general criteria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4) the availability of multidisciplinary team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5) the collaboration with other centers of expertise at national and international level (also for clinical trials)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6) capacity to participate in data collection (clinical research and public health in relation to 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40:07Z</dcterms:modified>
  <cp:revision>94</cp:revision>
  <dc:subject/>
  <dc:title>Diapositiva 1</dc:title>
</cp:coreProperties>
</file>