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765600" y="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879480" y="732960"/>
            <a:ext cx="48895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 Narrow"/>
              </a:rPr>
              <a:t>Click to move the slide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65280" y="4646520"/>
            <a:ext cx="5317920" cy="44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76560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ECE5F-8F52-4BE2-A272-8D5874D7A30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46080" y="1182600"/>
            <a:ext cx="4897440" cy="3672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65280" y="4646520"/>
            <a:ext cx="531792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TARt chapters are freely available on the Internet, where besides a professional area there is a public one addressed to a non-specialist audience (patients, families etc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946080" y="1182600"/>
            <a:ext cx="4897440" cy="3672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65280" y="4646520"/>
            <a:ext cx="531792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linical recommendations are given according to an evidence-based methodolo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hyperlink" Target="http://images.google.it/imgres?imgurl=http://www.nanonord.dk/images/eu_logo.jpg&amp;imgrefurl=http://cdv.altrove.it/2007_11_01_archive.html&amp;h=284&amp;w=426&amp;sz=11&amp;hl=it&amp;start=8&amp;usg=__yUfhwimJm_NX6EYSntE6HhkfIiQ=&amp;tbnid=xx1uKZukoCCTsM:&amp;tbnh=84&amp;tbnw=126&amp;prev=/images?q=commissione+europea&amp;gbv=2&amp;hl=it&amp;sa=G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1901880" cy="765360"/>
          </a:xfrm>
          <a:prstGeom prst="rect">
            <a:avLst/>
          </a:prstGeom>
          <a:ln w="0">
            <a:noFill/>
          </a:ln>
        </p:spPr>
      </p:pic>
      <p:pic>
        <p:nvPicPr>
          <p:cNvPr id="1" name="Immagine 9" descr=""/>
          <p:cNvPicPr/>
          <p:nvPr/>
        </p:nvPicPr>
        <p:blipFill>
          <a:blip r:embed="rId3">
            <a:lum bright="-18000"/>
          </a:blip>
          <a:stretch/>
        </p:blipFill>
        <p:spPr>
          <a:xfrm>
            <a:off x="0" y="603576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2" name="Text Box 4"/>
          <p:cNvSpPr/>
          <p:nvPr/>
        </p:nvSpPr>
        <p:spPr>
          <a:xfrm>
            <a:off x="5346720" y="6496200"/>
            <a:ext cx="3797280" cy="361800"/>
          </a:xfrm>
          <a:prstGeom prst="rect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formation network on rare cancer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3" descr=""/>
          <p:cNvPicPr/>
          <p:nvPr/>
        </p:nvPicPr>
        <p:blipFill>
          <a:blip r:embed="rId2"/>
          <a:stretch/>
        </p:blipFill>
        <p:spPr>
          <a:xfrm>
            <a:off x="1187280" y="5964120"/>
            <a:ext cx="7956720" cy="90828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9" descr="eu_log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964120"/>
            <a:ext cx="1187280" cy="908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26920" y="907560"/>
            <a:ext cx="7701120" cy="27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66"/>
                </a:solidFill>
                <a:latin typeface="Tahoma"/>
              </a:rPr>
              <a:t>START PROGRAM: STATE-OF-THE-ART ONCOLOGY IN EUROPE</a:t>
            </a:r>
            <a:br>
              <a:rPr sz="2400"/>
            </a:br>
            <a:r>
              <a:rPr b="1" lang="fr-FR" sz="2000" spc="-1" strike="noStrike">
                <a:solidFill>
                  <a:srgbClr val="ffff66"/>
                </a:solidFill>
                <a:latin typeface="Tahoma"/>
              </a:rPr>
              <a:t>www.startoncology.net</a:t>
            </a:r>
            <a:br>
              <a:rPr sz="2000"/>
            </a:br>
            <a:br>
              <a:rPr sz="2400"/>
            </a:br>
            <a:br>
              <a:rPr sz="2400"/>
            </a:br>
            <a:r>
              <a:rPr b="1" i="1" lang="fr-FR" sz="2400" spc="-1" strike="noStrike" u="sng">
                <a:solidFill>
                  <a:srgbClr val="ffff66"/>
                </a:solidFill>
                <a:uFillTx/>
                <a:latin typeface="Tahoma"/>
              </a:rPr>
              <a:t>RARECARENet kick-off</a:t>
            </a:r>
            <a:r>
              <a:rPr b="1" i="1" lang="fr-FR" sz="2400" spc="-1" strike="noStrike" u="sng">
                <a:solidFill>
                  <a:srgbClr val="003366"/>
                </a:solidFill>
                <a:uFillTx/>
                <a:latin typeface="Tahoma"/>
              </a:rPr>
              <a:t> </a:t>
            </a:r>
            <a:br>
              <a:rPr sz="2400"/>
            </a:br>
            <a:r>
              <a:rPr b="1" lang="fr-FR" sz="2400" spc="-1" strike="noStrike">
                <a:solidFill>
                  <a:srgbClr val="003366"/>
                </a:solidFill>
                <a:latin typeface="Tahoma"/>
              </a:rPr>
              <a:t>                                 </a:t>
            </a:r>
            <a:r>
              <a:rPr b="1" lang="fr-FR" sz="1600" spc="-1" strike="noStrike">
                <a:solidFill>
                  <a:srgbClr val="ffff66"/>
                </a:solidFill>
                <a:latin typeface="Tahoma"/>
              </a:rPr>
              <a:t>Luxembourg – July 13, 2012</a:t>
            </a:r>
            <a:br>
              <a:rPr sz="16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fr-FR" sz="2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1" lang="fr-FR" sz="2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1" lang="fr-FR" sz="2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1" lang="fr-FR" sz="2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1" lang="fr-FR" sz="2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ffff66"/>
                </a:solidFill>
                <a:latin typeface="Tahoma"/>
              </a:rPr>
              <a:t>Chairperson</a:t>
            </a:r>
            <a:r>
              <a:rPr b="1" lang="fr-FR" sz="1600" spc="-1" strike="noStrike">
                <a:solidFill>
                  <a:srgbClr val="ffff66"/>
                </a:solidFill>
                <a:latin typeface="Tahoma"/>
              </a:rPr>
              <a:t>: Dr. Lisa Licitra</a:t>
            </a:r>
            <a:r>
              <a:rPr b="1" lang="fr-FR" sz="1600" spc="-1" strike="noStrike">
                <a:solidFill>
                  <a:srgbClr val="003366"/>
                </a:solidFill>
                <a:latin typeface="Tahoma"/>
              </a:rPr>
              <a:t>                                                                              </a:t>
            </a:r>
            <a:r>
              <a:rPr b="1" lang="fr-FR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1" lang="fr-FR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1" lang="fr-FR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1" lang="fr-FR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1" lang="fr-FR" sz="1600" spc="-1" strike="noStrike">
                <a:solidFill>
                  <a:srgbClr val="003366"/>
                </a:solidFill>
                <a:latin typeface="Tahoma"/>
              </a:rPr>
              <a:t>  </a:t>
            </a:r>
            <a:r>
              <a:rPr b="1" lang="fr-FR" sz="1600" spc="-1" strike="noStrike">
                <a:solidFill>
                  <a:srgbClr val="ffff66"/>
                </a:solidFill>
                <a:latin typeface="Tahoma"/>
              </a:rPr>
              <a:t>Fond. IRCCS </a:t>
            </a:r>
            <a:r>
              <a:rPr b="1" lang="it-IT" sz="1600" spc="-1" strike="noStrike">
                <a:solidFill>
                  <a:srgbClr val="ffff66"/>
                </a:solidFill>
                <a:latin typeface="Tahoma"/>
              </a:rPr>
              <a:t>Istituto Tumori</a:t>
            </a:r>
            <a:r>
              <a:rPr b="1" lang="fr-FR" sz="1600" spc="-1" strike="noStrike">
                <a:solidFill>
                  <a:srgbClr val="ffff66"/>
                </a:solidFill>
                <a:latin typeface="Tahoma"/>
              </a:rPr>
              <a:t> Milano</a:t>
            </a:r>
            <a:endParaRPr b="1" lang="en-US" sz="16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900000" y="1773000"/>
            <a:ext cx="82440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buNone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66"/>
                </a:solidFill>
                <a:latin typeface="Tahoma"/>
              </a:rPr>
              <a:t>PROFESSIONAL AREA (FOR CANCER SPECIALISTS)</a:t>
            </a: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ffff66"/>
                </a:solidFill>
                <a:latin typeface="Tahoma"/>
              </a:rPr>
              <a:t>- One chapter on each existing neoplasm (in English)</a:t>
            </a: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ffff66"/>
                </a:solidFill>
                <a:latin typeface="Tahoma"/>
              </a:rPr>
              <a:t>- One chapter on each existing neoplasm (in Italian)</a:t>
            </a: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 algn="just">
              <a:lnSpc>
                <a:spcPct val="50000"/>
              </a:lnSpc>
              <a:spcBef>
                <a:spcPts val="499"/>
              </a:spcBef>
              <a:buClr>
                <a:srgbClr val="f5e447"/>
              </a:buClr>
              <a:buSzPct val="75000"/>
              <a:buFont typeface="Wingdings" charset="2"/>
              <a:buChar char="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66"/>
                </a:solidFill>
                <a:latin typeface="Tahoma"/>
              </a:rPr>
              <a:t>PUBLIC AREA (FOR NON SPECIALISTS)</a:t>
            </a: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ffff66"/>
                </a:solidFill>
                <a:latin typeface="Tahoma"/>
              </a:rPr>
              <a:t>- Information sections in Italian on:</a:t>
            </a: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ffff66"/>
                </a:solidFill>
                <a:latin typeface="Tahoma"/>
              </a:rPr>
              <a:t>  </a:t>
            </a:r>
            <a:r>
              <a:rPr b="1" lang="it-IT" sz="2000" spc="-1" strike="noStrike">
                <a:solidFill>
                  <a:srgbClr val="ffff66"/>
                </a:solidFill>
                <a:latin typeface="Tahoma"/>
              </a:rPr>
              <a:t>a)   single neoplasms </a:t>
            </a: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ffff66"/>
                </a:solidFill>
                <a:latin typeface="Tahoma"/>
              </a:rPr>
              <a:t>  </a:t>
            </a:r>
            <a:r>
              <a:rPr b="1" lang="it-IT" sz="2000" spc="-1" strike="noStrike">
                <a:solidFill>
                  <a:srgbClr val="ffff66"/>
                </a:solidFill>
                <a:latin typeface="Tahoma"/>
              </a:rPr>
              <a:t>b)   cancer-related issues (general information on cancer,              antiemetic therapy, …)</a:t>
            </a: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2484360" y="333360"/>
            <a:ext cx="568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66"/>
                </a:solidFill>
                <a:latin typeface="Arial"/>
              </a:rPr>
              <a:t>THE START WEBSITE</a:t>
            </a:r>
            <a:br>
              <a:rPr sz="3200"/>
            </a:br>
            <a:r>
              <a:rPr b="1" lang="it-IT" sz="3200" spc="-1" strike="noStrike">
                <a:solidFill>
                  <a:srgbClr val="ffff66"/>
                </a:solidFill>
                <a:latin typeface="Arial"/>
              </a:rPr>
              <a:t>(www.startoncology.net</a:t>
            </a:r>
            <a:r>
              <a:rPr b="1" lang="it-IT" sz="3200" spc="-1" strike="noStrike">
                <a:solidFill>
                  <a:srgbClr val="ffff66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Start_visite_Isem"/>
          <p:cNvPicPr/>
          <p:nvPr/>
        </p:nvPicPr>
        <p:blipFill>
          <a:blip r:embed="rId1"/>
          <a:stretch/>
        </p:blipFill>
        <p:spPr>
          <a:xfrm>
            <a:off x="1042920" y="1297080"/>
            <a:ext cx="6913800" cy="455616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6"/>
          <p:cNvSpPr/>
          <p:nvPr/>
        </p:nvSpPr>
        <p:spPr>
          <a:xfrm>
            <a:off x="2411280" y="333360"/>
            <a:ext cx="59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66"/>
                </a:solidFill>
                <a:latin typeface="Arial"/>
              </a:rPr>
              <a:t>MEAN OF ACCESSES TO START WEBSITE</a:t>
            </a:r>
            <a:br>
              <a:rPr sz="2000"/>
            </a:br>
            <a:r>
              <a:rPr b="1" lang="it-IT" sz="2000" spc="-1" strike="noStrike">
                <a:solidFill>
                  <a:srgbClr val="ffff66"/>
                </a:solidFill>
                <a:latin typeface="Arial"/>
              </a:rPr>
              <a:t>JANUARY – JUNE 2012     -  ( 400.000+ hit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95280" y="1413000"/>
            <a:ext cx="8424720" cy="439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444600" indent="-376920">
              <a:lnSpc>
                <a:spcPct val="80000"/>
              </a:lnSpc>
              <a:spcAft>
                <a:spcPts val="1250"/>
              </a:spcAft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66"/>
                </a:solidFill>
                <a:latin typeface="Tahoma"/>
              </a:rPr>
              <a:t>Standard </a:t>
            </a:r>
            <a:r>
              <a:rPr b="1" lang="en-GB" sz="2000" spc="-1" strike="noStrike">
                <a:solidFill>
                  <a:srgbClr val="ffff66"/>
                </a:solidFill>
                <a:latin typeface="Tahoma"/>
              </a:rPr>
              <a:t>("standard", "recommended" [or "not recommended")</a:t>
            </a:r>
            <a:r>
              <a:rPr b="1" lang="en-GB" sz="2000" spc="-1" strike="noStrike">
                <a:solidFill>
                  <a:srgbClr val="ffff66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444600" indent="0" algn="just">
              <a:lnSpc>
                <a:spcPct val="8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n-GB" sz="2000" spc="-1" strike="noStrike">
                <a:solidFill>
                  <a:srgbClr val="ffff66"/>
                </a:solidFill>
                <a:latin typeface="Tahoma"/>
              </a:rPr>
              <a:t>   </a:t>
            </a:r>
            <a:r>
              <a:rPr b="1" lang="en-GB" sz="2000" spc="-1" strike="noStrike">
                <a:solidFill>
                  <a:srgbClr val="ffff66"/>
                </a:solidFill>
                <a:latin typeface="Tahoma"/>
              </a:rPr>
              <a:t>- This can be considered a conventional choice for the     average </a:t>
            </a:r>
            <a:r>
              <a:rPr b="1" lang="en-US" sz="2000" spc="-1" strike="noStrike">
                <a:solidFill>
                  <a:srgbClr val="ffff66"/>
                </a:solidFill>
                <a:latin typeface="Tahoma"/>
              </a:rPr>
              <a:t>patient. </a:t>
            </a: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444600" indent="-376920">
              <a:lnSpc>
                <a:spcPct val="80000"/>
              </a:lnSpc>
              <a:spcAft>
                <a:spcPts val="1250"/>
              </a:spcAft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ahoma"/>
              </a:rPr>
              <a:t>Individualized</a:t>
            </a: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lvl="1" marL="622080" indent="117720">
              <a:lnSpc>
                <a:spcPct val="80000"/>
              </a:lnSpc>
              <a:buClr>
                <a:srgbClr val="ffff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ahoma"/>
              </a:rPr>
              <a:t>suitable for individual clinical use</a:t>
            </a: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lvl="1" marL="622080" indent="117720">
              <a:lnSpc>
                <a:spcPct val="80000"/>
              </a:lnSpc>
              <a:spcAft>
                <a:spcPts val="1250"/>
              </a:spcAft>
              <a:buClr>
                <a:srgbClr val="ffff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ahoma"/>
              </a:rPr>
              <a:t>investigational or suitable for individual clinical use</a:t>
            </a: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lvl="1" marL="622080" indent="0">
              <a:lnSpc>
                <a:spcPct val="8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ahoma"/>
              </a:rPr>
              <a:t>- This is not a standard option, but it can be a reasonable choice for the individual patient. The patient should be informed that the option is not standard and the decision must be shared with the patient. </a:t>
            </a: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444600" indent="-376920">
              <a:lnSpc>
                <a:spcPct val="80000"/>
              </a:lnSpc>
              <a:spcAft>
                <a:spcPts val="1250"/>
              </a:spcAft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ahoma"/>
              </a:rPr>
              <a:t>Investigational only</a:t>
            </a: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lvl="1" marL="622080" indent="0">
              <a:lnSpc>
                <a:spcPct val="70000"/>
              </a:lnSpc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66"/>
                </a:solidFill>
                <a:latin typeface="Tahoma"/>
              </a:rPr>
              <a:t>- This is something which, in principle, can be offered to the patient only within a  clinical study.</a:t>
            </a:r>
            <a:r>
              <a:rPr b="1" lang="en-GB" sz="1800" spc="-1" strike="noStrike">
                <a:solidFill>
                  <a:srgbClr val="ffff66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2268360" y="260280"/>
            <a:ext cx="640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66"/>
                </a:solidFill>
                <a:latin typeface="Arial"/>
              </a:rPr>
              <a:t>CLINICAL RECOMMENDATIONS</a:t>
            </a:r>
            <a:br>
              <a:rPr sz="2000"/>
            </a:br>
            <a:r>
              <a:rPr b="1" lang="it-IT" sz="2000" spc="-1" strike="noStrike">
                <a:solidFill>
                  <a:srgbClr val="ffff66"/>
                </a:solidFill>
                <a:latin typeface="Arial"/>
              </a:rPr>
              <a:t>TYPE OF OP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41"/>
          <p:cNvSpPr/>
          <p:nvPr/>
        </p:nvSpPr>
        <p:spPr>
          <a:xfrm>
            <a:off x="2195640" y="47628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66"/>
                </a:solidFill>
                <a:latin typeface="Arial"/>
              </a:rPr>
              <a:t>OBJECTIVE – WP 4-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Rectangle 43"/>
          <p:cNvSpPr/>
          <p:nvPr/>
        </p:nvSpPr>
        <p:spPr>
          <a:xfrm>
            <a:off x="1116000" y="1987200"/>
            <a:ext cx="72612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ffff66"/>
              </a:buClr>
              <a:buFont typeface="Tahoma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66"/>
                </a:solidFill>
                <a:latin typeface="Tahoma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ffff66"/>
                </a:solidFill>
                <a:latin typeface="Tahoma"/>
                <a:ea typeface="Times New Roman"/>
              </a:rPr>
              <a:t>Developing at least 10 chapters on selected rare cancers (5 new ones and updating 5 existing ones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Tahoma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ahoma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ffff66"/>
                </a:solidFill>
                <a:latin typeface="Tahoma"/>
                <a:ea typeface="Times New Roman"/>
              </a:rPr>
              <a:t>Providing the laymen's vers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66"/>
              </a:buClr>
              <a:buFont typeface="Tahoma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ahoma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ffff66"/>
                </a:solidFill>
                <a:latin typeface="Tahoma"/>
                <a:ea typeface="Times New Roman"/>
              </a:rPr>
              <a:t>Developing a database on very rare cancer with access restricted to physicians only</a:t>
            </a:r>
            <a:r>
              <a:rPr b="1" lang="it-IT" sz="2400" spc="-1" strike="noStrike">
                <a:solidFill>
                  <a:srgbClr val="ffff66"/>
                </a:solidFill>
                <a:latin typeface="Tahoma"/>
                <a:ea typeface="Times New Roman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Wingdings" charset="2"/>
              <a:buChar char="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4"/>
          <p:cNvSpPr/>
          <p:nvPr/>
        </p:nvSpPr>
        <p:spPr>
          <a:xfrm>
            <a:off x="2195640" y="413640"/>
            <a:ext cx="69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1" lang="it-IT" sz="2800" spc="-1" strike="noStrike">
                <a:solidFill>
                  <a:srgbClr val="ffff66"/>
                </a:solidFill>
                <a:latin typeface="Arial"/>
              </a:rPr>
              <a:t>ACTIONS ALREADY UNDERTAK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934920" y="1341360"/>
            <a:ext cx="8209080" cy="45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66"/>
                </a:solidFill>
                <a:latin typeface="Tahoma"/>
              </a:rPr>
              <a:t>SELECTED 5 NEW START CHAPT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ahoma"/>
              </a:rPr>
              <a:t>           </a:t>
            </a:r>
            <a:r>
              <a:rPr b="1" lang="en-US" sz="1800" spc="-1" strike="noStrike">
                <a:solidFill>
                  <a:srgbClr val="ffff66"/>
                </a:solidFill>
                <a:latin typeface="Tahoma"/>
              </a:rPr>
              <a:t>- </a:t>
            </a: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Thymu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              </a:t>
            </a: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- Oral cavit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              </a:t>
            </a: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- Nasal cavit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              </a:t>
            </a: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- Head and neck mucosal melanom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              </a:t>
            </a: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- Small intestin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66"/>
                </a:solidFill>
                <a:latin typeface="Tahoma"/>
              </a:rPr>
              <a:t>SELECTED 5 START CHAPTERS TO BE UPDATED</a:t>
            </a:r>
            <a:r>
              <a:rPr b="1" lang="en-US" sz="1800" spc="-1" strike="noStrike">
                <a:solidFill>
                  <a:srgbClr val="ffff66"/>
                </a:solidFill>
                <a:latin typeface="Tahoma"/>
              </a:rPr>
              <a:t>             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ahoma"/>
              </a:rPr>
              <a:t>           </a:t>
            </a:r>
            <a:r>
              <a:rPr b="1" lang="en-US" sz="1800" spc="-1" strike="noStrike">
                <a:solidFill>
                  <a:srgbClr val="ffff66"/>
                </a:solidFill>
                <a:latin typeface="Tahoma"/>
              </a:rPr>
              <a:t>- </a:t>
            </a: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Chronic Lymphocytic Leukemi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              </a:t>
            </a: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- Cholangiocarcinom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              </a:t>
            </a: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- Gastrointestinal Stromal Tumours (GISTs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              </a:t>
            </a: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- Hepatocellular carcinom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              </a:t>
            </a:r>
            <a:r>
              <a:rPr b="0" lang="en-US" sz="1800" spc="-1" strike="noStrike">
                <a:solidFill>
                  <a:srgbClr val="ffff66"/>
                </a:solidFill>
                <a:latin typeface="Tahoma"/>
              </a:rPr>
              <a:t>- Langerhans cell histiocytos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5"/>
          <p:cNvSpPr/>
          <p:nvPr/>
        </p:nvSpPr>
        <p:spPr>
          <a:xfrm>
            <a:off x="395280" y="1484280"/>
            <a:ext cx="820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2286000" y="-64753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4479840" y="320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66"/>
                </a:solidFill>
                <a:latin typeface="Arial"/>
              </a:rPr>
              <a:t>Rare Tumors I</a:t>
            </a:r>
            <a:endParaRPr b="1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Narrow"/>
              </a:rPr>
              <a:t>Adult acute lymphoblastic leukaemia (ALL)</a:t>
            </a: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Narrow"/>
              </a:rPr>
              <a:t>Adult acute myeloid leukaemia (AML)</a:t>
            </a: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Narrow"/>
              </a:rPr>
              <a:t>Kaposi's sarcoma</a:t>
            </a: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Narrow"/>
              </a:rPr>
              <a:t>Non-Hodgkin's lymphoma </a:t>
            </a: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Narrow"/>
              </a:rPr>
              <a:t>Adult neuroectodermal tumours of posterior fossa (Medulloblastoma) and of supratentorial sites</a:t>
            </a: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Narrow"/>
              </a:rPr>
              <a:t>Anaplastic astrocytoma in adults</a:t>
            </a: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Narrow"/>
              </a:rPr>
              <a:t>Ependymoma</a:t>
            </a: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Narrow"/>
              </a:rPr>
              <a:t>Glioblastoma multiforme</a:t>
            </a: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Narrow"/>
              </a:rPr>
              <a:t>Low-grade astrocytoma</a:t>
            </a: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Narrow"/>
              </a:rPr>
              <a:t>Meningioma</a:t>
            </a: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Arial Narrow"/>
              </a:rPr>
              <a:t>Oligodendroglioma</a:t>
            </a: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Arial Narrow"/>
              </a:rPr>
              <a:t>Adult neuroectodermal tumours of posterior fossa (Medulloblastoma) and of supratentorial sites</a:t>
            </a: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Arial Narrow"/>
              </a:rPr>
              <a:t>Anaplastic astrocytoma in adults</a:t>
            </a: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Arial Narrow"/>
              </a:rPr>
              <a:t>Ependymoma</a:t>
            </a: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Arial Narrow"/>
              </a:rPr>
              <a:t>Glioblastoma multiforme</a:t>
            </a: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Arial Narrow"/>
              </a:rPr>
              <a:t>Low-grade astrocytoma</a:t>
            </a: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Arial Narrow"/>
              </a:rPr>
              <a:t>Meningioma</a:t>
            </a: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Arial Narrow"/>
              </a:rPr>
              <a:t>Oligodendroglioma</a:t>
            </a: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Arial Narrow"/>
              </a:rPr>
              <a:t>Cancer of the pancreas</a:t>
            </a: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Arial Narrow"/>
              </a:rPr>
              <a:t>Chronic Lymphocytic Leukemia</a:t>
            </a: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Narrow"/>
              </a:rPr>
              <a:t>Cancer of the anal region</a:t>
            </a: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5"/>
          <p:cNvSpPr/>
          <p:nvPr/>
        </p:nvSpPr>
        <p:spPr>
          <a:xfrm>
            <a:off x="395280" y="1484280"/>
            <a:ext cx="820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2286000" y="-64753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4479840" y="320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66"/>
                </a:solidFill>
                <a:latin typeface="Arial"/>
              </a:rPr>
              <a:t>Rare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Tumors</a:t>
            </a:r>
            <a:r>
              <a:rPr b="1" lang="it-IT" sz="2800" spc="-1" strike="noStrike">
                <a:solidFill>
                  <a:srgbClr val="ffff66"/>
                </a:solidFill>
                <a:latin typeface="Arial"/>
              </a:rPr>
              <a:t> II</a:t>
            </a:r>
            <a:endParaRPr b="1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Narrow"/>
              </a:rPr>
              <a:t>Cholangiocarcinoma</a:t>
            </a: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Narrow"/>
              </a:rPr>
              <a:t>Cancer of the penis</a:t>
            </a: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Narrow"/>
              </a:rPr>
              <a:t>Germ-cell tumours of the testis</a:t>
            </a: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Narrow"/>
              </a:rPr>
              <a:t>Cancer of the endometrium</a:t>
            </a: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Narrow"/>
              </a:rPr>
              <a:t>Ovarian cancer </a:t>
            </a: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Narrow"/>
              </a:rPr>
              <a:t>Cancer of nasopharynx</a:t>
            </a: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Narrow"/>
              </a:rPr>
              <a:t>Cancer of the larynx </a:t>
            </a: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Narrow"/>
              </a:rPr>
              <a:t>Cancer of the oropharynx</a:t>
            </a: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Narrow"/>
              </a:rPr>
              <a:t>Major and minor salivary gland tumours</a:t>
            </a: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Narrow"/>
              </a:rPr>
              <a:t>Thyroid cancer</a:t>
            </a: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Narrow"/>
              </a:rPr>
              <a:t>Hemophagocytic lymphohistiocytosis</a:t>
            </a:r>
            <a:r>
              <a:rPr b="0" lang="en-US" sz="2000" spc="-1" strike="noStrike">
                <a:solidFill>
                  <a:srgbClr val="003366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Arial Narrow"/>
              </a:rPr>
              <a:t>Histiocyte Disorders</a:t>
            </a: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Arial Narrow"/>
              </a:rPr>
              <a:t>Langerhans cell histiocytosis</a:t>
            </a: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Arial Narrow"/>
              </a:rPr>
              <a:t>Rosai-Dorfman disease</a:t>
            </a: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Arial Narrow"/>
              </a:rPr>
              <a:t>Hepatocellular carcinoma</a:t>
            </a: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Arial Narrow"/>
              </a:rPr>
              <a:t>Childhood Medulloblastoma</a:t>
            </a: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Arial Narrow"/>
              </a:rPr>
              <a:t>Multiple myeloma</a:t>
            </a: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Arial Narrow"/>
              </a:rPr>
              <a:t>Neuroblastoma</a:t>
            </a: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Arial Narrow"/>
              </a:rPr>
              <a:t>Ewing's sarcoma</a:t>
            </a: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Arial Narrow"/>
              </a:rPr>
              <a:t>Gastrointestinal Stromal Tumours (GISTs)</a:t>
            </a: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Arial Narrow"/>
              </a:rPr>
              <a:t>Soft tissue sarcomas</a:t>
            </a: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Arial Narrow"/>
              </a:rPr>
              <a:t>Wilm’s Tumour</a:t>
            </a: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5T15:12:06Z</dcterms:created>
  <dc:creator>Roberto Rizzo</dc:creator>
  <dc:description/>
  <dc:language>en-US</dc:language>
  <cp:lastModifiedBy>HERON Graeme</cp:lastModifiedBy>
  <dcterms:modified xsi:type="dcterms:W3CDTF">2012-07-19T15:39:53Z</dcterms:modified>
  <cp:revision>80</cp:revision>
  <dc:subject/>
  <dc:title>Diapositiva 1</dc:title>
</cp:coreProperties>
</file>