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879480" y="732960"/>
            <a:ext cx="48895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8A4A-DCB0-4FD8-AADF-03F36C72AD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6080" y="1182600"/>
            <a:ext cx="4897440" cy="3672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ARt chapters are freely available on the Internet, where besides a professional area there is a public one addressed to a non-specialist audience (patients, families etc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46080" y="1182600"/>
            <a:ext cx="4897440" cy="3672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linical recommendations are given according to an evidence-based methodolo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it/imgres?imgurl=http://www.nanonord.dk/images/eu_logo.jpg&amp;imgrefurl=http://cdv.altrove.it/2007_11_01_archive.html&amp;h=284&amp;w=426&amp;sz=11&amp;hl=it&amp;start=8&amp;usg=__yUfhwimJm_NX6EYSntE6HhkfIiQ=&amp;tbnid=xx1uKZukoCCTsM:&amp;tbnh=84&amp;tbnw=126&amp;prev=/images?q=commissione+europea&amp;gbv=2&amp;hl=it&amp;sa=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1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"/>
          <p:cNvPicPr/>
          <p:nvPr/>
        </p:nvPicPr>
        <p:blipFill>
          <a:blip r:embed="rId2"/>
          <a:stretch/>
        </p:blipFill>
        <p:spPr>
          <a:xfrm>
            <a:off x="1187280" y="5964120"/>
            <a:ext cx="7956720" cy="90828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9" descr="eu_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64120"/>
            <a:ext cx="1187280" cy="9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01120" cy="27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Tahoma"/>
              </a:rPr>
              <a:t>START PROGRAM: STATE-OF-THE-ART ONCOLOGY IN EUROPE</a:t>
            </a:r>
            <a:br>
              <a:rPr sz="2400"/>
            </a:br>
            <a:r>
              <a:rPr b="1" lang="fr-FR" sz="2000" spc="-1" strike="noStrike">
                <a:solidFill>
                  <a:srgbClr val="ffff66"/>
                </a:solidFill>
                <a:latin typeface="Tahoma"/>
              </a:rPr>
              <a:t>www.startoncology.net</a:t>
            </a:r>
            <a:br>
              <a:rPr sz="2000"/>
            </a:br>
            <a:br>
              <a:rPr sz="2400"/>
            </a:br>
            <a:br>
              <a:rPr sz="2400"/>
            </a:br>
            <a:r>
              <a:rPr b="1" i="1" lang="fr-FR" sz="2400" spc="-1" strike="noStrike" u="sng">
                <a:solidFill>
                  <a:srgbClr val="ffff66"/>
                </a:solidFill>
                <a:uFillTx/>
                <a:latin typeface="Tahoma"/>
              </a:rPr>
              <a:t>RARECARENet kick-off</a:t>
            </a:r>
            <a:r>
              <a:rPr b="1" i="1" lang="fr-FR" sz="2400" spc="-1" strike="noStrike" u="sng">
                <a:solidFill>
                  <a:srgbClr val="003366"/>
                </a:solidFill>
                <a:uFillTx/>
                <a:latin typeface="Tahoma"/>
              </a:rPr>
              <a:t> </a:t>
            </a:r>
            <a:br>
              <a:rPr sz="2400"/>
            </a:br>
            <a:r>
              <a:rPr b="1" lang="fr-FR" sz="2400" spc="-1" strike="noStrike">
                <a:solidFill>
                  <a:srgbClr val="003366"/>
                </a:solidFill>
                <a:latin typeface="Tahoma"/>
              </a:rPr>
              <a:t>                                 </a:t>
            </a:r>
            <a:r>
              <a:rPr b="1" lang="fr-FR" sz="1600" spc="-1" strike="noStrike">
                <a:solidFill>
                  <a:srgbClr val="ffff66"/>
                </a:solidFill>
                <a:latin typeface="Tahoma"/>
              </a:rPr>
              <a:t>Luxembourg – July 13, 2012</a:t>
            </a:r>
            <a:br>
              <a:rPr sz="16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66"/>
                </a:solidFill>
                <a:latin typeface="Tahoma"/>
              </a:rPr>
              <a:t>Chairperson</a:t>
            </a:r>
            <a:r>
              <a:rPr b="1" lang="fr-FR" sz="1600" spc="-1" strike="noStrike">
                <a:solidFill>
                  <a:srgbClr val="ffff66"/>
                </a:solidFill>
                <a:latin typeface="Tahoma"/>
              </a:rPr>
              <a:t>: Dr. Lisa Licitra</a:t>
            </a:r>
            <a:r>
              <a:rPr b="1" lang="fr-FR" sz="1600" spc="-1" strike="noStrike">
                <a:solidFill>
                  <a:srgbClr val="003366"/>
                </a:solidFill>
                <a:latin typeface="Tahoma"/>
              </a:rPr>
              <a:t>                                                                              </a:t>
            </a:r>
            <a:r>
              <a:rPr b="1" lang="fr-FR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fr-FR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fr-FR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fr-FR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fr-FR" sz="16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fr-FR" sz="1600" spc="-1" strike="noStrike">
                <a:solidFill>
                  <a:srgbClr val="ffff66"/>
                </a:solidFill>
                <a:latin typeface="Tahoma"/>
              </a:rPr>
              <a:t>Fond. IRCCS </a:t>
            </a:r>
            <a:r>
              <a:rPr b="1" lang="it-IT" sz="1600" spc="-1" strike="noStrike">
                <a:solidFill>
                  <a:srgbClr val="ffff66"/>
                </a:solidFill>
                <a:latin typeface="Tahoma"/>
              </a:rPr>
              <a:t>Istituto Tumori</a:t>
            </a:r>
            <a:r>
              <a:rPr b="1" lang="fr-FR" sz="1600" spc="-1" strike="noStrike">
                <a:solidFill>
                  <a:srgbClr val="ffff66"/>
                </a:solidFill>
                <a:latin typeface="Tahoma"/>
              </a:rPr>
              <a:t> Milano</a:t>
            </a:r>
            <a:endParaRPr b="1" lang="en-US" sz="1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900000" y="1773000"/>
            <a:ext cx="82440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PROFESSIONAL AREA (FOR CANCER SPECIALISTS)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- One chapter on each existing neoplasm (in English)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- One chapter on each existing neoplasm (in Italian)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just">
              <a:lnSpc>
                <a:spcPct val="50000"/>
              </a:lnSpc>
              <a:spcBef>
                <a:spcPts val="499"/>
              </a:spcBef>
              <a:buClr>
                <a:srgbClr val="f5e447"/>
              </a:buClr>
              <a:buSzPct val="75000"/>
              <a:buFont typeface="Wingdings" charset="2"/>
              <a:buChar char="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PUBLIC AREA (FOR NON SPECIALISTS)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- Information sections in Italian on: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a)   single neoplasms 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b)   cancer-related issues (general information on cancer,              antiemetic therapy, …)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484360" y="333360"/>
            <a:ext cx="56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Arial"/>
              </a:rPr>
              <a:t>THE START WEBSITE</a:t>
            </a:r>
            <a:br>
              <a:rPr sz="3200"/>
            </a:br>
            <a:r>
              <a:rPr b="1" lang="it-IT" sz="3200" spc="-1" strike="noStrike">
                <a:solidFill>
                  <a:srgbClr val="ffff66"/>
                </a:solidFill>
                <a:latin typeface="Arial"/>
              </a:rPr>
              <a:t>(www.startoncology.net</a:t>
            </a:r>
            <a:r>
              <a:rPr b="1" lang="it-IT" sz="32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Start_visite_Isem"/>
          <p:cNvPicPr/>
          <p:nvPr/>
        </p:nvPicPr>
        <p:blipFill>
          <a:blip r:embed="rId1"/>
          <a:stretch/>
        </p:blipFill>
        <p:spPr>
          <a:xfrm>
            <a:off x="1042920" y="1297080"/>
            <a:ext cx="6913800" cy="4556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2411280" y="33336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Arial"/>
              </a:rPr>
              <a:t>MEAN OF ACCESSES TO START WEBSITE</a:t>
            </a:r>
            <a:br>
              <a:rPr sz="2000"/>
            </a:br>
            <a:r>
              <a:rPr b="1" lang="it-IT" sz="2000" spc="-1" strike="noStrike">
                <a:solidFill>
                  <a:srgbClr val="ffff66"/>
                </a:solidFill>
                <a:latin typeface="Arial"/>
              </a:rPr>
              <a:t>JANUARY – JUNE 2012     -  ( 400.000+ hit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3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44600" indent="-376920">
              <a:lnSpc>
                <a:spcPct val="80000"/>
              </a:lnSpc>
              <a:spcAft>
                <a:spcPts val="125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Standard </a:t>
            </a:r>
            <a:r>
              <a:rPr b="1" lang="en-GB" sz="2000" spc="-1" strike="noStrike">
                <a:solidFill>
                  <a:srgbClr val="ffff66"/>
                </a:solidFill>
                <a:latin typeface="Tahoma"/>
              </a:rPr>
              <a:t>("standard", "recommended" [or "not recommended")</a:t>
            </a:r>
            <a:r>
              <a:rPr b="1" lang="en-GB" sz="2000" spc="-1" strike="noStrike">
                <a:solidFill>
                  <a:srgbClr val="ffff66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444600" indent="0" algn="just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1" lang="en-GB" sz="2000" spc="-1" strike="noStrike">
                <a:solidFill>
                  <a:srgbClr val="ffff66"/>
                </a:solidFill>
                <a:latin typeface="Tahoma"/>
              </a:rPr>
              <a:t>- This can be considered a conventional choice for the     average 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patient. 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444600" indent="-376920">
              <a:lnSpc>
                <a:spcPct val="80000"/>
              </a:lnSpc>
              <a:spcAft>
                <a:spcPts val="125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Individualized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lvl="1" marL="622080" indent="117720">
              <a:lnSpc>
                <a:spcPct val="80000"/>
              </a:lnSpc>
              <a:buClr>
                <a:srgbClr val="ffff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suitable for individual clinical use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lvl="1" marL="622080" indent="117720">
              <a:lnSpc>
                <a:spcPct val="80000"/>
              </a:lnSpc>
              <a:spcAft>
                <a:spcPts val="1250"/>
              </a:spcAft>
              <a:buClr>
                <a:srgbClr val="ffff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investigational or suitable for individual clinical use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lvl="1" marL="62208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- This is not a standard option, but it can be a reasonable choice for the individual patient. The patient should be informed that the option is not standard and the decision must be shared with the patient. 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444600" indent="-376920">
              <a:lnSpc>
                <a:spcPct val="80000"/>
              </a:lnSpc>
              <a:spcAft>
                <a:spcPts val="125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Investigational only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lvl="1" marL="622080" indent="0">
              <a:lnSpc>
                <a:spcPct val="7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Tahoma"/>
              </a:rPr>
              <a:t>- This is something which, in principle, can be offered to the patient only within a  clinical study.</a:t>
            </a:r>
            <a:r>
              <a:rPr b="1" lang="en-GB" sz="1800" spc="-1" strike="noStrike">
                <a:solidFill>
                  <a:srgbClr val="ffff66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268360" y="260280"/>
            <a:ext cx="64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Arial"/>
              </a:rPr>
              <a:t>CLINICAL RECOMMENDATIONS</a:t>
            </a:r>
            <a:br>
              <a:rPr sz="2000"/>
            </a:br>
            <a:r>
              <a:rPr b="1" lang="it-IT" sz="2000" spc="-1" strike="noStrike">
                <a:solidFill>
                  <a:srgbClr val="ffff66"/>
                </a:solidFill>
                <a:latin typeface="Arial"/>
              </a:rPr>
              <a:t>TYPE OF OP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1"/>
          <p:cNvSpPr/>
          <p:nvPr/>
        </p:nvSpPr>
        <p:spPr>
          <a:xfrm>
            <a:off x="2195640" y="476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Arial"/>
              </a:rPr>
              <a:t>OBJECTIVE – WP 4-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Rectangle 43"/>
          <p:cNvSpPr/>
          <p:nvPr/>
        </p:nvSpPr>
        <p:spPr>
          <a:xfrm>
            <a:off x="1116000" y="1987200"/>
            <a:ext cx="7261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66"/>
              </a:buClr>
              <a:buFont typeface="Tahoma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Developing at least 10 chapters on selected rare cancers (5 new ones and updating 5 existing ones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Tahoma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Providing the laymen's vers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66"/>
              </a:buClr>
              <a:buFont typeface="Tahoma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Developing a database on very rare cancer with access restricted to physicians only</a:t>
            </a:r>
            <a:r>
              <a:rPr b="1" lang="it-IT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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2195640" y="413640"/>
            <a:ext cx="69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it-IT" sz="2800" spc="-1" strike="noStrike">
                <a:solidFill>
                  <a:srgbClr val="ffff66"/>
                </a:solidFill>
                <a:latin typeface="Arial"/>
              </a:rPr>
              <a:t>ACTIONS ALREADY UNDERT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934920" y="1341360"/>
            <a:ext cx="820908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SELECTED 5 NEW START CHAPT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           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Thymu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- Oral cav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- Nasal cavit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- Head and neck mucosal melano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- Small intesti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SELECTED 5 START CHAPTERS TO BE UPDATED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           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Chronic Lymphocytic Leukem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- Cholangiocarcino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- Gastrointestinal Stromal Tumours (GIST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- Hepatocellular carcino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- Langerhans cell histiocytos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395280" y="148428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0" y="-64753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Arial"/>
              </a:rPr>
              <a:t>Rare Tumors I</a:t>
            </a:r>
            <a:endParaRPr b="1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Adult acute lymphoblastic leukaemia (ALL)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Adult acute myeloid leukaemia (AML)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Kaposi's sarc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Non-Hodgkin's lymphoma 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Adult neuroectodermal tumours of posterior fossa (Medulloblastoma) and of supratentorial sites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Anaplastic astrocytoma in adults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Ependym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Glioblastoma multiforme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Low-grade astrocyt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Meningi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Oligodendrogli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Adult neuroectodermal tumours of posterior fossa (Medulloblastoma) and of supratentorial sites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Anaplastic astrocytoma in adults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Ependym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Glioblastoma multiforme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Low-grade astrocyt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Meningi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Oligodendrogli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Cancer of the pancreas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Chronic Lymphocytic Leukemi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Cancer of the anal region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395280" y="148428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2286000" y="-64753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Arial"/>
              </a:rPr>
              <a:t>Rare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umors</a:t>
            </a:r>
            <a:r>
              <a:rPr b="1" lang="it-IT" sz="2800" spc="-1" strike="noStrike">
                <a:solidFill>
                  <a:srgbClr val="ffff66"/>
                </a:solidFill>
                <a:latin typeface="Arial"/>
              </a:rPr>
              <a:t> II</a:t>
            </a:r>
            <a:endParaRPr b="1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Cholangiocarcin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Cancer of the penis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Germ-cell tumours of the testis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Cancer of the endometrium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Ovarian cancer 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Cancer of nasopharynx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Cancer of the larynx 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Cancer of the oropharynx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Major and minor salivary gland tumours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Thyroid cancer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Hemophagocytic lymphohistiocytosis</a:t>
            </a: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Histiocyte Disorders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Langerhans cell histiocytosis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Rosai-Dorfman disease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Hepatocellular carcin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Childhood Medulloblast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Multiple myel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Neuroblast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Ewing's sarc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Gastrointestinal Stromal Tumours (GISTs)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Soft tissue sarcomas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Wilm’s Tumour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5:12:06Z</dcterms:created>
  <dc:creator>Roberto Rizzo</dc:creator>
  <dc:description/>
  <dc:language>en-US</dc:language>
  <cp:lastModifiedBy>HERON Graeme</cp:lastModifiedBy>
  <dcterms:modified xsi:type="dcterms:W3CDTF">2012-07-19T15:39:53Z</dcterms:modified>
  <cp:revision>80</cp:revision>
  <dc:subject/>
  <dc:title>Diapositiva 1</dc:title>
</cp:coreProperties>
</file>