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7.wmf" ContentType="image/x-wmf"/>
  <Override PartName="/ppt/media/image37.png" ContentType="image/png"/>
  <Override PartName="/ppt/media/image42.png" ContentType="image/png"/>
  <Override PartName="/ppt/media/image1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9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9480" y="732960"/>
            <a:ext cx="48895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0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1"/>
          </p:nvPr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06C9-9979-47D1-A735-A8D600A4FA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98D-8364-40C7-BF0B-B1512A595122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76560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E1FC-12C1-4282-B97D-8605C494D074}" type="slidenum">
              <a:rPr b="0" lang="it-IT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5280" y="4646520"/>
            <a:ext cx="531792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E3F-D438-4C33-9A95-797A6A09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4CD-A86C-478E-983F-95376CA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B7E-00FF-4949-99B9-76AC2F19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378-8063-480C-A8A9-5EEC3FDD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87F-FC8E-492F-B056-34BCF7CB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D2E-3CD4-404A-8A85-CA79A90C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3E8-F9E3-417A-8E77-5F281DF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C16A-AD23-405E-BDD0-3A927AAE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083-3AB8-403C-BA89-E6F92F81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6F7C-7A6C-4DAD-80AF-204B665A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2CB-F3EF-4E69-853B-FDBCDF51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743D-845B-48CD-B50F-F33C8355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9E6A4-7BAB-4D8E-AE3B-A0CD68CA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A3BE3-AE27-4C59-A8F1-CEB89D59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B4B6C-3603-44A3-895C-6CD11CBB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45F67-FF7D-45E1-9895-E077C191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E9CB9-1B67-4C7E-BF93-9A5800EC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A68DF-A0D2-43FC-9E2F-F79F50AB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D05C8-B7AC-4985-B866-4F05E4B0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F7AA8-4A1B-468C-8148-66C96EC1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3FED7-2407-4B3E-A9C9-5C0B1E9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908B9-5DB3-4F5C-855A-91490669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ACD49-CF5F-486E-8233-942870B9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E1673-E8F2-42B5-BEA4-D7CE9DEE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24586-68C2-4325-B520-3ED7DAB0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DA26B-A319-4FE4-A3BD-CAC9DF5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35B0-025D-4182-AF59-00DEBBDF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8102-2AA2-4023-A350-EAB17C90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BDC8-E0C4-41B8-BAAF-FCC6388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7163-2991-44D8-82D2-522EFEB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346A2-105C-4A72-8080-6634C816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08D8-6FD7-416D-B0A6-D9FF5523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63D0-ABD7-443B-92B0-670A4D1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BA04-7AB2-4655-8932-3B4E16A9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0D1F-0755-4969-A0A7-B751FC1D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DA3F4-5081-4EF4-AFD2-88AEED02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2F0A-7E6D-413B-84A1-A990D7FA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EB31-6556-4C6E-9325-30F70DA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E7C3F-91AD-4353-8FE6-BEF02220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A1CE8-CFCC-417B-95C9-6C2C373F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058BB-DB06-4A0A-B479-31CE006E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EC67-41C9-4738-919C-55F37F5A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0FF8-75B8-46A6-A428-97428D2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BEE4-45D0-4639-9B56-D76A1C3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2E3E-FCA4-4FD1-9FBA-DBB841E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802A1-629B-46F3-9C2C-DBBCA545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606B-061E-44E8-AB16-FA77FCC4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C2B5-AAED-4ADF-B559-28B05828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0C51-350B-4E73-AD55-949B4D0E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F1137-7909-40A2-A155-93AE8F4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AEBB-7B76-451E-BAF8-F808114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CC253-FB9A-4E49-9E61-23E0668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E634-FCD8-4BA9-BAEA-D46BAA62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88F7-5466-4FC0-AB99-F612142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F8430-2C83-483A-BBB0-CF02B455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F4692-7F1A-4FC9-8F30-CBD156AF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EBE43-B2BB-4470-9768-86478C6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F1076-C55D-4614-8DB8-A83C5C96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D3BC3-B301-4BB4-9517-979AF5D3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B677-91D3-4A4A-87E2-1DAD90CC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04B6-C612-4729-AE92-4F4EA3A2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19984-2EE0-44F6-A3EB-F7CBEF91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811C-43C7-455A-A33D-DFF62336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39AB-610D-42A1-A045-55365C98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2F86-F3BF-402B-A6D4-4BB811C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E95ED-22AC-41ED-A3FE-12F663A9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0C1A-432A-4B46-9A8E-ABAF1F1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40D8-F6AE-4DB9-843D-D75134C1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86C94-48B3-4CD3-A8D6-738D5560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C68B-CB27-4890-8338-D00A11CB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A8E19-1A03-447A-9A63-340B66DC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5C6FD-64C2-4116-BECB-6A02ABB0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hyperlink" Target="http://images.google.it/imgres?imgurl=http://www.nanonord.dk/images/eu_logo.jpg&amp;imgrefurl=http://cdv.altrove.it/2007_11_01_archive.html&amp;h=284&amp;w=426&amp;sz=11&amp;hl=it&amp;start=8&amp;usg=__yUfhwimJm_NX6EYSntE6HhkfIiQ=&amp;tbnid=xx1uKZukoCCTsM:&amp;tbnh=84&amp;tbnw=126&amp;prev=/images?q=commissione+europea&amp;gbv=2&amp;hl=it&amp;sa=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1187280" y="5964120"/>
            <a:ext cx="7956720" cy="90828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9" descr="eu_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964120"/>
            <a:ext cx="1187280" cy="90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59FC-B017-4882-8FE6-2E0B8EC07268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20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880D-99C0-4589-8C2A-88788EC5290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162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ADC4-B074-4CCA-AAEA-0BB756E928D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204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752-75B1-4CC8-9086-D797C0AD19A5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2"/>
          <p:cNvSpPr/>
          <p:nvPr/>
        </p:nvSpPr>
        <p:spPr>
          <a:xfrm>
            <a:off x="0" y="1708200"/>
            <a:ext cx="9148680" cy="0"/>
          </a:xfrm>
          <a:prstGeom prst="line">
            <a:avLst/>
          </a:prstGeom>
          <a:ln cap="sq"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99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3548-9F08-432F-8426-C918E84A4380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901880" cy="765360"/>
          </a:xfrm>
          <a:prstGeom prst="rect">
            <a:avLst/>
          </a:prstGeom>
          <a:ln w="0">
            <a:noFill/>
          </a:ln>
        </p:spPr>
      </p:pic>
      <p:pic>
        <p:nvPicPr>
          <p:cNvPr id="287" name="Immagine 9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0" y="60357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5346720" y="6496200"/>
            <a:ext cx="3797280" cy="361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E3A3-0FBD-438B-AF88-8594C28400D5}" type="slidenum"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3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rarecare.eu/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urocare.it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50920" y="1638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468360" y="1268280"/>
            <a:ext cx="792000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33"/>
                </a:solidFill>
                <a:latin typeface="Arial"/>
              </a:rPr>
              <a:t>INFORMATION NETWORK ON RARE CANCERS (RARECARENet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33"/>
                </a:solidFill>
                <a:latin typeface="Arial"/>
              </a:rPr>
              <a:t>Kick-off meeting - Friday, July 13 20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  <a:ea typeface="Tahoma"/>
              </a:rPr>
              <a:t>Gemma Gat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Tahoma"/>
                <a:ea typeface="Tahoma"/>
              </a:rPr>
              <a:t>Fondazione IRCCS, Istituto Nazionale dei Tumori – Milan (Ita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7" name="Picture 5" descr="EU"/>
          <p:cNvPicPr/>
          <p:nvPr/>
        </p:nvPicPr>
        <p:blipFill>
          <a:blip r:embed="rId1"/>
          <a:stretch/>
        </p:blipFill>
        <p:spPr>
          <a:xfrm>
            <a:off x="5100480" y="5505480"/>
            <a:ext cx="1343160" cy="876240"/>
          </a:xfrm>
          <a:prstGeom prst="rect">
            <a:avLst/>
          </a:prstGeom>
          <a:ln w="0">
            <a:noFill/>
          </a:ln>
        </p:spPr>
      </p:pic>
      <p:pic>
        <p:nvPicPr>
          <p:cNvPr id="338" name="Immagine 6" descr=""/>
          <p:cNvPicPr/>
          <p:nvPr/>
        </p:nvPicPr>
        <p:blipFill>
          <a:blip r:embed="rId2"/>
          <a:stretch/>
        </p:blipFill>
        <p:spPr>
          <a:xfrm>
            <a:off x="2484360" y="5477040"/>
            <a:ext cx="1952640" cy="90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179280" y="1552680"/>
            <a:ext cx="8569440" cy="3028680"/>
          </a:xfrm>
          <a:prstGeom prst="rect">
            <a:avLst/>
          </a:prstGeom>
          <a:ln w="0">
            <a:noFill/>
          </a:ln>
        </p:spPr>
      </p:pic>
      <p:sp>
        <p:nvSpPr>
          <p:cNvPr id="362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20872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ttangolo 3"/>
          <p:cNvSpPr/>
          <p:nvPr/>
        </p:nvSpPr>
        <p:spPr>
          <a:xfrm>
            <a:off x="1547640" y="40464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539640" y="1789200"/>
            <a:ext cx="79930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36520" y="5680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RARECARE (2007-2010)   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755640" y="1989000"/>
            <a:ext cx="7632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Tahoma"/>
              </a:rPr>
              <a:t>Aim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provide 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 definition of “rare cancers”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and a list of canc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estimate the burden of rare cancers in Euro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improve the quality of data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in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cancer</a:t>
            </a:r>
            <a:r>
              <a:rPr b="0" lang="it-IT" sz="20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regist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Tahoma"/>
              </a:rPr>
              <a:t>To develop strategies for the diffusion of information among all the key play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Arial"/>
              </a:rPr>
              <a:t>Essential source of data = population-based cancer registries</a:t>
            </a:r>
            <a:r>
              <a:rPr b="0" lang="en-GB" sz="2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-331920" y="0"/>
            <a:ext cx="980784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ttangolo 4"/>
          <p:cNvSpPr/>
          <p:nvPr/>
        </p:nvSpPr>
        <p:spPr>
          <a:xfrm>
            <a:off x="1763640" y="1268280"/>
            <a:ext cx="518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 Narrow"/>
              </a:rPr>
              <a:t>RARE DISEAS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123640" y="2060280"/>
            <a:ext cx="6480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linical vs site cancer entit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CD-O topography and morphology cod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bout  220 tumour entities, 186 rar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reshold: incidence vs prevalenc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2268360" y="69228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EFINITION AND LIST OF RARE CANCERS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Incidence vs prevalenc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0" y="3141720"/>
            <a:ext cx="5940360" cy="2879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067280" y="1285920"/>
            <a:ext cx="479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626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ll rare cancers, but cervix uteri and thyroid carcinoma are also rare according to the European defini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denocarcinoma and squamous cell carcinoma of lung, adenocarcinoma of stomach are rare according to the European definition and rare according to the RARECARE definition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645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Incidence vs prevalenc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5832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Complete prevalence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Observed prevalence + completeness index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N 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= N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(L)+ N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 Narrow"/>
              </a:rPr>
              <a:t>U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(L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4 models per each entity (around 1000 different models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2268360" y="549360"/>
            <a:ext cx="6645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Prevalence is not an easy task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5783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Tahoma"/>
              </a:rPr>
              <a:t>Threshold: issues</a:t>
            </a: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18920" y="1844280"/>
            <a:ext cx="72961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How many cancer diagnoses refer to rare cancers?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Does rarity affect the possibility to carry out effective research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ahoma"/>
              </a:rPr>
              <a:t>Is clinical decision making more difficult?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1"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Threshold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r rarity &lt; 6/100.000/year</a:t>
            </a:r>
            <a:endParaRPr b="0" lang="en-US" sz="32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5783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Tahoma"/>
              </a:rPr>
              <a:t>Cut point: too high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5834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hreshold of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&lt;3/100,000/year 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nstead of &lt;6/100,000/yea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glial CNS tumours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pithelial cancers of the oral cavity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epithelial cancers of gallbladder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oft tissue sarcoma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tumours of testi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carcinomas of endocrine orga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Myeloproliferative neoplasm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Acute myeloid leukaemia,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331640" y="1484280"/>
            <a:ext cx="7272360" cy="33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discuss the project among all the project partn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he Work  Package (WP) leaders have been invited: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describe objectives and activities of their W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Lucida Sans"/>
              </a:rPr>
              <a:t>to provide a detailed planning of WP activities 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50920" y="494172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Rettangolo 3"/>
          <p:cNvSpPr/>
          <p:nvPr/>
        </p:nvSpPr>
        <p:spPr>
          <a:xfrm>
            <a:off x="2195640" y="46836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 of the kick-off meeting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2"/>
          <p:cNvGraphicFramePr/>
          <p:nvPr/>
        </p:nvGraphicFramePr>
        <p:xfrm>
          <a:off x="3492360" y="189000"/>
          <a:ext cx="5418360" cy="63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5418360" cy="63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3"/>
          <p:cNvSpPr/>
          <p:nvPr/>
        </p:nvSpPr>
        <p:spPr>
          <a:xfrm>
            <a:off x="393840" y="1197000"/>
            <a:ext cx="3025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Variation depends 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Risk fac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Population 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Case mix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Availability of expert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Connettore 1 5"/>
          <p:cNvSpPr/>
          <p:nvPr/>
        </p:nvSpPr>
        <p:spPr>
          <a:xfrm>
            <a:off x="3995640" y="2708280"/>
            <a:ext cx="5004000" cy="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ttangolo 7"/>
          <p:cNvSpPr/>
          <p:nvPr/>
        </p:nvSpPr>
        <p:spPr>
          <a:xfrm>
            <a:off x="363600" y="543564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In Europe 97/100,000/ye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781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6699"/>
                </a:solidFill>
                <a:latin typeface="Tahoma"/>
              </a:rPr>
              <a:t>Incidence </a:t>
            </a: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rates for rare </a:t>
            </a:r>
            <a:br>
              <a:rPr sz="3200"/>
            </a:b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and common cancers</a:t>
            </a:r>
            <a:r>
              <a:rPr b="1" lang="en-GB" sz="3200" spc="-1" strike="noStrike">
                <a:solidFill>
                  <a:srgbClr val="003366"/>
                </a:solidFill>
                <a:latin typeface="Arial Narrow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264d"/>
                </a:solidFill>
                <a:latin typeface="Arial Narrow"/>
              </a:rPr>
              <a:t>AGE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1" name="Object 4"/>
          <p:cNvGraphicFramePr/>
          <p:nvPr/>
        </p:nvGraphicFramePr>
        <p:xfrm>
          <a:off x="2195640" y="1916280"/>
          <a:ext cx="6335640" cy="358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16280"/>
                    <a:ext cx="633564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56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All rare cancers </a:t>
            </a: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by </a:t>
            </a:r>
            <a:r>
              <a:rPr b="1" lang="en-GB" sz="2800" spc="-1" strike="noStrike">
                <a:solidFill>
                  <a:srgbClr val="00264d"/>
                </a:solidFill>
                <a:latin typeface="Tahoma"/>
              </a:rPr>
              <a:t>country</a:t>
            </a:r>
            <a:br>
              <a:rPr sz="2800"/>
            </a:br>
            <a:r>
              <a:rPr b="0" lang="en-GB" sz="2800" spc="-1" strike="noStrike">
                <a:solidFill>
                  <a:srgbClr val="00264d"/>
                </a:solidFill>
                <a:latin typeface="Tahoma"/>
              </a:rPr>
              <a:t>How many new diagnoses/year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268360" y="1197000"/>
          <a:ext cx="2971800" cy="4876920"/>
        </p:xfrm>
        <a:graphic>
          <a:graphicData uri="http://schemas.openxmlformats.org/drawingml/2006/table">
            <a:tbl>
              <a:tblPr/>
              <a:tblGrid>
                <a:gridCol w="1820880"/>
                <a:gridCol w="1150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embour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pru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v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k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gar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508720" y="1197000"/>
          <a:ext cx="2971800" cy="4572000"/>
        </p:xfrm>
        <a:graphic>
          <a:graphicData uri="http://schemas.openxmlformats.org/drawingml/2006/table">
            <a:tbl>
              <a:tblPr/>
              <a:tblGrid>
                <a:gridCol w="1817640"/>
                <a:gridCol w="1154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_Englan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5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ROPE 2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656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ahoma"/>
              </a:rPr>
              <a:t>adrenal cancers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 by </a:t>
            </a:r>
            <a:r>
              <a:rPr b="1" lang="en-GB" sz="2800" spc="-1" strike="noStrike">
                <a:solidFill>
                  <a:srgbClr val="cc0000"/>
                </a:solidFill>
                <a:latin typeface="Tahoma"/>
              </a:rPr>
              <a:t>country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Tahoma"/>
              </a:rPr>
              <a:t>How many new diagnoses/year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2268360" y="1628640"/>
          <a:ext cx="2971800" cy="4876920"/>
        </p:xfrm>
        <a:graphic>
          <a:graphicData uri="http://schemas.openxmlformats.org/drawingml/2006/table">
            <a:tbl>
              <a:tblPr/>
              <a:tblGrid>
                <a:gridCol w="1820880"/>
                <a:gridCol w="1150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5508720" y="1628640"/>
          <a:ext cx="2971800" cy="4572000"/>
        </p:xfrm>
        <a:graphic>
          <a:graphicData uri="http://schemas.openxmlformats.org/drawingml/2006/table">
            <a:tbl>
              <a:tblPr/>
              <a:tblGrid>
                <a:gridCol w="1817640"/>
                <a:gridCol w="11541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9" name="Picture 76" descr=""/>
          <p:cNvPicPr/>
          <p:nvPr/>
        </p:nvPicPr>
        <p:blipFill>
          <a:blip r:embed="rId1"/>
          <a:stretch/>
        </p:blipFill>
        <p:spPr>
          <a:xfrm>
            <a:off x="2340000" y="1111320"/>
            <a:ext cx="3108240" cy="4910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8" descr=""/>
          <p:cNvPicPr/>
          <p:nvPr/>
        </p:nvPicPr>
        <p:blipFill>
          <a:blip r:embed="rId2"/>
          <a:stretch/>
        </p:blipFill>
        <p:spPr>
          <a:xfrm>
            <a:off x="5770440" y="1123920"/>
            <a:ext cx="295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6913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ahoma"/>
              </a:rPr>
              <a:t>INCIDENCE </a:t>
            </a:r>
            <a:br>
              <a:rPr sz="3200"/>
            </a:br>
            <a:r>
              <a:rPr b="0" lang="en-GB" sz="2400" spc="-1" strike="noStrike">
                <a:solidFill>
                  <a:srgbClr val="666699"/>
                </a:solidFill>
                <a:latin typeface="Tahoma"/>
              </a:rPr>
              <a:t>Distribution of :</a:t>
            </a:r>
            <a:br>
              <a:rPr sz="2400"/>
            </a:br>
            <a:endParaRPr b="1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684360" y="2090880"/>
          <a:ext cx="3887640" cy="357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90880"/>
                    <a:ext cx="388764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4"/>
          <p:cNvGraphicFramePr/>
          <p:nvPr/>
        </p:nvGraphicFramePr>
        <p:xfrm>
          <a:off x="4643280" y="2089080"/>
          <a:ext cx="4248360" cy="357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089080"/>
                    <a:ext cx="42483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6" name="Picture 5" descr="RARECARE paper"/>
          <p:cNvPicPr/>
          <p:nvPr/>
        </p:nvPicPr>
        <p:blipFill>
          <a:blip r:embed="rId5"/>
          <a:stretch/>
        </p:blipFill>
        <p:spPr>
          <a:xfrm>
            <a:off x="7308720" y="328680"/>
            <a:ext cx="1692360" cy="5792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6"/>
          <p:cNvSpPr/>
          <p:nvPr/>
        </p:nvSpPr>
        <p:spPr>
          <a:xfrm>
            <a:off x="1267200" y="166356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Tahoma"/>
              </a:rPr>
              <a:t>Number of cancer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5090400" y="1647720"/>
            <a:ext cx="36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99"/>
                </a:solidFill>
                <a:latin typeface="Tahoma"/>
              </a:rPr>
              <a:t>Annual number of diagno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603160" y="380520"/>
            <a:ext cx="58561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64d"/>
                </a:solidFill>
                <a:latin typeface="Tahoma"/>
              </a:rPr>
              <a:t>Five-year survival of rare and common cancers, by age</a:t>
            </a:r>
            <a:endParaRPr b="1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10" name="Object 4"/>
          <p:cNvGraphicFramePr/>
          <p:nvPr/>
        </p:nvGraphicFramePr>
        <p:xfrm>
          <a:off x="1967040" y="1341360"/>
          <a:ext cx="656568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341360"/>
                    <a:ext cx="65656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Text Box 5"/>
          <p:cNvSpPr/>
          <p:nvPr/>
        </p:nvSpPr>
        <p:spPr>
          <a:xfrm>
            <a:off x="1863720" y="551664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5-year survival: common cancers 64% </a:t>
            </a:r>
            <a:r>
              <a:rPr b="1" i="1" lang="en-GB" sz="1800" spc="-1" strike="noStrike">
                <a:solidFill>
                  <a:srgbClr val="003366"/>
                </a:solidFill>
                <a:latin typeface="Verdana"/>
              </a:rPr>
              <a:t>vs</a:t>
            </a:r>
            <a:r>
              <a:rPr b="1" lang="en-GB" sz="1800" spc="-1" strike="noStrike">
                <a:solidFill>
                  <a:srgbClr val="003366"/>
                </a:solidFill>
                <a:latin typeface="Verdana"/>
              </a:rPr>
              <a:t> rare cancers 48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Ovale 5"/>
          <p:cNvSpPr/>
          <p:nvPr/>
        </p:nvSpPr>
        <p:spPr>
          <a:xfrm>
            <a:off x="6948360" y="2421000"/>
            <a:ext cx="1295640" cy="122400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7223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Five-year survival (%) by European </a:t>
            </a:r>
            <a:r>
              <a:rPr b="1" lang="en-GB" sz="2400" spc="-1" strike="noStrike">
                <a:solidFill>
                  <a:srgbClr val="000099"/>
                </a:solidFill>
                <a:latin typeface="Arial Narrow"/>
              </a:rPr>
              <a:t>country</a:t>
            </a:r>
            <a:br>
              <a:rPr sz="2400"/>
            </a:b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common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</a:rPr>
              <a:t>                              </a:t>
            </a:r>
            <a:r>
              <a:rPr b="1" lang="en-GB" sz="2000" spc="-1" strike="noStrike">
                <a:solidFill>
                  <a:srgbClr val="cc0000"/>
                </a:solidFill>
                <a:latin typeface="Arial Narrow"/>
              </a:rPr>
              <a:t>rare</a:t>
            </a:r>
            <a:endParaRPr b="1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1908000" y="2043000"/>
          <a:ext cx="323568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43000"/>
                    <a:ext cx="32356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859280" y="2060640"/>
          <a:ext cx="3745080" cy="396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060640"/>
                    <a:ext cx="37450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5"/>
          <p:cNvSpPr/>
          <p:nvPr/>
        </p:nvSpPr>
        <p:spPr>
          <a:xfrm>
            <a:off x="5076720" y="2133720"/>
            <a:ext cx="1008000" cy="33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979640" y="2133720"/>
            <a:ext cx="576360" cy="33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484360" y="163080"/>
            <a:ext cx="5710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Survival variation between European region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52560" y="1347840"/>
            <a:ext cx="9038880" cy="2657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539640" y="4579920"/>
            <a:ext cx="6397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00000" y="163080"/>
            <a:ext cx="5543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Survival variation between European regions 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42920" y="1293840"/>
            <a:ext cx="75200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43280" y="333360"/>
            <a:ext cx="6300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are cancers burden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84000" y="1413000"/>
            <a:ext cx="63738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Incidence  =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500,000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new diagnosis/year                                         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                       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22%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of all cancer diagnoses/yr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Prevalence =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4 million patients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24%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of the total cancer   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lvl="4" marL="20574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prevalence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6666"/>
                </a:solidFill>
                <a:latin typeface="Tahoma"/>
              </a:rPr>
              <a:t>Survival  =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common cancers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64%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en-US" sz="2300" spc="-1" strike="noStrike">
                <a:solidFill>
                  <a:srgbClr val="003366"/>
                </a:solidFill>
                <a:latin typeface="Tahoma"/>
              </a:rPr>
              <a:t>vs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                     </a:t>
            </a:r>
            <a:r>
              <a:rPr b="0" lang="en-US" sz="2300" spc="-1" strike="noStrike">
                <a:solidFill>
                  <a:srgbClr val="003366"/>
                </a:solidFill>
                <a:latin typeface="Tahoma"/>
              </a:rPr>
              <a:t>rare cancers </a:t>
            </a: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48%</a:t>
            </a:r>
            <a:endParaRPr b="0" lang="en-US" sz="23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28" name="Picture 4" descr="RARECARE paper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2"/>
          <p:cNvGraphicFramePr/>
          <p:nvPr/>
        </p:nvGraphicFramePr>
        <p:xfrm>
          <a:off x="179280" y="4202280"/>
          <a:ext cx="2973600" cy="189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4202280"/>
                    <a:ext cx="297360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ttangolo 5"/>
          <p:cNvSpPr/>
          <p:nvPr/>
        </p:nvSpPr>
        <p:spPr>
          <a:xfrm>
            <a:off x="0" y="4292640"/>
            <a:ext cx="2484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2124000" y="201600"/>
            <a:ext cx="54723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c8c8"/>
                </a:solidFill>
                <a:latin typeface="Arial"/>
              </a:rPr>
              <a:t>INFORMATION NETWORK ON RARE CANC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3" name="Picture 5" descr="EU"/>
          <p:cNvPicPr/>
          <p:nvPr/>
        </p:nvPicPr>
        <p:blipFill>
          <a:blip r:embed="rId1"/>
          <a:stretch/>
        </p:blipFill>
        <p:spPr>
          <a:xfrm>
            <a:off x="7772400" y="-27000"/>
            <a:ext cx="1343160" cy="876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2"/>
          <a:stretch/>
        </p:blipFill>
        <p:spPr>
          <a:xfrm>
            <a:off x="1371600" y="1027080"/>
            <a:ext cx="62596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1618920" y="1773360"/>
            <a:ext cx="6265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1618920" y="476280"/>
            <a:ext cx="6645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Lucida Sans"/>
              </a:rPr>
              <a:t>Dissemination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34" name="Picture 5" descr="RARECARE paper"/>
          <p:cNvPicPr/>
          <p:nvPr/>
        </p:nvPicPr>
        <p:blipFill>
          <a:blip r:embed="rId1"/>
          <a:stretch/>
        </p:blipFill>
        <p:spPr>
          <a:xfrm>
            <a:off x="7308720" y="44280"/>
            <a:ext cx="169236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0" y="1504800"/>
            <a:ext cx="9144000" cy="5353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3"/>
          <a:stretch/>
        </p:blipFill>
        <p:spPr>
          <a:xfrm>
            <a:off x="0" y="1413000"/>
            <a:ext cx="9164520" cy="5445000"/>
          </a:xfrm>
          <a:prstGeom prst="rect">
            <a:avLst/>
          </a:prstGeom>
          <a:ln w="0">
            <a:noFill/>
          </a:ln>
        </p:spPr>
      </p:pic>
      <p:sp>
        <p:nvSpPr>
          <p:cNvPr id="438" name="CasellaDiTesto 4"/>
          <p:cNvSpPr/>
          <p:nvPr/>
        </p:nvSpPr>
        <p:spPr>
          <a:xfrm>
            <a:off x="997200" y="83664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rarecare.e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957240"/>
            <a:ext cx="8088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Lucida Sans"/>
              </a:rPr>
              <a:t>Dissemination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3366"/>
                </a:solidFill>
                <a:latin typeface="Lucida Sans"/>
              </a:rPr>
              <a:t>Papers in peer review journals</a:t>
            </a:r>
            <a:endParaRPr b="1" lang="en-US" sz="32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1"/>
          <a:stretch/>
        </p:blipFill>
        <p:spPr>
          <a:xfrm>
            <a:off x="2819520" y="2127240"/>
            <a:ext cx="6095880" cy="38210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RARECARE paper"/>
          <p:cNvPicPr/>
          <p:nvPr/>
        </p:nvPicPr>
        <p:blipFill>
          <a:blip r:embed="rId2"/>
          <a:stretch/>
        </p:blipFill>
        <p:spPr>
          <a:xfrm>
            <a:off x="7416720" y="44280"/>
            <a:ext cx="1692360" cy="5796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6553080" cy="3384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" descr=""/>
          <p:cNvPicPr/>
          <p:nvPr/>
        </p:nvPicPr>
        <p:blipFill>
          <a:blip r:embed="rId4"/>
          <a:stretch/>
        </p:blipFill>
        <p:spPr>
          <a:xfrm>
            <a:off x="371520" y="2997360"/>
            <a:ext cx="8400960" cy="2933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5"/>
          <a:stretch/>
        </p:blipFill>
        <p:spPr>
          <a:xfrm>
            <a:off x="257040" y="1927080"/>
            <a:ext cx="8629920" cy="3733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6"/>
          <a:stretch/>
        </p:blipFill>
        <p:spPr>
          <a:xfrm>
            <a:off x="371520" y="2165400"/>
            <a:ext cx="8400960" cy="3495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7"/>
          <a:stretch/>
        </p:blipFill>
        <p:spPr>
          <a:xfrm>
            <a:off x="476280" y="2189160"/>
            <a:ext cx="8191440" cy="34005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"/>
          <p:cNvPicPr/>
          <p:nvPr/>
        </p:nvPicPr>
        <p:blipFill>
          <a:blip r:embed="rId8"/>
          <a:stretch/>
        </p:blipFill>
        <p:spPr>
          <a:xfrm>
            <a:off x="647640" y="1728720"/>
            <a:ext cx="8172360" cy="4076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7" descr=""/>
          <p:cNvPicPr/>
          <p:nvPr/>
        </p:nvPicPr>
        <p:blipFill>
          <a:blip r:embed="rId9"/>
          <a:stretch/>
        </p:blipFill>
        <p:spPr>
          <a:xfrm>
            <a:off x="495360" y="1817640"/>
            <a:ext cx="81532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ttangolo 5"/>
          <p:cNvSpPr/>
          <p:nvPr/>
        </p:nvSpPr>
        <p:spPr>
          <a:xfrm>
            <a:off x="2124000" y="3841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 Narrow"/>
              </a:rPr>
              <a:t>Dissemination, papers in peer review journ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 rot="21391200">
            <a:off x="411120" y="2349000"/>
            <a:ext cx="8099640" cy="3319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39640" y="1582560"/>
            <a:ext cx="8280360" cy="3141720"/>
          </a:xfrm>
          <a:prstGeom prst="rect">
            <a:avLst/>
          </a:prstGeom>
          <a:ln w="0">
            <a:noFill/>
          </a:ln>
        </p:spPr>
      </p:pic>
      <p:sp>
        <p:nvSpPr>
          <p:cNvPr id="452" name="Rettangolo 9"/>
          <p:cNvSpPr/>
          <p:nvPr/>
        </p:nvSpPr>
        <p:spPr>
          <a:xfrm>
            <a:off x="2987640" y="1125360"/>
            <a:ext cx="3672000" cy="5616720"/>
          </a:xfrm>
          <a:prstGeom prst="rect">
            <a:avLst/>
          </a:prstGeom>
          <a:solidFill>
            <a:srgbClr val="7f7f7f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408480" y="1197000"/>
          <a:ext cx="2820960" cy="5369040"/>
        </p:xfrm>
        <a:graphic>
          <a:graphicData uri="http://schemas.openxmlformats.org/drawingml/2006/table">
            <a:tbl>
              <a:tblPr/>
              <a:tblGrid>
                <a:gridCol w="2820960"/>
              </a:tblGrid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Cancers of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head and neck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Incidence, prevalence and survival in rare epithelial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digestive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thoracic cance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, including peritoneum mesothelioma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Descriptive Epidemiology of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Sarcomas</a:t>
                      </a: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in Europe.  Report from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WarnockPro-Regular"/>
                        </a:rPr>
                        <a:t>Extracutaneous melanomas</a:t>
                      </a: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WarnockPro-Regular"/>
                        </a:rPr>
                        <a:t> (uveal and mucosal) and adnexal skin carcinomas in Europe 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cancers of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female genital tra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tumours of </a:t>
                      </a:r>
                      <a:r>
                        <a:rPr b="1" lang="en-GB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testis and extragonadal germ cell tumou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Urogenital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Central Nervous System Cancer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14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Endocrine Tumou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: results of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Neuroendocrine Tumou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: results of the RARECARE project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The </a:t>
                      </a:r>
                      <a:r>
                        <a:rPr b="1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embryonal cancers</a:t>
                      </a: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 in Europe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Rare </a:t>
                      </a:r>
                      <a:r>
                        <a:rPr b="1" lang="en-US" sz="1100" spc="-1" strike="noStrike">
                          <a:solidFill>
                            <a:srgbClr val="666699"/>
                          </a:solidFill>
                          <a:latin typeface="Times New Roman"/>
                          <a:ea typeface="Times New Roman"/>
                        </a:rPr>
                        <a:t>Myeloid malignancies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04600" y="1169640"/>
            <a:ext cx="8088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3366"/>
                </a:solidFill>
                <a:latin typeface="Arial Rounded MT Bold"/>
              </a:rPr>
              <a:t>RARECARE – WHAT’S ADDED</a:t>
            </a:r>
            <a:endParaRPr b="1" lang="en-US" sz="2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402920" y="1700280"/>
            <a:ext cx="70563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Put numbers to a problem long known to exist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Show low outcome of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Made prevalence available for rare cancer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 Rounded MT Bold"/>
                <a:ea typeface="Tahoma"/>
              </a:rPr>
              <a:t>Identified a new priority for population-based cancer registrie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57400" y="-27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Lucida Sans"/>
              </a:rPr>
              <a:t>Further prospectives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Lucida Sans"/>
              </a:rPr>
              <a:t>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79280" y="169056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escribe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diagnosis and treatment pathway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for across EU countries from registry data.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To identify the qualification criteria for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centres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of expertise </a:t>
            </a:r>
            <a:r>
              <a:rPr b="0" lang="it-IT" sz="2400" spc="-1" strike="noStrike">
                <a:solidFill>
                  <a:srgbClr val="003366"/>
                </a:solidFill>
                <a:latin typeface="Arial Narrow"/>
              </a:rPr>
              <a:t>and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 list centres of expertise 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produce and disseminate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information on diagnosis and management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of rare cancer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b0f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To develop a </a:t>
            </a:r>
            <a:r>
              <a:rPr b="1" lang="en-GB" sz="2400" spc="-1" strike="noStrike">
                <a:solidFill>
                  <a:srgbClr val="003366"/>
                </a:solidFill>
                <a:latin typeface="Arial Narrow"/>
              </a:rPr>
              <a:t>clinical database </a:t>
            </a:r>
            <a:r>
              <a:rPr b="0" lang="en-GB" sz="2400" spc="-1" strike="noStrike">
                <a:solidFill>
                  <a:srgbClr val="003366"/>
                </a:solidFill>
                <a:latin typeface="Arial Narrow"/>
              </a:rPr>
              <a:t>on very rare cancers to develop new knowledge on their clinical management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331640" y="3499920"/>
            <a:ext cx="7313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3366"/>
                </a:solidFill>
                <a:latin typeface="Tahoma"/>
              </a:rPr>
              <a:t>RARECARE: </a:t>
            </a:r>
            <a:r>
              <a:rPr b="0" lang="it-IT" sz="2700" spc="-1" strike="noStrike" u="sng">
                <a:solidFill>
                  <a:srgbClr val="003366"/>
                </a:solidFill>
                <a:uFillTx/>
                <a:latin typeface="Tahoma"/>
                <a:hlinkClick r:id="rId1"/>
              </a:rPr>
              <a:t>http://www.rarecare.eu/</a:t>
            </a: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459" name="Picture 3" descr="RARECARE paper"/>
          <p:cNvPicPr/>
          <p:nvPr/>
        </p:nvPicPr>
        <p:blipFill>
          <a:blip r:embed="rId2"/>
          <a:stretch/>
        </p:blipFill>
        <p:spPr>
          <a:xfrm>
            <a:off x="7380360" y="112680"/>
            <a:ext cx="1692360" cy="5796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2909880" y="220500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ahoma"/>
              </a:rPr>
              <a:t>Enjoy the meeting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755640" y="1353960"/>
            <a:ext cx="712944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4d4d"/>
                </a:solidFill>
                <a:latin typeface="Arial"/>
              </a:rPr>
              <a:t>What I am expect from this m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333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11280" y="2057400"/>
            <a:ext cx="8151840" cy="389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19280" y="2565360"/>
            <a:ext cx="612144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Suggestions and comment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Identification of possible problems with solution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Planning of the interaction between WP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 Narrow"/>
              </a:rPr>
              <a:t>Background: from RARECARE to RARECARENet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5564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Why rare cancers?</a:t>
            </a:r>
            <a:endParaRPr b="1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0920" y="630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 Narrow"/>
              </a:rPr>
              <a:t>EUROCARE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51" name="Picture 7" descr="mappa europea"/>
          <p:cNvPicPr/>
          <p:nvPr/>
        </p:nvPicPr>
        <p:blipFill>
          <a:blip r:embed="rId1"/>
          <a:stretch/>
        </p:blipFill>
        <p:spPr>
          <a:xfrm>
            <a:off x="826920" y="1989000"/>
            <a:ext cx="4465800" cy="4678560"/>
          </a:xfrm>
          <a:prstGeom prst="rect">
            <a:avLst/>
          </a:prstGeom>
          <a:ln w="0">
            <a:noFill/>
          </a:ln>
        </p:spPr>
      </p:pic>
      <p:sp>
        <p:nvSpPr>
          <p:cNvPr id="352" name="Rettangolo 4"/>
          <p:cNvSpPr/>
          <p:nvPr/>
        </p:nvSpPr>
        <p:spPr>
          <a:xfrm>
            <a:off x="684360" y="15159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ahoma"/>
              </a:rPr>
              <a:t>About 100 European cancer registries (in 22 EU Countri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CasellaDiTesto 5"/>
          <p:cNvSpPr/>
          <p:nvPr/>
        </p:nvSpPr>
        <p:spPr>
          <a:xfrm>
            <a:off x="6176880" y="508464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eurocare.i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95280" y="1915920"/>
            <a:ext cx="846144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Tahoma"/>
                <a:ea typeface="Tahoma"/>
              </a:rPr>
              <a:t>Survival of adult patients with rare cancer in Europe (Europe against Cancer Programme) with the ENCR (2001-2003)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6666"/>
                </a:solidFill>
                <a:latin typeface="Tahoma"/>
                <a:ea typeface="Tahoma"/>
              </a:rPr>
              <a:t>Two unsuccesful FP6 proposals</a:t>
            </a: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5" name="Rettangolo 3"/>
          <p:cNvSpPr/>
          <p:nvPr/>
        </p:nvSpPr>
        <p:spPr>
          <a:xfrm>
            <a:off x="3175200" y="571680"/>
            <a:ext cx="32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66"/>
                </a:solidFill>
                <a:latin typeface="Arial Narrow"/>
              </a:rPr>
              <a:t>BEFORE RARECARE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68360" y="27432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fbfbf"/>
                </a:solidFill>
                <a:latin typeface="Arial Rounded MT Bold"/>
              </a:rPr>
              <a:t>Several papers on rare cancer survival</a:t>
            </a:r>
            <a:endParaRPr b="1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457200" y="1557360"/>
            <a:ext cx="7467480" cy="1832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5315040" cy="371520"/>
          </a:xfrm>
          <a:prstGeom prst="rect">
            <a:avLst/>
          </a:prstGeom>
          <a:ln w="0">
            <a:noFill/>
          </a:ln>
        </p:spPr>
      </p:pic>
      <p:sp>
        <p:nvSpPr>
          <p:cNvPr id="359" name="Rettangolo 4"/>
          <p:cNvSpPr/>
          <p:nvPr/>
        </p:nvSpPr>
        <p:spPr>
          <a:xfrm>
            <a:off x="539640" y="1268280"/>
            <a:ext cx="8064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12:06Z</dcterms:created>
  <dc:creator>Roberto Rizzo</dc:creator>
  <dc:description/>
  <dc:language>en-US</dc:language>
  <cp:lastModifiedBy>HERON Graeme</cp:lastModifiedBy>
  <dcterms:modified xsi:type="dcterms:W3CDTF">2012-07-19T15:38:34Z</dcterms:modified>
  <cp:revision>95</cp:revision>
  <dc:subject/>
  <dc:title>Diapositiva 1</dc:title>
</cp:coreProperties>
</file>