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7.wmf" ContentType="image/x-wmf"/>
  <Override PartName="/ppt/media/image37.png" ContentType="image/png"/>
  <Override PartName="/ppt/media/image42.png" ContentType="image/png"/>
  <Override PartName="/ppt/media/image1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9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0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1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683-BE1D-43F6-90F7-7AFBDE725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43C-7DC4-4388-B8F2-607033BFCEDA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AEAF-5508-4F94-A0EB-C8B605D9BECA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C74-6E35-4FC6-9109-2BE7E759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42D-1239-4CDD-B52F-532ABAC0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618-0811-4843-BBB1-232CBE84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C4A-A3B9-4451-A70B-3199B821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F5C-3C18-4BD4-8E9A-E064960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D99-4F43-4027-8F63-E73D3F30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4DA-CE54-4283-94D5-A7FA578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0CC-E0AA-4E5E-A12C-0714C43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F56-7BAB-46D4-809E-B7CA368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B7D-C8A9-411D-98FB-A4F874F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2BE-80EC-49B0-82E5-52DF9088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DB0-ECEB-4BDB-AB30-26EA046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66543-670B-40F3-8C88-0692882B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F99C-40A7-4F41-A219-36C736E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9FB04-AD39-48B6-84AC-5B7AB0C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667D6-1D97-4647-A9A3-CB17260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3761-F96A-4F6B-ACF5-85B0B5F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C75E4-8471-4B0C-AE14-BC75874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766F1-7418-4A67-A441-581B9AA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2AAAB-CC35-4E65-8BE2-37AAB4A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ED63A-A804-4172-8F61-9976F9B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09033-954F-404A-9860-1F6C657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97B07-D455-4ED0-B97A-89057DDA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6D38-D9F8-4C71-B896-7F6DE092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71FA-83E5-4805-9236-7D3DE5C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E9B4-0302-4466-AE77-EF7AB65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C75B-889E-4692-BA5E-8CD8443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8A21-402A-403F-AD23-B81791E3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1419-EA36-4B6A-A7A2-4CFF7A0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BF50-7FF7-4CF7-AE32-1437C0D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7854-0EDD-4D01-B2CD-3017176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A0E1-7974-4D74-ADD2-204238F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A643-9A88-436F-BDDC-ECC1D19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44C3-520B-429C-AB48-DC9B5D8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AD5E-8D82-4B34-80AB-50E70038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56C0-0943-4DA3-84AD-8641CD4A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7A91-A397-4268-B6DC-CAE646C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7537-B65E-45C2-BE5A-C84EB7CC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6AF9-4D5E-4544-A001-D0E6A4B3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A656-F268-4A5D-8F00-F9C9C82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8C13-5EE5-4E22-8063-B41027BA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4115-A45C-4E15-B791-C18DCE4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7708-1E8D-4F64-AFB4-3896746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E0E9-7294-46B4-983D-1641092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A270-6207-4C65-8012-4191F58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BFD09-F366-4C82-9FFE-9B754F0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093E-224C-4B55-9B0A-E1834A32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F7F3-11FA-45AB-A781-0319FF77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191C-4316-4447-AC80-A12E88AF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AB23-4D0A-45C8-BE9F-2C05B15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DA7F-D1F7-4CC7-9030-A2F63A0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6416-BE32-4CFE-A1BE-15BC7B94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8DB6-4370-4469-BE03-B5BAE86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944C-2B3E-464D-AD00-5492D4A6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E0AD-10BE-4DC5-A4B6-F401C154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84B8-2D75-44B5-BD0E-81F680C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9B3B-39F9-4EC2-B2D9-7C3A19B5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A7BB-0968-4A4D-9626-E72AF47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0A89-7CD5-4732-84BE-94D302E3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F7F4-310A-4DA2-B812-7BF16B19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3B1D-5A05-4851-9ACC-851C005E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4E59-79FC-483F-8DF3-E7883C0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FAE4-D6C9-4AFE-B3B8-0C0B3D1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9AEC4-E352-46F5-B5E2-DF406086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F48C1-592E-4EB6-BB24-BF918EB8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CC1A-A39D-45DA-98DE-41E0862D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0695-5D9D-4EFE-B0C8-05B4191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44A9A-2B85-45BE-8DF8-AA63272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1CF90-72C1-43C9-8B4F-04FA86B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CED6-9DE6-4BC3-A8E2-C787A98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260F-0D1E-4477-A729-C6A639F2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5BED-0C30-4432-AF2B-2D92835E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7CA-BD6A-44C5-865E-30A389F82F18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20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9CB-C634-49AA-AAC6-E1F2B658C27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62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81A-F525-461E-9C69-EE8782605AC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204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B4AB-0F16-498C-B80E-38D113B1C567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2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99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A2FB-583C-4F6D-9BEC-4192E5939918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287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30B-6CB7-42EC-AF5D-C91D4F14C0E0}" type="slidenum"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3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rarecare.eu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urocare.it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50920" y="1638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468360" y="1268280"/>
            <a:ext cx="7920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33"/>
                </a:solidFill>
                <a:latin typeface="Arial"/>
              </a:rPr>
              <a:t>INFORMATION NETWORK ON RARE CANCERS (RARECARENet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Kick-off meeting - Friday, July 13 20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  <a:ea typeface="Tahoma"/>
              </a:rPr>
              <a:t>Gemma Gat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  <a:ea typeface="Tahoma"/>
              </a:rPr>
              <a:t>Fondazione IRCCS, Istituto Nazionale dei Tumori – Milan (Ita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7" name="Picture 5" descr="EU"/>
          <p:cNvPicPr/>
          <p:nvPr/>
        </p:nvPicPr>
        <p:blipFill>
          <a:blip r:embed="rId1"/>
          <a:stretch/>
        </p:blipFill>
        <p:spPr>
          <a:xfrm>
            <a:off x="5100480" y="5505480"/>
            <a:ext cx="1343160" cy="876240"/>
          </a:xfrm>
          <a:prstGeom prst="rect">
            <a:avLst/>
          </a:prstGeom>
          <a:ln w="0">
            <a:noFill/>
          </a:ln>
        </p:spPr>
      </p:pic>
      <p:pic>
        <p:nvPicPr>
          <p:cNvPr id="338" name="Immagine 6" descr=""/>
          <p:cNvPicPr/>
          <p:nvPr/>
        </p:nvPicPr>
        <p:blipFill>
          <a:blip r:embed="rId2"/>
          <a:stretch/>
        </p:blipFill>
        <p:spPr>
          <a:xfrm>
            <a:off x="2484360" y="5477040"/>
            <a:ext cx="1952640" cy="90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179280" y="1552680"/>
            <a:ext cx="8569440" cy="3028680"/>
          </a:xfrm>
          <a:prstGeom prst="rect">
            <a:avLst/>
          </a:prstGeom>
          <a:ln w="0">
            <a:noFill/>
          </a:ln>
        </p:spPr>
      </p:pic>
      <p:sp>
        <p:nvSpPr>
          <p:cNvPr id="362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2087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39640" y="1789200"/>
            <a:ext cx="7993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36520" y="5680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CARE (2007-2010)   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55640" y="1989000"/>
            <a:ext cx="763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Tahoma"/>
              </a:rPr>
              <a:t>Aim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provide 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 definition of “rare cancers”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and a list of canc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estimate the burden of rare cancers in Euro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improve the quality of data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in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cancer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regist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develop strategies for the diffusion of information among all the key play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Essential source of data = population-based cancer registries</a:t>
            </a:r>
            <a:r>
              <a:rPr b="0" lang="en-GB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331920" y="0"/>
            <a:ext cx="980784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4"/>
          <p:cNvSpPr/>
          <p:nvPr/>
        </p:nvSpPr>
        <p:spPr>
          <a:xfrm>
            <a:off x="1763640" y="1268280"/>
            <a:ext cx="518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RARE DISEA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123640" y="2060280"/>
            <a:ext cx="6480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nical vs site cancer ent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CD-O topography and morphology cod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bout  220 tumour entities, 186 rar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reshold: incidence vs prevalenc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2268360" y="69228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EFINITION AND LIST OF RARE CANCERS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Incidence vs prevalenc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0" y="3141720"/>
            <a:ext cx="5940360" cy="28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067280" y="1285920"/>
            <a:ext cx="47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626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ll rare cancers, but cervix uteri and thyroid carcinoma are also rare according to the European defini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denocarcinoma and squamous cell carcinoma of lung, adenocarcinoma of stomach are rare according to the European definition and rare according to the RARECARE defini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Incidence vs prevalenc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5832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Complete prevalenc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bserved prevalence + completeness index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N 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= N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(L)+ N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U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(L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4 models per each entity (around 1000 different model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268360" y="54936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Prevalence is not an easy task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5783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Tahoma"/>
              </a:rPr>
              <a:t>Threshold: issues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18920" y="1844280"/>
            <a:ext cx="7296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How many cancer diagnoses refer to rare cancers?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Does rarity affect the possibility to carry out effective research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Is clinical decision making more difficul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Threshold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r rarity &lt; 6/100.000/yea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5783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Tahoma"/>
              </a:rPr>
              <a:t>Cut point: too high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583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reshold of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&lt;3/100,000/year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stead of &lt;6/100,000/yea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glial CNS tumours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pithelial cancers of the oral cavit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pithelial cancers of gallbladd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oft tissue sarcoma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umours of test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arcinomas of endocrine orga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Myeloproliferative neoplasm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cute myeloid leukaemia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31640" y="1484280"/>
            <a:ext cx="727236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discuss the project among all the project partn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he Work  Package (WP) leaders have been invited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describe objectives and activities of their W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provide a detailed planning of WP activitie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50920" y="494172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Rettangolo 3"/>
          <p:cNvSpPr/>
          <p:nvPr/>
        </p:nvSpPr>
        <p:spPr>
          <a:xfrm>
            <a:off x="2195640" y="468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 of the kick-off meeting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2"/>
          <p:cNvGraphicFramePr/>
          <p:nvPr/>
        </p:nvGraphicFramePr>
        <p:xfrm>
          <a:off x="3492360" y="189000"/>
          <a:ext cx="5418360" cy="63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5418360" cy="63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3"/>
          <p:cNvSpPr/>
          <p:nvPr/>
        </p:nvSpPr>
        <p:spPr>
          <a:xfrm>
            <a:off x="393840" y="1197000"/>
            <a:ext cx="3025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Variation depends 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Risk fac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Population 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ase mix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Availability of expert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Connettore 1 5"/>
          <p:cNvSpPr/>
          <p:nvPr/>
        </p:nvSpPr>
        <p:spPr>
          <a:xfrm>
            <a:off x="3995640" y="2708280"/>
            <a:ext cx="5004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ttangolo 7"/>
          <p:cNvSpPr/>
          <p:nvPr/>
        </p:nvSpPr>
        <p:spPr>
          <a:xfrm>
            <a:off x="363600" y="543564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In Europe 97/100,000/ye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81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ahoma"/>
              </a:rPr>
              <a:t>Incidence </a:t>
            </a: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rates for rare </a:t>
            </a:r>
            <a:br>
              <a:rPr sz="3200"/>
            </a:b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and common cancers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264d"/>
                </a:solidFill>
                <a:latin typeface="Arial Narrow"/>
              </a:rPr>
              <a:t>AGE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2195640" y="1916280"/>
          <a:ext cx="6335640" cy="358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633564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56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All rare cancers </a:t>
            </a: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by </a:t>
            </a: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country</a:t>
            </a:r>
            <a:br>
              <a:rPr sz="2800"/>
            </a:br>
            <a:r>
              <a:rPr b="0" lang="en-GB" sz="2800" spc="-1" strike="noStrike">
                <a:solidFill>
                  <a:srgbClr val="00264d"/>
                </a:solidFill>
                <a:latin typeface="Tahoma"/>
              </a:rPr>
              <a:t>How many new diagnoses/year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68360" y="1197000"/>
          <a:ext cx="2971800" cy="4876920"/>
        </p:xfrm>
        <a:graphic>
          <a:graphicData uri="http://schemas.openxmlformats.org/drawingml/2006/table">
            <a:tbl>
              <a:tblPr/>
              <a:tblGrid>
                <a:gridCol w="1820880"/>
                <a:gridCol w="1150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embour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pru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v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508720" y="1197000"/>
          <a:ext cx="2971800" cy="4572000"/>
        </p:xfrm>
        <a:graphic>
          <a:graphicData uri="http://schemas.openxmlformats.org/drawingml/2006/table">
            <a:tbl>
              <a:tblPr/>
              <a:tblGrid>
                <a:gridCol w="1817640"/>
                <a:gridCol w="1154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_Eng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PE 2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56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ahoma"/>
              </a:rPr>
              <a:t>adrenal cancers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 by </a:t>
            </a:r>
            <a:r>
              <a:rPr b="1" lang="en-GB" sz="2800" spc="-1" strike="noStrike">
                <a:solidFill>
                  <a:srgbClr val="cc0000"/>
                </a:solidFill>
                <a:latin typeface="Tahoma"/>
              </a:rPr>
              <a:t>country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Tahoma"/>
              </a:rPr>
              <a:t>How many new diagnoses/year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268360" y="1628640"/>
          <a:ext cx="2971800" cy="4876920"/>
        </p:xfrm>
        <a:graphic>
          <a:graphicData uri="http://schemas.openxmlformats.org/drawingml/2006/table">
            <a:tbl>
              <a:tblPr/>
              <a:tblGrid>
                <a:gridCol w="1820880"/>
                <a:gridCol w="1150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508720" y="1628640"/>
          <a:ext cx="2971800" cy="4572000"/>
        </p:xfrm>
        <a:graphic>
          <a:graphicData uri="http://schemas.openxmlformats.org/drawingml/2006/table">
            <a:tbl>
              <a:tblPr/>
              <a:tblGrid>
                <a:gridCol w="1817640"/>
                <a:gridCol w="1154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76" descr=""/>
          <p:cNvPicPr/>
          <p:nvPr/>
        </p:nvPicPr>
        <p:blipFill>
          <a:blip r:embed="rId1"/>
          <a:stretch/>
        </p:blipFill>
        <p:spPr>
          <a:xfrm>
            <a:off x="2340000" y="1111320"/>
            <a:ext cx="3108240" cy="4910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8" descr=""/>
          <p:cNvPicPr/>
          <p:nvPr/>
        </p:nvPicPr>
        <p:blipFill>
          <a:blip r:embed="rId2"/>
          <a:stretch/>
        </p:blipFill>
        <p:spPr>
          <a:xfrm>
            <a:off x="5770440" y="1123920"/>
            <a:ext cx="295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1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INCIDENCE </a:t>
            </a:r>
            <a:br>
              <a:rPr sz="3200"/>
            </a:br>
            <a:r>
              <a:rPr b="0" lang="en-GB" sz="2400" spc="-1" strike="noStrike">
                <a:solidFill>
                  <a:srgbClr val="666699"/>
                </a:solidFill>
                <a:latin typeface="Tahoma"/>
              </a:rPr>
              <a:t>Distribution of :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684360" y="2090880"/>
          <a:ext cx="3887640" cy="35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90880"/>
                    <a:ext cx="388764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4643280" y="2089080"/>
          <a:ext cx="4248360" cy="357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089080"/>
                    <a:ext cx="42483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Picture 5" descr="RARECARE paper"/>
          <p:cNvPicPr/>
          <p:nvPr/>
        </p:nvPicPr>
        <p:blipFill>
          <a:blip r:embed="rId5"/>
          <a:stretch/>
        </p:blipFill>
        <p:spPr>
          <a:xfrm>
            <a:off x="7308720" y="328680"/>
            <a:ext cx="1692360" cy="579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6"/>
          <p:cNvSpPr/>
          <p:nvPr/>
        </p:nvSpPr>
        <p:spPr>
          <a:xfrm>
            <a:off x="1267200" y="166356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Tahoma"/>
              </a:rPr>
              <a:t>Number of cancer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5090400" y="164772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Tahoma"/>
              </a:rPr>
              <a:t>Annual number of diagno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603160" y="380520"/>
            <a:ext cx="58561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d"/>
                </a:solidFill>
                <a:latin typeface="Tahoma"/>
              </a:rPr>
              <a:t>Five-year survival of rare and common cancers, by age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1967040" y="1341360"/>
          <a:ext cx="656568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341360"/>
                    <a:ext cx="65656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Text Box 5"/>
          <p:cNvSpPr/>
          <p:nvPr/>
        </p:nvSpPr>
        <p:spPr>
          <a:xfrm>
            <a:off x="1863720" y="551664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5-year survival: common cancers 64% </a:t>
            </a:r>
            <a:r>
              <a:rPr b="1" i="1" lang="en-GB" sz="1800" spc="-1" strike="noStrike">
                <a:solidFill>
                  <a:srgbClr val="003366"/>
                </a:solidFill>
                <a:latin typeface="Verdana"/>
              </a:rPr>
              <a:t>vs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rare cancers 48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Ovale 5"/>
          <p:cNvSpPr/>
          <p:nvPr/>
        </p:nvSpPr>
        <p:spPr>
          <a:xfrm>
            <a:off x="6948360" y="2421000"/>
            <a:ext cx="1295640" cy="12240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7223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ive-year survival (%) by European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untry</a:t>
            </a: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common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                          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rare</a:t>
            </a:r>
            <a:endParaRPr b="1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1908000" y="2043000"/>
          <a:ext cx="323568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43000"/>
                    <a:ext cx="32356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859280" y="2060640"/>
          <a:ext cx="3745080" cy="39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060640"/>
                    <a:ext cx="37450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5"/>
          <p:cNvSpPr/>
          <p:nvPr/>
        </p:nvSpPr>
        <p:spPr>
          <a:xfrm>
            <a:off x="5076720" y="2133720"/>
            <a:ext cx="100800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979640" y="2133720"/>
            <a:ext cx="576360" cy="33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84360" y="163080"/>
            <a:ext cx="5710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Survival variation between European region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52560" y="1347840"/>
            <a:ext cx="9038880" cy="2657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539640" y="4579920"/>
            <a:ext cx="6397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00000" y="16308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Survival variation between European region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42920" y="1293840"/>
            <a:ext cx="75200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43280" y="333360"/>
            <a:ext cx="6300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are cancers burden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6373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Incidence  =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500,000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new diagnosis/year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                       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22%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of all cancer diagnoses/yr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Prevalence =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4 million patients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24%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of the total cancer   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prevalence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Survival  =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common cancers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64%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en-US" sz="2300" spc="-1" strike="noStrike">
                <a:solidFill>
                  <a:srgbClr val="003366"/>
                </a:solidFill>
                <a:latin typeface="Tahoma"/>
              </a:rPr>
              <a:t>vs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                   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rare cancers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48%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8" name="Picture 4" descr="RARECARE paper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2"/>
          <p:cNvGraphicFramePr/>
          <p:nvPr/>
        </p:nvGraphicFramePr>
        <p:xfrm>
          <a:off x="179280" y="4202280"/>
          <a:ext cx="2973600" cy="189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202280"/>
                    <a:ext cx="29736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ttangolo 5"/>
          <p:cNvSpPr/>
          <p:nvPr/>
        </p:nvSpPr>
        <p:spPr>
          <a:xfrm>
            <a:off x="0" y="4292640"/>
            <a:ext cx="2484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2124000" y="201600"/>
            <a:ext cx="54723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c8c8"/>
                </a:solidFill>
                <a:latin typeface="Arial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3" name="Picture 5" descr="EU"/>
          <p:cNvPicPr/>
          <p:nvPr/>
        </p:nvPicPr>
        <p:blipFill>
          <a:blip r:embed="rId1"/>
          <a:stretch/>
        </p:blipFill>
        <p:spPr>
          <a:xfrm>
            <a:off x="7772400" y="-27000"/>
            <a:ext cx="1343160" cy="87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2"/>
          <a:stretch/>
        </p:blipFill>
        <p:spPr>
          <a:xfrm>
            <a:off x="1371600" y="1027080"/>
            <a:ext cx="6259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6265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618920" y="476280"/>
            <a:ext cx="664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Lucida Sans"/>
              </a:rPr>
              <a:t>Dissemina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34" name="Picture 5" descr="RARECARE paper"/>
          <p:cNvPicPr/>
          <p:nvPr/>
        </p:nvPicPr>
        <p:blipFill>
          <a:blip r:embed="rId1"/>
          <a:stretch/>
        </p:blipFill>
        <p:spPr>
          <a:xfrm>
            <a:off x="7308720" y="44280"/>
            <a:ext cx="169236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0" y="1504800"/>
            <a:ext cx="9144000" cy="5353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3"/>
          <a:stretch/>
        </p:blipFill>
        <p:spPr>
          <a:xfrm>
            <a:off x="0" y="1413000"/>
            <a:ext cx="9164520" cy="5445000"/>
          </a:xfrm>
          <a:prstGeom prst="rect">
            <a:avLst/>
          </a:prstGeom>
          <a:ln w="0">
            <a:noFill/>
          </a:ln>
        </p:spPr>
      </p:pic>
      <p:sp>
        <p:nvSpPr>
          <p:cNvPr id="438" name="CasellaDiTesto 4"/>
          <p:cNvSpPr/>
          <p:nvPr/>
        </p:nvSpPr>
        <p:spPr>
          <a:xfrm>
            <a:off x="997200" y="8366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rarecare.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957240"/>
            <a:ext cx="8088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Lucida Sans"/>
              </a:rPr>
              <a:t>Dissemination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3366"/>
                </a:solidFill>
                <a:latin typeface="Lucida Sans"/>
              </a:rPr>
              <a:t>Papers in peer review journal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2819520" y="2127240"/>
            <a:ext cx="6095880" cy="3821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RARECARE paper"/>
          <p:cNvPicPr/>
          <p:nvPr/>
        </p:nvPicPr>
        <p:blipFill>
          <a:blip r:embed="rId2"/>
          <a:stretch/>
        </p:blipFill>
        <p:spPr>
          <a:xfrm>
            <a:off x="7416720" y="44280"/>
            <a:ext cx="1692360" cy="579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6553080" cy="3384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4"/>
          <a:stretch/>
        </p:blipFill>
        <p:spPr>
          <a:xfrm>
            <a:off x="371520" y="2997360"/>
            <a:ext cx="8400960" cy="2933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5"/>
          <a:stretch/>
        </p:blipFill>
        <p:spPr>
          <a:xfrm>
            <a:off x="257040" y="1927080"/>
            <a:ext cx="8629920" cy="3733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6"/>
          <a:stretch/>
        </p:blipFill>
        <p:spPr>
          <a:xfrm>
            <a:off x="371520" y="2165400"/>
            <a:ext cx="8400960" cy="3495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7"/>
          <a:stretch/>
        </p:blipFill>
        <p:spPr>
          <a:xfrm>
            <a:off x="476280" y="2189160"/>
            <a:ext cx="8191440" cy="3400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"/>
          <p:cNvPicPr/>
          <p:nvPr/>
        </p:nvPicPr>
        <p:blipFill>
          <a:blip r:embed="rId8"/>
          <a:stretch/>
        </p:blipFill>
        <p:spPr>
          <a:xfrm>
            <a:off x="647640" y="1728720"/>
            <a:ext cx="8172360" cy="4076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"/>
          <p:cNvPicPr/>
          <p:nvPr/>
        </p:nvPicPr>
        <p:blipFill>
          <a:blip r:embed="rId9"/>
          <a:stretch/>
        </p:blipFill>
        <p:spPr>
          <a:xfrm>
            <a:off x="495360" y="1817640"/>
            <a:ext cx="8153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ttangolo 5"/>
          <p:cNvSpPr/>
          <p:nvPr/>
        </p:nvSpPr>
        <p:spPr>
          <a:xfrm>
            <a:off x="2124000" y="384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semination, papers in peer review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 rot="21391200">
            <a:off x="411120" y="2349000"/>
            <a:ext cx="8099640" cy="3319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39640" y="1582560"/>
            <a:ext cx="8280360" cy="3141720"/>
          </a:xfrm>
          <a:prstGeom prst="rect">
            <a:avLst/>
          </a:prstGeom>
          <a:ln w="0">
            <a:noFill/>
          </a:ln>
        </p:spPr>
      </p:pic>
      <p:sp>
        <p:nvSpPr>
          <p:cNvPr id="452" name="Rettangolo 9"/>
          <p:cNvSpPr/>
          <p:nvPr/>
        </p:nvSpPr>
        <p:spPr>
          <a:xfrm>
            <a:off x="2987640" y="1125360"/>
            <a:ext cx="3672000" cy="5616720"/>
          </a:xfrm>
          <a:prstGeom prst="rect">
            <a:avLst/>
          </a:prstGeom>
          <a:solidFill>
            <a:srgbClr val="7f7f7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408480" y="1197000"/>
          <a:ext cx="2820960" cy="5369040"/>
        </p:xfrm>
        <a:graphic>
          <a:graphicData uri="http://schemas.openxmlformats.org/drawingml/2006/table">
            <a:tbl>
              <a:tblPr/>
              <a:tblGrid>
                <a:gridCol w="2820960"/>
              </a:tblGrid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Cancers of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head and neck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Incidence, prevalence and survival in rare epithelial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digestive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thoracic cance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, including peritoneum mesothelioma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Descriptive Epidemiology of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Sarcomas</a:t>
                      </a: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in Europe.  Report from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WarnockPro-Regular"/>
                        </a:rPr>
                        <a:t>Extracutaneous melanomas</a:t>
                      </a: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WarnockPro-Regular"/>
                        </a:rPr>
                        <a:t> (uveal and mucosal) and adnexal skin carcinomas in Europe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cancers of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female genital tra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tumours of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testis and extragonadal germ cell tumou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Urogenital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Central Nervous System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Endocrine Tumou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: results of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Neuroendocrine Tumou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: results of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The 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embryonal cance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in Europe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Myeloid malignancie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04600" y="1169640"/>
            <a:ext cx="8088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66"/>
                </a:solidFill>
                <a:latin typeface="Arial Rounded MT Bold"/>
              </a:rPr>
              <a:t>RARECARE – WHAT’S ADDED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02920" y="1700280"/>
            <a:ext cx="7056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Put numbers to a problem long known to exis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Show low outcome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Made prevalence availabl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Identified a new priority for population-based cancer registr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400" y="-27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Lucida Sans"/>
              </a:rPr>
              <a:t>Further prospectives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Lucida Sans"/>
              </a:rPr>
              <a:t>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79280" y="169056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escribe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diagnosis and treatment pathway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for across EU countries from registry data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identify the qualification criteria for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centres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of expertise </a:t>
            </a:r>
            <a:r>
              <a:rPr b="0" lang="it-IT" sz="2400" spc="-1" strike="noStrike">
                <a:solidFill>
                  <a:srgbClr val="003366"/>
                </a:solidFill>
                <a:latin typeface="Arial Narrow"/>
              </a:rPr>
              <a:t>and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 list centres of expertise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produce and disseminate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information on diagnosis and management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of rare cancer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evelop a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clinical database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on very rare cancers to develop new knowledge on their clinical management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331640" y="3499920"/>
            <a:ext cx="7313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3366"/>
                </a:solidFill>
                <a:latin typeface="Tahoma"/>
              </a:rPr>
              <a:t>RARECARE: </a:t>
            </a:r>
            <a:r>
              <a:rPr b="0" lang="it-IT" sz="2700" spc="-1" strike="noStrike" u="sng">
                <a:solidFill>
                  <a:srgbClr val="003366"/>
                </a:solidFill>
                <a:uFillTx/>
                <a:latin typeface="Tahoma"/>
                <a:hlinkClick r:id="rId1"/>
              </a:rPr>
              <a:t>http://www.rarecare.eu/</a:t>
            </a: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59" name="Picture 3" descr="RARECARE paper"/>
          <p:cNvPicPr/>
          <p:nvPr/>
        </p:nvPicPr>
        <p:blipFill>
          <a:blip r:embed="rId2"/>
          <a:stretch/>
        </p:blipFill>
        <p:spPr>
          <a:xfrm>
            <a:off x="7380360" y="112680"/>
            <a:ext cx="1692360" cy="5796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2909880" y="220500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Enjoy the meeting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755640" y="1353960"/>
            <a:ext cx="7129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4d4d"/>
                </a:solidFill>
                <a:latin typeface="Arial"/>
              </a:rPr>
              <a:t>What I am expect from this m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11280" y="2057400"/>
            <a:ext cx="8151840" cy="38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19280" y="2565360"/>
            <a:ext cx="6121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uggestions and comm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dentification of possible problems with solu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lanning of the interaction between W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Background: from RARECARE to 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Why rare cancers?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0920" y="630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EUROCAR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51" name="Picture 7" descr="mappa europea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4678560"/>
          </a:xfrm>
          <a:prstGeom prst="rect">
            <a:avLst/>
          </a:prstGeom>
          <a:ln w="0">
            <a:noFill/>
          </a:ln>
        </p:spPr>
      </p:pic>
      <p:sp>
        <p:nvSpPr>
          <p:cNvPr id="352" name="Rettangolo 4"/>
          <p:cNvSpPr/>
          <p:nvPr/>
        </p:nvSpPr>
        <p:spPr>
          <a:xfrm>
            <a:off x="684360" y="15159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ahoma"/>
              </a:rPr>
              <a:t>About 100 European cancer registries (in 22 EU Countr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CasellaDiTesto 5"/>
          <p:cNvSpPr/>
          <p:nvPr/>
        </p:nvSpPr>
        <p:spPr>
          <a:xfrm>
            <a:off x="6176880" y="508464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urocare.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5280" y="1915920"/>
            <a:ext cx="846144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Tahoma"/>
                <a:ea typeface="Tahoma"/>
              </a:rPr>
              <a:t>Survival of adult patients with rare cancer in Europe (Europe against Cancer Programme) with the ENCR (2001-2003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Tahoma"/>
                <a:ea typeface="Tahoma"/>
              </a:rPr>
              <a:t>Two unsuccesful FP6 proposal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5" name="Rettangolo 3"/>
          <p:cNvSpPr/>
          <p:nvPr/>
        </p:nvSpPr>
        <p:spPr>
          <a:xfrm>
            <a:off x="3175200" y="571680"/>
            <a:ext cx="32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66"/>
                </a:solidFill>
                <a:latin typeface="Arial Narrow"/>
              </a:rPr>
              <a:t>BEFORE RARECAR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7467480" cy="1832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5315040" cy="371520"/>
          </a:xfrm>
          <a:prstGeom prst="rect">
            <a:avLst/>
          </a:prstGeom>
          <a:ln w="0">
            <a:noFill/>
          </a:ln>
        </p:spPr>
      </p:pic>
      <p:sp>
        <p:nvSpPr>
          <p:cNvPr id="359" name="Rettangolo 4"/>
          <p:cNvSpPr/>
          <p:nvPr/>
        </p:nvSpPr>
        <p:spPr>
          <a:xfrm>
            <a:off x="539640" y="1268280"/>
            <a:ext cx="80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8:34Z</dcterms:modified>
  <cp:revision>95</cp:revision>
  <dc:subject/>
  <dc:title>Diapositiva 1</dc:title>
</cp:coreProperties>
</file>